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907588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-1800"/>
            <a:ext cx="2970360" cy="487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760" y="-1800"/>
            <a:ext cx="2970000" cy="487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797040" y="736560"/>
            <a:ext cx="5262480" cy="36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57549A-6460-4558-9791-3E7519B2D84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68C1DF-A146-4228-944D-2ECF27A5326B}" type="slidenum">
              <a:rPr b="0" i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797040" y="736560"/>
            <a:ext cx="5262480" cy="3643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7AEDF1-ACC0-4F8C-AB8D-CE4A7547A851}" type="slidenum">
              <a:rPr b="0" i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97040" y="736560"/>
            <a:ext cx="5262480" cy="3643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077FBE-76F3-47DA-A9A2-9B275974C0FC}" type="slidenum">
              <a:rPr b="0" i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95240" y="736560"/>
            <a:ext cx="5264280" cy="3643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539888-A53D-402B-BA9A-C651879F1C29}" type="slidenum">
              <a:rPr b="0" i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795240" y="736560"/>
            <a:ext cx="5264280" cy="36432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EBBAC1-DDDE-4239-82BC-5FF0261FBFFF}" type="slidenum">
              <a:rPr b="0" i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797040" y="736560"/>
            <a:ext cx="5262480" cy="36432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4B9D1E-C22E-471D-9922-480D8E00C195}" type="slidenum">
              <a:rPr b="0" i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97040" y="736560"/>
            <a:ext cx="5262480" cy="3643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4A7929-CF99-4F37-BCCF-BA3743BE489B}" type="slidenum">
              <a:rPr b="0" i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798480" y="738360"/>
            <a:ext cx="5259600" cy="36414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040" y="463248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933766-EE7E-40A4-8F9F-2261092137B1}" type="slidenum">
              <a:rPr b="0" i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797040" y="736560"/>
            <a:ext cx="5262480" cy="3643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5B3496-BA1B-4131-948D-05D8B7C5B4AC}" type="slidenum">
              <a:rPr b="0" i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797040" y="736560"/>
            <a:ext cx="5262480" cy="3643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914040"/>
            <a:ext cx="8502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3040" y="3620520"/>
            <a:ext cx="8502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3040" y="914040"/>
            <a:ext cx="414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9760" y="914040"/>
            <a:ext cx="414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3040" y="3620520"/>
            <a:ext cx="414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9760" y="3620520"/>
            <a:ext cx="414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3040" y="914040"/>
            <a:ext cx="2737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17640" y="914040"/>
            <a:ext cx="2737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92600" y="914040"/>
            <a:ext cx="2737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3040" y="3620520"/>
            <a:ext cx="2737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17640" y="3620520"/>
            <a:ext cx="2737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92600" y="3620520"/>
            <a:ext cx="2737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43040" y="914040"/>
            <a:ext cx="8502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3040" y="914040"/>
            <a:ext cx="8502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3040" y="914040"/>
            <a:ext cx="414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9760" y="914040"/>
            <a:ext cx="414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2680" y="0"/>
            <a:ext cx="8420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914040"/>
            <a:ext cx="414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9760" y="914040"/>
            <a:ext cx="414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43040" y="3620520"/>
            <a:ext cx="414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3040" y="914040"/>
            <a:ext cx="8502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914040"/>
            <a:ext cx="414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9760" y="914040"/>
            <a:ext cx="414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9760" y="3620520"/>
            <a:ext cx="414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3040" y="914040"/>
            <a:ext cx="414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9760" y="914040"/>
            <a:ext cx="414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3040" y="3620520"/>
            <a:ext cx="8502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3040" y="914040"/>
            <a:ext cx="8502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43040" y="3620520"/>
            <a:ext cx="8502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3040" y="914040"/>
            <a:ext cx="414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9760" y="914040"/>
            <a:ext cx="414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3040" y="3620520"/>
            <a:ext cx="414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9760" y="3620520"/>
            <a:ext cx="414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3040" y="914040"/>
            <a:ext cx="2737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17640" y="914040"/>
            <a:ext cx="2737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92600" y="914040"/>
            <a:ext cx="2737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43040" y="3620520"/>
            <a:ext cx="2737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17640" y="3620520"/>
            <a:ext cx="2737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92600" y="3620520"/>
            <a:ext cx="2737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3040" y="914040"/>
            <a:ext cx="8502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914040"/>
            <a:ext cx="414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9760" y="914040"/>
            <a:ext cx="414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2680" y="0"/>
            <a:ext cx="8420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3040" y="914040"/>
            <a:ext cx="414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9760" y="914040"/>
            <a:ext cx="414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3040" y="3620520"/>
            <a:ext cx="414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914040"/>
            <a:ext cx="414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9760" y="914040"/>
            <a:ext cx="414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9760" y="3620520"/>
            <a:ext cx="414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914040"/>
            <a:ext cx="414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9760" y="914040"/>
            <a:ext cx="414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3040" y="3620520"/>
            <a:ext cx="8502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begumf\My Documents\francey\1_work_progress\june_05\schools_powerpoint\ai_work_files\word_marque\wordmarque_burgundy.png"/>
          <p:cNvPicPr/>
          <p:nvPr/>
        </p:nvPicPr>
        <p:blipFill>
          <a:blip r:embed="rId2"/>
          <a:stretch/>
        </p:blipFill>
        <p:spPr>
          <a:xfrm>
            <a:off x="0" y="6110280"/>
            <a:ext cx="1816200" cy="747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3040" y="914040"/>
            <a:ext cx="8502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60033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0033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0" y="1523880"/>
            <a:ext cx="99061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3" descr="C:\Documents and Settings\begumf\My Documents\francey\1_work_progress\june_05\schools_powerpoint\ai_work_files\ub\ub_burgundy.png"/>
          <p:cNvPicPr/>
          <p:nvPr/>
        </p:nvPicPr>
        <p:blipFill>
          <a:blip r:embed="rId2"/>
          <a:stretch/>
        </p:blipFill>
        <p:spPr>
          <a:xfrm>
            <a:off x="-1440" y="-1440"/>
            <a:ext cx="9907560" cy="68626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3040" y="914040"/>
            <a:ext cx="8502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60033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0033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320" y="251460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33"/>
                </a:solidFill>
                <a:latin typeface="Times New Roman"/>
              </a:rPr>
              <a:t>Multimedia Data</a:t>
            </a:r>
            <a:br>
              <a:rPr sz="4000"/>
            </a:br>
            <a:r>
              <a:rPr b="1" lang="en-GB" sz="4000" spc="-1" strike="noStrike">
                <a:solidFill>
                  <a:srgbClr val="660033"/>
                </a:solidFill>
                <a:latin typeface="Times New Roman"/>
              </a:rPr>
              <a:t>Course Introduction</a:t>
            </a:r>
            <a:br>
              <a:rPr sz="1200"/>
            </a:br>
            <a:endParaRPr b="0" lang="en-US" sz="4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819160" y="4952520"/>
            <a:ext cx="69339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r Sandra I. Wool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http://www.eee.bham.ac.uk/woolleys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I.Woolley@bham.ac.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ic, Electrical and Computer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EE1F2 Multimedi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2680" y="914040"/>
            <a:ext cx="4174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7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introduction to the format, coding, presentation and security of communicated multimedia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187560">
              <a:spcBef>
                <a:spcPts val="45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ten 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ed material includes recommended laboratory exercises, lecture slides and notes from in-class exa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1"/>
          <a:stretch/>
        </p:blipFill>
        <p:spPr>
          <a:xfrm>
            <a:off x="5070600" y="1938240"/>
            <a:ext cx="41749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Syllabus Summary - I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56386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666720" indent="-190440">
              <a:spcBef>
                <a:spcPts val="400"/>
              </a:spcBef>
              <a:buClr>
                <a:srgbClr val="660033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ormation and Imag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47600" indent="-190440">
              <a:spcBef>
                <a:spcPts val="400"/>
              </a:spcBef>
              <a:buClr>
                <a:srgbClr val="660033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types and file siz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47600" indent="-190440">
              <a:spcBef>
                <a:spcPts val="400"/>
              </a:spcBef>
              <a:buClr>
                <a:srgbClr val="660033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otography and 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47600" indent="-190440">
              <a:spcBef>
                <a:spcPts val="400"/>
              </a:spcBef>
              <a:buClr>
                <a:srgbClr val="660033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47600" indent="-190440">
              <a:spcBef>
                <a:spcPts val="400"/>
              </a:spcBef>
              <a:buClr>
                <a:srgbClr val="660033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filtering (simple high and low pass, edge and median filte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47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6720" indent="-190440">
              <a:spcBef>
                <a:spcPts val="400"/>
              </a:spcBef>
              <a:buClr>
                <a:srgbClr val="660033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ata Com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47600" indent="-190440">
              <a:spcBef>
                <a:spcPts val="400"/>
              </a:spcBef>
              <a:buClr>
                <a:srgbClr val="660033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ssless com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660033"/>
              </a:buClr>
              <a:buSzPct val="90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uffman, Lempel-Ziv (eg .GI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47600" indent="-190440">
              <a:spcBef>
                <a:spcPts val="400"/>
              </a:spcBef>
              <a:buClr>
                <a:srgbClr val="660033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ssy com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660033"/>
              </a:buClr>
              <a:buSzPct val="90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CT (.JPEG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660033"/>
              </a:buClr>
              <a:buSzPct val="90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hods of quality assessment and rate/distortion grap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6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6720" indent="-190440">
              <a:spcBef>
                <a:spcPts val="400"/>
              </a:spcBef>
              <a:buClr>
                <a:srgbClr val="660033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47600" indent="-190440">
              <a:spcBef>
                <a:spcPts val="400"/>
              </a:spcBef>
              <a:buClr>
                <a:srgbClr val="660033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curing communicated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933640" cy="36864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7248240" y="5257800"/>
            <a:ext cx="1924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http://www.acemedia.org/ESWC2005_MSW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Syllabus Summary - II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666720" indent="-190440">
              <a:spcBef>
                <a:spcPts val="400"/>
              </a:spcBef>
              <a:buClr>
                <a:srgbClr val="660033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lour and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47600" indent="-190440">
              <a:spcBef>
                <a:spcPts val="400"/>
              </a:spcBef>
              <a:buClr>
                <a:srgbClr val="660033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lour and colour model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47600" indent="-190440">
              <a:spcBef>
                <a:spcPts val="400"/>
              </a:spcBef>
              <a:buClr>
                <a:srgbClr val="660033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PEG-1 video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47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6720" indent="-190440">
              <a:spcBef>
                <a:spcPts val="400"/>
              </a:spcBef>
              <a:buClr>
                <a:srgbClr val="660033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peech and A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47600" indent="-190440">
              <a:spcBef>
                <a:spcPts val="400"/>
              </a:spcBef>
              <a:buClr>
                <a:srgbClr val="660033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mpling, quantization and coding methods (waveform and vocod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47600" indent="-190440">
              <a:spcBef>
                <a:spcPts val="400"/>
              </a:spcBef>
              <a:buClr>
                <a:srgbClr val="660033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udio data (MP3 - perceptual audio cod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47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6720" indent="-190440">
              <a:spcBef>
                <a:spcPts val="400"/>
              </a:spcBef>
              <a:buClr>
                <a:srgbClr val="660033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eb Page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47600" indent="-190440">
              <a:spcBef>
                <a:spcPts val="400"/>
              </a:spcBef>
              <a:buClr>
                <a:srgbClr val="660033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ML – HyperText Markup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47600" indent="-190440">
              <a:spcBef>
                <a:spcPts val="400"/>
              </a:spcBef>
              <a:buClr>
                <a:srgbClr val="660033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avaScript, SVG – Scalable Vector Graphics and 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933640" cy="36864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7248240" y="5257800"/>
            <a:ext cx="1924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http://www.acemedia.org/ESWC2005_MSW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Texts for Optional Further Reading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2680" y="914040"/>
            <a:ext cx="4174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38760" y="990360"/>
            <a:ext cx="4167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igital Multi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hapman and Chap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nd Edition, Wi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BN 0-470-8589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he Data Compression B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now out of date/print but several copies in the libr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ark Nelson and Jean-Loup Gai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2nd Ed. 1996, M and T Books, ISBN  1-55851-43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JAVASCRIPT for the World Wide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An example of good book on JavaScri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Negrino and Smith, Peachpit Press, 4th Ed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SBN 0-201-73517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www.javascriptworld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ntroductory Computer Vision and Image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drian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cGraw H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he Code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imon Sin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Fourth E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The Data Compression Book"/>
          <p:cNvPicPr/>
          <p:nvPr/>
        </p:nvPicPr>
        <p:blipFill>
          <a:blip r:embed="rId1"/>
          <a:stretch/>
        </p:blipFill>
        <p:spPr>
          <a:xfrm>
            <a:off x="2095560" y="4429080"/>
            <a:ext cx="1380960" cy="183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Javascript"/>
          <p:cNvPicPr/>
          <p:nvPr/>
        </p:nvPicPr>
        <p:blipFill>
          <a:blip r:embed="rId2"/>
          <a:stretch/>
        </p:blipFill>
        <p:spPr>
          <a:xfrm>
            <a:off x="3524400" y="4429080"/>
            <a:ext cx="1404720" cy="1806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304920" y="990720"/>
            <a:ext cx="500544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7280" indent="-195120">
              <a:spcBef>
                <a:spcPts val="374"/>
              </a:spcBef>
              <a:buClr>
                <a:srgbClr val="660033"/>
              </a:buClr>
              <a:buSzPct val="65000"/>
              <a:buFont typeface="Wingdings" charset="2"/>
              <a:buChar char=""/>
              <a:tabLst>
                <a:tab algn="l" pos="665280"/>
                <a:tab algn="l" pos="142884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  <a:tab algn="l" pos="9220320"/>
                <a:tab algn="l" pos="9639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e are just a few examples of texts relevant to the course content.  There are many other good and quite detailed books on various aspects of multimedia such as compression, image processing and cryptography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7280" indent="-195120">
              <a:spcBef>
                <a:spcPts val="374"/>
              </a:spcBef>
              <a:buClr>
                <a:srgbClr val="660033"/>
              </a:buClr>
              <a:buSzPct val="65000"/>
              <a:buFont typeface="Wingdings" charset="2"/>
              <a:buChar char=""/>
              <a:tabLst>
                <a:tab algn="l" pos="665280"/>
                <a:tab algn="l" pos="142884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  <a:tab algn="l" pos="9220320"/>
                <a:tab algn="l" pos="9639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7280" indent="-195120">
              <a:spcBef>
                <a:spcPts val="374"/>
              </a:spcBef>
              <a:buClr>
                <a:srgbClr val="660033"/>
              </a:buClr>
              <a:buSzPct val="65000"/>
              <a:buFont typeface="Wingdings" charset="2"/>
              <a:buChar char=""/>
              <a:tabLst>
                <a:tab algn="l" pos="665280"/>
                <a:tab algn="l" pos="142884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  <a:tab algn="l" pos="9220320"/>
                <a:tab algn="l" pos="9639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Digital Multimedia text gives a high-level summary of multimedia issues with less technical detail.  The other texts are more detailed.  It is very important to note that </a:t>
            </a:r>
            <a:r>
              <a:rPr b="0" lang="en-GB" sz="1500" spc="-1" strike="noStrike">
                <a:solidFill>
                  <a:srgbClr val="2330dd"/>
                </a:solidFill>
                <a:latin typeface="Arial"/>
              </a:rPr>
              <a:t>these books usually cover each topic in far more detail than required by the cours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.  For these reasons the texts are recommended only as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optional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advanced further reading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Digital Multimedia"/>
          <p:cNvPicPr/>
          <p:nvPr/>
        </p:nvPicPr>
        <p:blipFill>
          <a:blip r:embed="rId3"/>
          <a:srcRect l="9370" t="0" r="9370" b="0"/>
          <a:stretch/>
        </p:blipFill>
        <p:spPr>
          <a:xfrm>
            <a:off x="523800" y="4429080"/>
            <a:ext cx="1486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33"/>
                </a:solidFill>
                <a:latin typeface="Times New Roman"/>
              </a:rPr>
              <a:t>Examples of Data Types</a:t>
            </a:r>
            <a:endParaRPr b="0" lang="en-US" sz="40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07" name="Picture 1114" descr=""/>
          <p:cNvPicPr/>
          <p:nvPr/>
        </p:nvPicPr>
        <p:blipFill>
          <a:blip r:embed="rId1"/>
          <a:srcRect l="35783" t="33039" r="28440" b="36004"/>
          <a:stretch/>
        </p:blipFill>
        <p:spPr>
          <a:xfrm>
            <a:off x="5791320" y="1676520"/>
            <a:ext cx="3733560" cy="25844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115"/>
          <p:cNvSpPr/>
          <p:nvPr/>
        </p:nvSpPr>
        <p:spPr>
          <a:xfrm>
            <a:off x="533520" y="1143000"/>
            <a:ext cx="5048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>
              <a:spcBef>
                <a:spcPts val="400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re are many different types of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00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00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00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gram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00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ftwar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00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aphics/Anim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00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00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peech, audio, mu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00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7936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tellite, medical, camera, webcam, pho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so 3 D images and rotograph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example, see http://www.rotography.com/dc-beijing.p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00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ide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7936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vies, games, short clips,  …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7936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so 360º video and 360 º 3D vide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00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00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File sizes: Data Powers of Ten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09480" y="914400"/>
            <a:ext cx="68580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349"/>
              </a:spcBef>
              <a:tabLst>
                <a:tab algn="l" pos="0"/>
                <a:tab algn="l" pos="95256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  <a:tab algn="l" pos="92203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 are using, saving and communicating increasingly large amounts of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95256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  <a:tab algn="l" pos="92203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buClr>
                <a:srgbClr val="000000"/>
              </a:buClr>
              <a:buFont typeface="Arial"/>
              <a:buAutoNum type="arabicPlain"/>
              <a:tabLst>
                <a:tab algn="l" pos="95256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  <a:tab algn="l" pos="9220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A binary deci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95256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  <a:tab algn="l" pos="9220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byt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A low resolution photograp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95256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  <a:tab algn="l" pos="9220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byt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A high resolution photograp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95256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  <a:tab algn="l" pos="9220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byt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Complete works of Shakespeare or 5 s of TV-quality vide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95256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  <a:tab algn="l" pos="9220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byt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A digital chest X-r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95256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  <a:tab algn="l" pos="9220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byt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1 metre of shelved boo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95256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  <a:tab algn="l" pos="9220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byt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A low resolution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95256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  <a:tab algn="l" pos="92203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95256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  <a:tab algn="l" pos="9220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 Terabytes (1 000 000 000 000 bytes)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An academic research 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95256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  <a:tab algn="l" pos="9220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 Petabytes (1 000 000 000 000 000 bytes)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All US research librar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95256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  <a:tab algn="l" pos="9220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 Exabytes  (1 000 000 000 000 000 000 bytes) : All words ever spok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95256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  <a:tab algn="l" pos="92203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95256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  <a:tab algn="l" pos="9220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ettabyt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1 000 000 000 000 000 000 000 byte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49"/>
              </a:spcBef>
              <a:tabLst>
                <a:tab algn="l" pos="0"/>
                <a:tab algn="l" pos="95256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  <a:tab algn="l" pos="9220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ottabyt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1 000 000 000 000 000 000 000 000 byte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7010280" y="1752480"/>
            <a:ext cx="2400480" cy="32004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750960" y="5867280"/>
            <a:ext cx="431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ttp://www2.sims.berkeley.edu/research/projects/how-much-info/datapowers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Times New Roman"/>
              </a:rPr>
              <a:t>Managing Large Amounts of Dat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2680" y="914040"/>
            <a:ext cx="5048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ltimedia files can be very large.  Despite falling costs, multimedia is expensive in terms of storage, processing and bandwid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fficient compression is impor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uring data privacy and security is critic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abling data retrieval in increasingly impor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oogle Desktop “allows text search of a user's e-mail, computer files, music, photos, chat, and Web pages viewed, and other "Google Gadgets".”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ttp://en.wikipedia.org/wiki/Google_Desktop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ordon Bell’s “MyLifeBits” is a Microsoft  experiment in lifetime storage and retriev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ttp://research.microsoft.com/barc/mediapresence/MyLifeBits.asp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6"/>
          <p:cNvGrpSpPr/>
          <p:nvPr/>
        </p:nvGrpSpPr>
        <p:grpSpPr>
          <a:xfrm>
            <a:off x="0" y="-755640"/>
            <a:ext cx="9906120" cy="82440"/>
            <a:chOff x="0" y="-755640"/>
            <a:chExt cx="9906120" cy="82440"/>
          </a:xfrm>
        </p:grpSpPr>
        <p:grpSp>
          <p:nvGrpSpPr>
            <p:cNvPr id="116" name="Group 14"/>
            <p:cNvGrpSpPr/>
            <p:nvPr/>
          </p:nvGrpSpPr>
          <p:grpSpPr>
            <a:xfrm>
              <a:off x="23760" y="-735120"/>
              <a:ext cx="9858240" cy="41400"/>
              <a:chOff x="23760" y="-735120"/>
              <a:chExt cx="9858240" cy="41400"/>
            </a:xfrm>
          </p:grpSpPr>
          <p:sp>
            <p:nvSpPr>
              <p:cNvPr id="117" name="Rectangle 5"/>
              <p:cNvSpPr/>
              <p:nvPr/>
            </p:nvSpPr>
            <p:spPr>
              <a:xfrm>
                <a:off x="23760" y="-735120"/>
                <a:ext cx="3660840" cy="360"/>
              </a:xfrm>
              <a:prstGeom prst="rect">
                <a:avLst/>
              </a:prstGeom>
              <a:solidFill>
                <a:srgbClr val="dcdc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6"/>
              <p:cNvSpPr/>
              <p:nvPr/>
            </p:nvSpPr>
            <p:spPr>
              <a:xfrm>
                <a:off x="23760" y="-735120"/>
                <a:ext cx="9858240" cy="41400"/>
              </a:xfrm>
              <a:prstGeom prst="rect">
                <a:avLst/>
              </a:prstGeom>
              <a:solidFill>
                <a:srgbClr val="dcdc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15"/>
            <p:cNvSpPr/>
            <p:nvPr/>
          </p:nvSpPr>
          <p:spPr>
            <a:xfrm>
              <a:off x="0" y="-755640"/>
              <a:ext cx="9906120" cy="82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17" descr="http://www.spectrum.ieee.org/images/nov05/images/rec01.jpg"/>
          <p:cNvPicPr/>
          <p:nvPr/>
        </p:nvPicPr>
        <p:blipFill>
          <a:blip r:embed="rId1"/>
          <a:stretch/>
        </p:blipFill>
        <p:spPr>
          <a:xfrm>
            <a:off x="7010280" y="2666880"/>
            <a:ext cx="1685880" cy="2373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8"/>
          <p:cNvSpPr/>
          <p:nvPr/>
        </p:nvSpPr>
        <p:spPr>
          <a:xfrm>
            <a:off x="5536440" y="6553080"/>
            <a:ext cx="3835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" spc="-1" strike="noStrike">
                <a:solidFill>
                  <a:srgbClr val="000000"/>
                </a:solidFill>
                <a:latin typeface="Verdana"/>
              </a:rPr>
              <a:t>GORDON BELL IMAGE: MARK RICHARDS; INSET IMAGES: MICROSOFT RESEARCH; PHOTO-ILLUSTRATION: MIKE VELL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6705720" y="5181480"/>
            <a:ext cx="25146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rdon Bell, MyLife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 experiment in lifetime multimedia storage and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0" descr=""/>
          <p:cNvPicPr/>
          <p:nvPr/>
        </p:nvPicPr>
        <p:blipFill>
          <a:blip r:embed="rId2"/>
          <a:stretch/>
        </p:blipFill>
        <p:spPr>
          <a:xfrm>
            <a:off x="6738840" y="1071720"/>
            <a:ext cx="2266920" cy="8316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1"/>
          <p:cNvSpPr/>
          <p:nvPr/>
        </p:nvSpPr>
        <p:spPr>
          <a:xfrm>
            <a:off x="6705720" y="213372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ttp://desktop.googl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43040" y="914040"/>
            <a:ext cx="5200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84120"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concludes the course int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 the next few weeks we will learn more about multimedia dat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the format, coding, presentation and security of communicated multimedia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51"/>
              </a:spcBef>
              <a:buClr>
                <a:srgbClr val="66003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can find course information, including slides and supporting resources, on-line on the course web page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0" y="-755640"/>
            <a:ext cx="9906120" cy="82440"/>
            <a:chOff x="0" y="-755640"/>
            <a:chExt cx="9906120" cy="82440"/>
          </a:xfrm>
        </p:grpSpPr>
        <p:grpSp>
          <p:nvGrpSpPr>
            <p:cNvPr id="127" name="Group 7"/>
            <p:cNvGrpSpPr/>
            <p:nvPr/>
          </p:nvGrpSpPr>
          <p:grpSpPr>
            <a:xfrm>
              <a:off x="23760" y="-735120"/>
              <a:ext cx="9858240" cy="41400"/>
              <a:chOff x="23760" y="-735120"/>
              <a:chExt cx="9858240" cy="41400"/>
            </a:xfrm>
          </p:grpSpPr>
          <p:sp>
            <p:nvSpPr>
              <p:cNvPr id="128" name="Rectangle 8"/>
              <p:cNvSpPr/>
              <p:nvPr/>
            </p:nvSpPr>
            <p:spPr>
              <a:xfrm>
                <a:off x="23760" y="-735120"/>
                <a:ext cx="3660840" cy="360"/>
              </a:xfrm>
              <a:prstGeom prst="rect">
                <a:avLst/>
              </a:prstGeom>
              <a:solidFill>
                <a:srgbClr val="dcd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9"/>
              <p:cNvSpPr/>
              <p:nvPr/>
            </p:nvSpPr>
            <p:spPr>
              <a:xfrm>
                <a:off x="23760" y="-735120"/>
                <a:ext cx="9858240" cy="41400"/>
              </a:xfrm>
              <a:prstGeom prst="rect">
                <a:avLst/>
              </a:prstGeom>
              <a:solidFill>
                <a:srgbClr val="dcd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Rectangle 10"/>
            <p:cNvSpPr/>
            <p:nvPr/>
          </p:nvSpPr>
          <p:spPr>
            <a:xfrm>
              <a:off x="0" y="-755640"/>
              <a:ext cx="9906120" cy="82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7"/>
          <p:cNvSpPr/>
          <p:nvPr/>
        </p:nvSpPr>
        <p:spPr>
          <a:xfrm>
            <a:off x="6256800" y="2209680"/>
            <a:ext cx="275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0033"/>
                </a:solidFill>
                <a:latin typeface="Lucida Handwriting"/>
              </a:rPr>
              <a:t>Thank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0033"/>
                </a:solidFill>
                <a:latin typeface="Lucida Handwriting"/>
              </a:rPr>
              <a:t>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1143000" y="5562720"/>
            <a:ext cx="708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http://www.eee.bham.ac.uk/woolleysi/teaching/multimedia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5:10Z</dcterms:created>
  <dc:creator>Dr.S.I.Woolley</dc:creator>
  <dc:description/>
  <dc:language>en-US</dc:language>
  <cp:lastModifiedBy>Sandra Woolley</cp:lastModifiedBy>
  <cp:lastPrinted>1998-12-03T12:55:28Z</cp:lastPrinted>
  <dcterms:modified xsi:type="dcterms:W3CDTF">2009-01-15T09:54:26Z</dcterms:modified>
  <cp:revision>105</cp:revision>
  <dc:subject/>
  <dc:title>Reporting Status or Progress</dc:title>
</cp:coreProperties>
</file>