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6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6.png" ContentType="image/png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9.wmf" ContentType="image/x-wmf"/>
  <Override PartName="/ppt/media/image11.jpeg" ContentType="image/jpeg"/>
  <Override PartName="/ppt/media/image30.jpeg" ContentType="image/jpeg"/>
  <Override PartName="/ppt/media/image8.wmf" ContentType="image/x-wmf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36360" y="75708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51192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951192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2CAE027-71FA-43E6-B890-23BC1877D5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D976845-EF74-4F48-BAEA-7D43FA7555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6720" y="75564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7541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DA3733-E14F-4DDD-A66A-59B23ECA98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7C03B07-3585-4F0C-8263-1C9EC9CC32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473F124-1BEF-4537-BB94-174CAAE221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1724306-4B76-4B8D-B1DD-09058F048B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2040" y="781200"/>
            <a:ext cx="4995720" cy="3746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762440"/>
            <a:ext cx="502920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7AB637B-BADC-4FBC-A726-4CDECDB15A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BFEB889-CCF5-42C6-820D-77A32ED341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1189CC3-A872-4C19-9108-025D8B5029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4EB83C2-CB2E-461C-A6F4-2DB6154665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8DE31D-D1BE-4E3A-AC61-D25F020753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25D7CF9-10A7-490C-B871-94C1234BC0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9454FB4-0601-425A-ABAD-8E76083EF8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AD3F653-73C9-4407-AAD7-474C854DEF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822E054-5274-495C-AF29-11CFE608D6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7DAC348-461A-4BD0-BECD-C091A1E10C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2D64781-2A1B-4E31-B970-35584BA897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9BE2C10-E8A1-470F-B601-D6463542F3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F1C90A4-46FA-4033-87E8-6498FF7208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1A233C7-BA60-4C4C-A043-17830F0580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7391BBA-300E-498B-9779-4893352ABF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6720" y="755640"/>
            <a:ext cx="4989240" cy="374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7541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1DED74D-2289-4D3B-967E-463E2D169B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26C2999-B7DB-473D-9E78-918BF5455D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2C61E3-D95C-477D-8007-25BB2B822C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6CB27B0-3250-4FF7-9A38-4AAE6BA246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F17A22D-1D03-4507-BA7B-A36B409385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DF101BD-985A-49C5-AE33-AB90EA2FF9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951228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C6DF152-8977-464E-97BB-A9EA3DC36F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620520"/>
            <a:ext cx="784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9720" y="91404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3640" y="91404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62052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9720" y="362052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3640" y="362052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772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784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620520"/>
            <a:ext cx="784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772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9720" y="91404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3640" y="91404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62052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9720" y="362052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3640" y="3620520"/>
            <a:ext cx="252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362052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914040"/>
            <a:ext cx="3830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20520"/>
            <a:ext cx="784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begumf\My Documents\francey\1_work_progress\june_05\schools_powerpoint\ai_work_files\word_marque\wordmarque_burgundy.png"/>
          <p:cNvPicPr/>
          <p:nvPr/>
        </p:nvPicPr>
        <p:blipFill>
          <a:blip r:embed="rId2"/>
          <a:stretch/>
        </p:blipFill>
        <p:spPr>
          <a:xfrm>
            <a:off x="0" y="6110280"/>
            <a:ext cx="1676520" cy="74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1523880"/>
            <a:ext cx="914400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" descr="C:\Documents and Settings\begumf\My Documents\francey\1_work_progress\june_05\schools_powerpoint\ai_work_files\ub\ub_burgundy.png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e.bham.ac.uk/woolleysi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answers.com/topic/interlace?cat=technology" TargetMode="External"/><Relationship Id="rId4" Type="http://schemas.openxmlformats.org/officeDocument/2006/relationships/hyperlink" Target="http://en.wikipedia.org/wiki/PAL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www.answers.com/topic/interlacezoom-gif-1" TargetMode="External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9400" y="2666880"/>
            <a:ext cx="56278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33"/>
                </a:solidFill>
                <a:latin typeface="Times New Roman"/>
              </a:rPr>
              <a:t>Multimedia Data</a:t>
            </a:r>
            <a:br>
              <a:rPr sz="4000"/>
            </a:br>
            <a:r>
              <a:rPr b="1" lang="en-GB" sz="3200" spc="-1" strike="noStrike">
                <a:solidFill>
                  <a:srgbClr val="660033"/>
                </a:solidFill>
                <a:latin typeface="Times New Roman"/>
              </a:rPr>
              <a:t>Video Compression </a:t>
            </a:r>
            <a:br>
              <a:rPr sz="3200"/>
            </a:br>
            <a:r>
              <a:rPr b="0" lang="en-GB" sz="3200" spc="-1" strike="noStrike">
                <a:solidFill>
                  <a:srgbClr val="660033"/>
                </a:solidFill>
                <a:latin typeface="Times New Roman"/>
              </a:rPr>
              <a:t>The MPEG-1 Standard</a:t>
            </a:r>
            <a:r>
              <a:rPr b="1" lang="en-GB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br>
              <a:rPr sz="1200"/>
            </a:b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020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r Sandra I. Woo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660033"/>
                </a:solidFill>
                <a:uFillTx/>
                <a:latin typeface="Courier New"/>
                <a:hlinkClick r:id="rId1"/>
              </a:rPr>
              <a:t>http://www.eee.bham.ac.uk/woolleysi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I.Woolley@bham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, Electrical and Computer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76520" y="4419720"/>
            <a:ext cx="6019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660033"/>
                </a:solidFill>
                <a:latin typeface="Arial"/>
              </a:rPr>
              <a:t>This lecture provides a short introduction to video compression using the original MPEG-1 standard as an exa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660033"/>
                </a:solidFill>
                <a:latin typeface="Arial"/>
              </a:rPr>
              <a:t>These notes are based on original slides from Dr N. Flowers</a:t>
            </a:r>
            <a:r>
              <a:rPr b="0" i="1" lang="en-GB" sz="1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Temporal Decim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standards for frame rate in us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ema uses 24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TV uses 25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n TV uses 30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st acceptable frame rate is 25 FPS so little decimation can be achieved for Video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PEG-1 does allow much lower frame rates e.g. for internet video – but quality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Decimation – The Result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rowing away all this information, we still have a data rate of (assuming 8 bits per YUV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 = (352*288) * 25 * 8 = 20.3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 = (352/2 * 288/2) * 25 * 8 = 5.07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 = (352/2 * 288/2) * 25 * 8 = 5.07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OTAL (for video) = 30.45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PEG 1 audio runs at 128K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deo CD - Target is 1.5Mb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pace for video = 1.5 – 0.128Mb/s = 1.372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now use compression to get a saving of 22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Spatial Compress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ideo is a sequence of images – and images can be 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PEG uses lossy compression – typical compression ratios are around 10:1 and, with deteriorating, quality up toward 20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ould just compress images and send th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does not enter into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tra-co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intra = with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38080" y="31240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838080" y="3809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Spatial Compress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914040"/>
            <a:ext cx="3848040" cy="5181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6120" y="914040"/>
            <a:ext cx="395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similar to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age divided into 8 by 8 pixel sub-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blocks = 352/8 by 288/8 = 44 by 36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block DCT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sation - dropping low-amplitude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ffman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duces a complete frame called an Intra frame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Y:\eem4u - 2000\Tennis1a1.wmf"/>
          <p:cNvPicPr/>
          <p:nvPr/>
        </p:nvPicPr>
        <p:blipFill>
          <a:blip r:embed="rId2"/>
          <a:stretch/>
        </p:blipFill>
        <p:spPr>
          <a:xfrm>
            <a:off x="457200" y="1828800"/>
            <a:ext cx="399564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Temporal Compress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48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tial compression does not take into account similarities between adjacen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ing Heads - Backgrounds don’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cutive images (1/25th second apart) are very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send the difference between adjacen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6120" y="914040"/>
            <a:ext cx="3848040" cy="5181480"/>
          </a:xfrm>
          <a:prstGeom prst="rect">
            <a:avLst/>
          </a:prstGeom>
          <a:ln w="0">
            <a:noFill/>
          </a:ln>
        </p:spPr>
      </p:pic>
      <p:pic>
        <p:nvPicPr>
          <p:cNvPr id="151" name="SAT_C15.M1V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Y:\ee1f2\diff sign.jpg"/>
          <p:cNvPicPr/>
          <p:nvPr/>
        </p:nvPicPr>
        <p:blipFill>
          <a:blip r:embed="rId1"/>
          <a:stretch/>
        </p:blipFill>
        <p:spPr>
          <a:xfrm>
            <a:off x="3809880" y="3200400"/>
            <a:ext cx="192276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Difference Coding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send difference between this frame and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 is very sparse – high compression now possible using block-based DCT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Y:\ee1f2\talkinghead1-5.jpg"/>
          <p:cNvPicPr/>
          <p:nvPr/>
        </p:nvPicPr>
        <p:blipFill>
          <a:blip r:embed="rId2"/>
          <a:stretch/>
        </p:blipFill>
        <p:spPr>
          <a:xfrm>
            <a:off x="1143000" y="213372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Y:\ee1f2\talkinghead2-5.jpg"/>
          <p:cNvPicPr/>
          <p:nvPr/>
        </p:nvPicPr>
        <p:blipFill>
          <a:blip r:embed="rId3"/>
          <a:stretch/>
        </p:blipFill>
        <p:spPr>
          <a:xfrm>
            <a:off x="1143000" y="4267080"/>
            <a:ext cx="2666880" cy="1997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Y:\ee1f2\talkinghead1-2-5.jpg"/>
          <p:cNvPicPr/>
          <p:nvPr/>
        </p:nvPicPr>
        <p:blipFill>
          <a:blip r:embed="rId4"/>
          <a:stretch/>
        </p:blipFill>
        <p:spPr>
          <a:xfrm>
            <a:off x="5638680" y="3200400"/>
            <a:ext cx="26672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Difference Coding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314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previous frame and the difference frame we can recreate the original – this is called 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predicted fra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recreated frame can then be used to form the next frame and the process is rep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Y:\ee1f2\diff coding.jpg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Difference Coding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471320"/>
            <a:ext cx="392436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ce coding is good for ‘talking head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good for scenes with lots of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SAT_C15.M1V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048120" cy="2494080"/>
          </a:xfrm>
          <a:prstGeom prst="rect">
            <a:avLst/>
          </a:prstGeom>
          <a:ln w="0">
            <a:noFill/>
          </a:ln>
        </p:spPr>
      </p:pic>
      <p:pic>
        <p:nvPicPr>
          <p:cNvPr id="164" name="HORSEA15.M1V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0481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Y:\ee1f2\diff sign.jpg"/>
          <p:cNvPicPr/>
          <p:nvPr/>
        </p:nvPicPr>
        <p:blipFill>
          <a:blip r:embed="rId1"/>
          <a:stretch/>
        </p:blipFill>
        <p:spPr>
          <a:xfrm>
            <a:off x="3809880" y="3200400"/>
            <a:ext cx="192276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43080"/>
            <a:ext cx="47246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otion Compens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3760" y="60948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ce coding is good, but often an object will simply change position between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CT coding not as good as for ‘sparse’ difference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Y:\ee1f2\horse1.jpg"/>
          <p:cNvPicPr/>
          <p:nvPr/>
        </p:nvPicPr>
        <p:blipFill>
          <a:blip r:embed="rId2"/>
          <a:stretch/>
        </p:blipFill>
        <p:spPr>
          <a:xfrm>
            <a:off x="1143000" y="2057400"/>
            <a:ext cx="2666880" cy="1995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Y:\ee1f2\horse2.jpg"/>
          <p:cNvPicPr/>
          <p:nvPr/>
        </p:nvPicPr>
        <p:blipFill>
          <a:blip r:embed="rId3"/>
          <a:stretch/>
        </p:blipFill>
        <p:spPr>
          <a:xfrm>
            <a:off x="1143000" y="426708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Y:\ee1f2\horse1-2.jpg"/>
          <p:cNvPicPr/>
          <p:nvPr/>
        </p:nvPicPr>
        <p:blipFill>
          <a:blip r:embed="rId4"/>
          <a:stretch/>
        </p:blipFill>
        <p:spPr>
          <a:xfrm>
            <a:off x="5715000" y="3200400"/>
            <a:ext cx="26668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otion Compens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600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deo is three-dimensional (X,Y,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CT coding reduces information i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onary objects do not move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on compensation takes time into acc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need to code the image of the object – just send 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tion vec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dicating where it has mov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28" descr="C:\Lecturing\1f2\motioncomp1.jpg"/>
          <p:cNvPicPr/>
          <p:nvPr/>
        </p:nvPicPr>
        <p:blipFill>
          <a:blip r:embed="rId1"/>
          <a:stretch/>
        </p:blipFill>
        <p:spPr>
          <a:xfrm>
            <a:off x="4114800" y="1447920"/>
            <a:ext cx="48006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digital TV –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EG-1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mation (spatial, temporal and col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ti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or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otion Compens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58760"/>
            <a:ext cx="784872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led Motion Compensation since we actually adjust the position of the object to 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compens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Lecturing\1f2\motioncomp2.jpg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otion Compensation – The Problem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s rarely move and retain their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bject moves and changes shape a litt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movement and send motion 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tract moved object in last frame from object in new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CT code the dif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at is an object? We have an array of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try and segment image into separate objects – but very intense process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option - split image up into blocks that don’t correspond to ‘objects’ in the image – macro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acroblock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roblocks can be any shape o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mall, then we need to send lots of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large, then we are unlikely to find a matching macro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PEG-1 uses a 16 by 16 pixel macro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macroblock is the unit for motion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macroblock in previous frame similar to this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match found, send motion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tract this macroblock from previous displaced macro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CT code th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o matching block found, abandon motion compensation and just DCT code the macro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PEG-1 Compress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27480" y="1130040"/>
            <a:ext cx="43070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yes - difference data DCT 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ll - motion vector coded, actual image data not 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bbit - Intra coded with no temporal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ing method varies between macro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Y:\eem4u - 2000\Tennis3a.wmf"/>
          <p:cNvPicPr/>
          <p:nvPr/>
        </p:nvPicPr>
        <p:blipFill>
          <a:blip r:embed="rId1"/>
          <a:stretch/>
        </p:blipFill>
        <p:spPr>
          <a:xfrm>
            <a:off x="4114800" y="3733920"/>
            <a:ext cx="2895480" cy="23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Picture 5" descr="C:\mpeg\docs\Tennis2a.wmf"/>
          <p:cNvPicPr/>
          <p:nvPr/>
        </p:nvPicPr>
        <p:blipFill>
          <a:blip r:embed="rId2"/>
          <a:stretch/>
        </p:blipFill>
        <p:spPr>
          <a:xfrm>
            <a:off x="914400" y="3733920"/>
            <a:ext cx="2895480" cy="23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6" descr="C:\Lecturing\1f2\tennis1.jpg"/>
          <p:cNvPicPr/>
          <p:nvPr/>
        </p:nvPicPr>
        <p:blipFill>
          <a:blip r:embed="rId3"/>
          <a:stretch/>
        </p:blipFill>
        <p:spPr>
          <a:xfrm>
            <a:off x="914400" y="1219320"/>
            <a:ext cx="28954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Group of Pictures - GOP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with P frames is any errors are propagated (like making copies of copies of copies) - so we regularly send full (I) frames to eliminat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0.5 seconds approx we send a full frame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P P P P P P P P P P P I P P P P P P P P P P P I P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P       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event of an error, data stream is resynchronised after 12/25th of a second (or 15/30th for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quence between ‘I’s is called a Group Of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Additional MPEG-1 complexitie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on compensation allows significant data reduction….. but only takes into account time moving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directional frames (B) - predicted from past and futur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33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digital TV – the bandwid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PEG-1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mation (spatial, temporal and col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ti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oral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3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oncludes our introduction to video com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find course information, including slides and supporting resources, on-line on the course web page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0" y="-755640"/>
            <a:ext cx="9144000" cy="82440"/>
            <a:chOff x="0" y="-755640"/>
            <a:chExt cx="9144000" cy="82440"/>
          </a:xfrm>
        </p:grpSpPr>
        <p:grpSp>
          <p:nvGrpSpPr>
            <p:cNvPr id="194" name="Group 6"/>
            <p:cNvGrpSpPr/>
            <p:nvPr/>
          </p:nvGrpSpPr>
          <p:grpSpPr>
            <a:xfrm>
              <a:off x="21600" y="-735120"/>
              <a:ext cx="9100080" cy="41400"/>
              <a:chOff x="21600" y="-735120"/>
              <a:chExt cx="9100080" cy="41400"/>
            </a:xfrm>
          </p:grpSpPr>
          <p:sp>
            <p:nvSpPr>
              <p:cNvPr id="195" name="Rectangle 7"/>
              <p:cNvSpPr/>
              <p:nvPr/>
            </p:nvSpPr>
            <p:spPr>
              <a:xfrm>
                <a:off x="21600" y="-735120"/>
                <a:ext cx="3378960" cy="360"/>
              </a:xfrm>
              <a:prstGeom prst="rect">
                <a:avLst/>
              </a:prstGeom>
              <a:solidFill>
                <a:srgbClr val="dcd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8"/>
              <p:cNvSpPr/>
              <p:nvPr/>
            </p:nvSpPr>
            <p:spPr>
              <a:xfrm>
                <a:off x="21600" y="-735120"/>
                <a:ext cx="9100080" cy="41400"/>
              </a:xfrm>
              <a:prstGeom prst="rect">
                <a:avLst/>
              </a:prstGeom>
              <a:solidFill>
                <a:srgbClr val="dcd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9"/>
            <p:cNvSpPr/>
            <p:nvPr/>
          </p:nvSpPr>
          <p:spPr>
            <a:xfrm>
              <a:off x="0" y="-755640"/>
              <a:ext cx="9144000" cy="8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0"/>
          <p:cNvSpPr/>
          <p:nvPr/>
        </p:nvSpPr>
        <p:spPr>
          <a:xfrm>
            <a:off x="5669640" y="2209680"/>
            <a:ext cx="27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33"/>
                </a:solidFill>
                <a:latin typeface="Lucida Handwriting"/>
              </a:rPr>
              <a:t>Than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33"/>
                </a:solidFill>
                <a:latin typeface="Lucida Handwriting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25360" y="5334120"/>
            <a:ext cx="65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ttp://www.eee.bham.ac.uk/woolleysi/teaching/multimedi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Analogue Televis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uch bandwidth would we need for uncompressed digital televi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uropean analogue TV format was 625 scan lines, 25 interlaced frames per second, 4:3 aspect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use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terlac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reduce the vertical resolution to 312.5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resolution was 312.5*(4/3) = 417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Bandwidth requir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625*417*25 =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6.5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ogue colour information was quite cleverly added without increasing bandwidth (NTSC, PAL and SECAM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Y:\network map\analogue1.bmp"/>
          <p:cNvPicPr/>
          <p:nvPr/>
        </p:nvPicPr>
        <p:blipFill>
          <a:blip r:embed="rId1"/>
          <a:stretch/>
        </p:blipFill>
        <p:spPr>
          <a:xfrm>
            <a:off x="6019920" y="838080"/>
            <a:ext cx="2819160" cy="183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4724280" y="4035600"/>
            <a:ext cx="4114800" cy="2087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563800" y="6172200"/>
            <a:ext cx="328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660033"/>
                </a:solidFill>
                <a:uFillTx/>
                <a:latin typeface="Arial"/>
                <a:hlinkClick r:id="rId3"/>
              </a:rPr>
              <a:t>http://www.answers.com/topic/interlace?cat=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660033"/>
                </a:solidFill>
                <a:uFillTx/>
                <a:latin typeface="Arial"/>
                <a:hlinkClick r:id="rId4"/>
              </a:rPr>
              <a:t>http://en.wikipedia.org/wiki/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Image:Progressive scan odd.png"/>
          <p:cNvPicPr/>
          <p:nvPr/>
        </p:nvPicPr>
        <p:blipFill>
          <a:blip r:embed="rId5"/>
          <a:stretch/>
        </p:blipFill>
        <p:spPr>
          <a:xfrm>
            <a:off x="4724280" y="2895480"/>
            <a:ext cx="141300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Image:Progressive scan even.png"/>
          <p:cNvPicPr/>
          <p:nvPr/>
        </p:nvPicPr>
        <p:blipFill>
          <a:blip r:embed="rId6"/>
          <a:stretch/>
        </p:blipFill>
        <p:spPr>
          <a:xfrm>
            <a:off x="6172200" y="2895480"/>
            <a:ext cx="1413000" cy="9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Image:Interlacezoom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0120" y="2971800"/>
            <a:ext cx="11890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Digital Television – Raw Video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digital use, let’s say an 8 bit resolution is adequ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colour pictures we will need Red, Green and Blue (RGB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igitise, we need to sample at twice the highest frequency*  (6.5MHz) and convert three colours (RGB) at 8 bits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trate = (6.5x2) x 3 x 8 = 312 M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pare with analogue bandwidth of 6.5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ising the analogue television signal created a huge digital bandwidth requirement. We needed some efficient com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This is called Nyquist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571760" y="3071880"/>
            <a:ext cx="571320" cy="357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H="1">
            <a:off x="2785680" y="2714760"/>
            <a:ext cx="2071800" cy="714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3285720" y="3071880"/>
            <a:ext cx="714600" cy="357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786120" y="3000240"/>
            <a:ext cx="2500560" cy="428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8534160" cy="14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</a:rPr>
              <a:t>Coding of Moving Pictures and Associated Audio for Digital Storage Media at up to about 1.5 Mbits/sec.</a:t>
            </a:r>
            <a:br>
              <a:rPr sz="2800"/>
            </a:br>
            <a:r>
              <a:rPr b="0" lang="en-GB" sz="2800" spc="-1" strike="noStrike">
                <a:solidFill>
                  <a:srgbClr val="660033"/>
                </a:solidFill>
                <a:latin typeface="Times New Roman"/>
              </a:rPr>
              <a:t>International Standard IS-11172, completed in 10.92</a:t>
            </a:r>
            <a:r>
              <a:rPr b="0" lang="en-GB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5480" y="3360600"/>
            <a:ext cx="7500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250"/>
              </a:spcAft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ctu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pert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p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deo CD - A standard for video on CD’s at ‘VHS’ qua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dio CD’s have a data rate of 1.5Mb/s – video has a raw data rate of 312Mb/s – 200 times hig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had to be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84360" y="217476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3520" y="19810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monly known as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MPEG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:\Documents and Settings\nflowers\Application Data\Microsoft\Media Catalog\Downloaded Clips\cl0\BS00789_.wmf"/>
          <p:cNvPicPr/>
          <p:nvPr/>
        </p:nvPicPr>
        <p:blipFill>
          <a:blip r:embed="rId1"/>
          <a:stretch/>
        </p:blipFill>
        <p:spPr>
          <a:xfrm>
            <a:off x="7620120" y="2590920"/>
            <a:ext cx="1128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PEG-1 Decim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s just throwing data away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can we decim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lso 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l - Interlacing is dropped giving 25 full frame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Spatial Decim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490400"/>
            <a:ext cx="47228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broadcast TV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ution is reduced to 352 (width) by 288 (height) pix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ource 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put 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ormat (SI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29" descr="C:\Documents and Settings\nflowers\Application Data\Microsoft\Media Catalog\Downloaded Clips\cl67\j0258832.wmf"/>
          <p:cNvPicPr/>
          <p:nvPr/>
        </p:nvPicPr>
        <p:blipFill>
          <a:blip r:embed="rId1"/>
          <a:stretch/>
        </p:blipFill>
        <p:spPr>
          <a:xfrm>
            <a:off x="5943600" y="3886200"/>
            <a:ext cx="1905120" cy="1473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30"/>
          <p:cNvSpPr/>
          <p:nvPr/>
        </p:nvSpPr>
        <p:spPr>
          <a:xfrm>
            <a:off x="6160320" y="53737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2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31"/>
          <p:cNvSpPr/>
          <p:nvPr/>
        </p:nvSpPr>
        <p:spPr>
          <a:xfrm>
            <a:off x="7924680" y="426708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32" descr="C:\Documents and Settings\nflowers\Application Data\Microsoft\Media Catalog\Downloaded Clips\cl29\j0103930.wmf"/>
          <p:cNvPicPr/>
          <p:nvPr/>
        </p:nvPicPr>
        <p:blipFill>
          <a:blip r:embed="rId2"/>
          <a:stretch/>
        </p:blipFill>
        <p:spPr>
          <a:xfrm>
            <a:off x="5715000" y="1143000"/>
            <a:ext cx="1797120" cy="1368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33"/>
          <p:cNvSpPr/>
          <p:nvPr/>
        </p:nvSpPr>
        <p:spPr>
          <a:xfrm>
            <a:off x="5855400" y="25542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17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34"/>
          <p:cNvSpPr/>
          <p:nvPr/>
        </p:nvSpPr>
        <p:spPr>
          <a:xfrm>
            <a:off x="7620120" y="1371600"/>
            <a:ext cx="21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lf-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Colour Decimatio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perception is most sensitive to luminance (brightness)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 is less important e.g. a black and white photograph is still recogn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GB encoding is wasteful – human perception tolerates poorer col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YUV and only encode chrominance (UV) at half resolution in each direction (176 by 144) – Quarter SIF.)  This gives 0.25 data for U and V compared to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042"/>
          <p:cNvGrpSpPr/>
          <p:nvPr/>
        </p:nvGrpSpPr>
        <p:grpSpPr>
          <a:xfrm>
            <a:off x="1143000" y="1050840"/>
            <a:ext cx="7314840" cy="5312880"/>
            <a:chOff x="1143000" y="1050840"/>
            <a:chExt cx="7314840" cy="5312880"/>
          </a:xfrm>
        </p:grpSpPr>
        <p:pic>
          <p:nvPicPr>
            <p:cNvPr id="123" name="Picture 1028" descr="C:\Documents and Settings\nflowers\My Documents\My Pictures\k1578.jpg"/>
            <p:cNvPicPr/>
            <p:nvPr/>
          </p:nvPicPr>
          <p:blipFill>
            <a:blip r:embed="rId1"/>
            <a:stretch/>
          </p:blipFill>
          <p:spPr>
            <a:xfrm>
              <a:off x="1143000" y="1050840"/>
              <a:ext cx="202752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029" descr="C:\Documents and Settings\nflowers\My Documents\My Pictures\k1578-50.jpg"/>
            <p:cNvPicPr/>
            <p:nvPr/>
          </p:nvPicPr>
          <p:blipFill>
            <a:blip r:embed="rId2"/>
            <a:stretch/>
          </p:blipFill>
          <p:spPr>
            <a:xfrm>
              <a:off x="3822480" y="1050840"/>
              <a:ext cx="202788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030" descr="C:\Documents and Settings\nflowers\My Documents\My Pictures\k1578-25.jpg"/>
            <p:cNvPicPr/>
            <p:nvPr/>
          </p:nvPicPr>
          <p:blipFill>
            <a:blip r:embed="rId3"/>
            <a:stretch/>
          </p:blipFill>
          <p:spPr>
            <a:xfrm>
              <a:off x="6429960" y="1050840"/>
              <a:ext cx="202788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031" descr="C:\Documents and Settings\nflowers\My Documents\My Pictures\k1578-20.jpg"/>
            <p:cNvPicPr/>
            <p:nvPr/>
          </p:nvPicPr>
          <p:blipFill>
            <a:blip r:embed="rId4"/>
            <a:stretch/>
          </p:blipFill>
          <p:spPr>
            <a:xfrm>
              <a:off x="1143000" y="3819240"/>
              <a:ext cx="202752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32" descr="C:\Documents and Settings\nflowers\My Documents\My Pictures\k1578-10.jpg"/>
            <p:cNvPicPr/>
            <p:nvPr/>
          </p:nvPicPr>
          <p:blipFill>
            <a:blip r:embed="rId5"/>
            <a:stretch/>
          </p:blipFill>
          <p:spPr>
            <a:xfrm>
              <a:off x="3822480" y="3819240"/>
              <a:ext cx="202788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033" descr="C:\Documents and Settings\nflowers\My Documents\My Pictures\k1578-0.jpg"/>
            <p:cNvPicPr/>
            <p:nvPr/>
          </p:nvPicPr>
          <p:blipFill>
            <a:blip r:embed="rId6"/>
            <a:stretch/>
          </p:blipFill>
          <p:spPr>
            <a:xfrm>
              <a:off x="6429960" y="3819240"/>
              <a:ext cx="202788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34"/>
            <p:cNvSpPr/>
            <p:nvPr/>
          </p:nvSpPr>
          <p:spPr>
            <a:xfrm>
              <a:off x="1143000" y="3196440"/>
              <a:ext cx="21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iginal (100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35"/>
            <p:cNvSpPr/>
            <p:nvPr/>
          </p:nvSpPr>
          <p:spPr>
            <a:xfrm>
              <a:off x="3822480" y="3196440"/>
              <a:ext cx="202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.5 UV (25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36"/>
            <p:cNvSpPr/>
            <p:nvPr/>
          </p:nvSpPr>
          <p:spPr>
            <a:xfrm>
              <a:off x="6429960" y="3196440"/>
              <a:ext cx="20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.25 UV (6.25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037"/>
            <p:cNvSpPr/>
            <p:nvPr/>
          </p:nvSpPr>
          <p:spPr>
            <a:xfrm>
              <a:off x="1143000" y="5964840"/>
              <a:ext cx="20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.2 UV (4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38"/>
            <p:cNvSpPr/>
            <p:nvPr/>
          </p:nvSpPr>
          <p:spPr>
            <a:xfrm>
              <a:off x="3822480" y="5964840"/>
              <a:ext cx="19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.1 UV (1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039"/>
            <p:cNvSpPr/>
            <p:nvPr/>
          </p:nvSpPr>
          <p:spPr>
            <a:xfrm>
              <a:off x="6429960" y="5964840"/>
              <a:ext cx="19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.0 UV (0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Colour Decimation Exampl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NJF</dc:creator>
  <dc:description/>
  <dc:language>en-US</dc:language>
  <cp:lastModifiedBy>Sandra Woolley</cp:lastModifiedBy>
  <dcterms:modified xsi:type="dcterms:W3CDTF">2010-02-25T16:55:05Z</dcterms:modified>
  <cp:revision>187</cp:revision>
  <dc:subject/>
  <dc:title>MPEG-1 Introduction</dc:title>
</cp:coreProperties>
</file>