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CB5-932A-4506-929A-511D772C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B1D-C64A-4611-BB00-1BB1416C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9E6-DA49-45B8-9A53-B60C4BDB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933-24C5-4048-94BE-3098D640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E745-E2F6-497D-AFFB-7190657D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2A90-BAAA-4638-B50A-309BBD82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3EDF-D07C-42BC-A7AA-5D4EE40E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3A8E-C8DC-4302-84A9-7429C1CD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8B7E-C61A-42DB-B8AD-16361BD2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C5B8-4ED9-4EA8-9073-0F6201C9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2884-7F1C-439D-B24A-908748A1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D96-5FAD-445C-90CD-EA7BFA66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8A7D-1892-4C0F-BA95-430D7FD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231F-F72B-483A-AF30-872BB4B8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192A-9CC7-4EEC-AA91-0D6F5A6D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867D-99C4-44EA-915C-38257818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7748-5B4E-434F-A170-46014BF2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73D-B668-4E61-B475-59601274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D7B-EAA8-4DCC-B2E0-3283BF97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0BD-9904-4FDC-BFA2-2D5B36B1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120-F107-445D-A885-4FDD9BA4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6DF-CEB4-4EEB-A22D-F1903C59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B16-A13B-4F47-92EB-7674B9A5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DB3-209F-4C79-883A-F2F7A7AF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0539-D204-463F-B5CF-D982A679A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DF6E-D30B-4BD8-9943-18795B9AF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Generic sorting – use of interfac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pose we wanted to sort objects of the 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qua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n the basis of length of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qua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already derived from the abstrac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hap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uld need to also deriv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qua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ortab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or generic sor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2760840" y="4495680"/>
            <a:ext cx="4363920" cy="1936800"/>
            <a:chOff x="2760840" y="4495680"/>
            <a:chExt cx="4363920" cy="1936800"/>
          </a:xfrm>
        </p:grpSpPr>
        <p:sp>
          <p:nvSpPr>
            <p:cNvPr id="162" name="Rectangle 5"/>
            <p:cNvSpPr/>
            <p:nvPr/>
          </p:nvSpPr>
          <p:spPr>
            <a:xfrm>
              <a:off x="5570640" y="4495680"/>
              <a:ext cx="1554120" cy="6620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5656320" y="4572000"/>
              <a:ext cx="13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Shap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4284720" y="5718240"/>
              <a:ext cx="1876320" cy="7142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4437000" y="586728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Squa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5249880" y="5208480"/>
              <a:ext cx="911160" cy="50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14"/>
            <p:cNvSpPr/>
            <p:nvPr/>
          </p:nvSpPr>
          <p:spPr>
            <a:xfrm>
              <a:off x="2760840" y="4495680"/>
              <a:ext cx="1554120" cy="6620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15"/>
            <p:cNvSpPr/>
            <p:nvPr/>
          </p:nvSpPr>
          <p:spPr>
            <a:xfrm>
              <a:off x="2836800" y="4495680"/>
              <a:ext cx="14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imes New Roman"/>
                </a:rPr>
                <a:t>Sort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 flipH="1" flipV="1">
              <a:off x="3750840" y="5181480"/>
              <a:ext cx="1295640" cy="5335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doe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llow multiple inheritance (unlike C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olution is to make the 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ortabl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terface and then to make the 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qua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mplement that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nterface contains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mpareTo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method is public by defa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y class implementing the interface must provide an implementation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mpareTo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terface is similar to an abstract class but there are differences (see l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50"/>
          <p:cNvSpPr/>
          <p:nvPr/>
        </p:nvSpPr>
        <p:spPr>
          <a:xfrm>
            <a:off x="1523880" y="762120"/>
            <a:ext cx="60962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interfa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rtab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compareTo(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rtable 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95280" y="380880"/>
            <a:ext cx="7315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Square extends Shape implements Sor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quare(int x, int y, int s){super(x,y); side=s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float area() {return side*side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compareTo(Sortable 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quare sq=(Square) 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side&lt;sq.side) return –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side&gt;sq.side) return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int sid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295280" y="685800"/>
            <a:ext cx="784872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Square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quare[] s=new Square[3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0]=new Square(10,0,0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1]=new Square(5,0,0);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2]=new Square(15,0,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rayAlg.shellSort(s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Sorts on length of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descendants of a class would automatically implement any interfaces implemented by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example, i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uden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ed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ortab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terface, then so woul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UndergradStuden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ostGrad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11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Undergrad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ostGradStud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uld then be s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70000" y="68544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ould also have used the interfac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mparab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defined in the standard package (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ava.lan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spcAft>
                <a:spcPts val="7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mpareTo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981080" y="3124080"/>
            <a:ext cx="533412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erface Compa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 compareTo(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bjec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6320" y="4786200"/>
            <a:ext cx="769608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ava provides many interfaces in its standard pack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Properties of interfac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faces are similar to abstract classes in that they cannot be instant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295280" y="2743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rtable s = new Sortable();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Error! Sortable is 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981080" y="4829040"/>
            <a:ext cx="6172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rtable s = new Square(…);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quare sq = new Square(…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s.compareTo(sq)&gt;0) {…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143000" y="3505320"/>
            <a:ext cx="708660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ever, an interface can be the data type of an object re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lass can only have a single parent, but it can have multiple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ple inheritance can lead to ambiguities in inheriting object instance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faces don’t have (non-static) instance fields – they are merely a set of methods that the object implementing the interface methods must de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057400" y="457200"/>
            <a:ext cx="6629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erface Draw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aw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Square extends Shape implement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rtable, Draw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compareTo(Sortable s) {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draw() {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faces – 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ample – generic s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ric sorting – use of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perties of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ample use of interfa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llback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 a </a:t>
            </a:r>
            <a:r>
              <a:rPr b="0" i="1" lang="en-GB" sz="4400" spc="-1" strike="noStrike">
                <a:solidFill>
                  <a:srgbClr val="00ffff"/>
                </a:solidFill>
                <a:latin typeface="Times New Roman"/>
              </a:rPr>
              <a:t>Measurable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 interf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se we have a 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Se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which computes simple statistics of numbers read from an input 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example, the average and maxim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505320" y="4838760"/>
            <a:ext cx="1752480" cy="12952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00400" y="50292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733920" y="502920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a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1474920" y="5448240"/>
            <a:ext cx="203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5257800" y="5029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32448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257800" y="5867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6324480" y="56768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914400" y="49910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put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676520" y="0"/>
            <a:ext cx="6705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class DataS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DataSet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sum=0.0; maximum=0.0; count=0; 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void add(double x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sum+=x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if (count==0 ||  maximum&lt;x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maximum=x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count++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double getAverage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if (count==0) return 0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else return sum/count;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double getMaximum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return maximum; 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double sum, maximum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int count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70000" y="38088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early we would have to modify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Se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if we wanted to get the average of a set of bank account balances or to find the coin with the highest value amongst a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S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not re-useable as it st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ever, if all classes that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S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operate on implement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easurab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terface, then the class becomes mor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70000" y="457200"/>
            <a:ext cx="777240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pl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easurab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u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getMeasure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BankAccoun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s return the balance and for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i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returns the coin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905120" y="1143000"/>
            <a:ext cx="5790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interface Measu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uble getMeasure(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676520" y="304920"/>
            <a:ext cx="6705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class BankAccount implements Measurab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BankAccount(double b) {balance=b;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double getMeasure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return balanc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double balanc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class Coin implements Measurab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Coin(double c) {value=c;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double getMeasure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return valu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double valu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70000" y="457200"/>
            <a:ext cx="777240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easurab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terface expresses the commonality amongst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act that each measurable objects can return a value relating to it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Se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can then be used to analyse collections of objects o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implementing this interface with minor modifications to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676520" y="0"/>
            <a:ext cx="6705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class DataS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DataSet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 sum=0.0; count=0; 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void add(Measurable x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sum+=x.getMeasure(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if (count==0 ||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maximum.getMeasure()&lt;x.getMeasure()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maximum=x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count++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double getAverage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if (count==0) return 0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else return sum/count;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ublic double getMaximum(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{ return maximum.getMeasure(); }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Measurable maximum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double sum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private int count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now use these classes as foll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676520" y="16002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676520" y="1600200"/>
            <a:ext cx="632448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aSet d=new DataSe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in c1=new Coin(1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in c2=new Coin(2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.add(c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.add(c2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uble maxCoin=d.getMaximum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"coin max= " + maxCoi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nterfaces and callbacks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0000" y="144792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ataSe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is useful as a re-usable class but is still lim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easurabl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face can only be implemented by user defined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’t, for example, find the maximum of a set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ctang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s a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ctangl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a pre-defined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only measure an object in one way. For example, in the case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ankAccou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s, we can only measure it in terms of the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70000" y="38088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olution is to delegate the measuring to a separate class rather than being the responsibility of the objects we are measu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create a separat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easur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terface and implement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easure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 in objects implementing th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209680" y="457200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interface Measur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uble measure(Object anObject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nterfaces -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447920"/>
            <a:ext cx="779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a construct consisting of unimplemented public methods (rather like abstract cl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lass which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mplement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 interface provides implementations of all of the methods declared in the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faces are widely used in Java and enable multiple inheritance to be avoi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70000" y="228240"/>
            <a:ext cx="77724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pdate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ataSe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as follow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371600" y="9907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Data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DataSet(Measurer 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asurer=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void add(Object 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m=sum+measurer.measure(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count==0 ||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asurer.measure(maximum)&lt;measurer.measure(x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ximum=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nt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Measurer measur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ataSe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make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allbac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easure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f an object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lement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easur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terface when it needs to measure an object (such as checking a bank bala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is in contrast to call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etMeasure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 of an object implement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easurab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are now free to design any kind of measures on an object of any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, we can measur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ctang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s by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require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ctangleMeasur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which implements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easur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170000" y="495360"/>
            <a:ext cx="7974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class RectangleMeasurer implements Measur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double measure(Object anOb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tangle r=(Rectangle) anObject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uble area=r.getWidth()*r.getHeight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turn are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70000" y="38088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now use these classes as foll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1028"/>
          <p:cNvSpPr/>
          <p:nvPr/>
        </p:nvSpPr>
        <p:spPr>
          <a:xfrm>
            <a:off x="1752480" y="1066680"/>
            <a:ext cx="6983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asurer m=new RectangleMeasurer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Set data=new DataSet(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// Add rectangles to the data 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.add(new Rectangle(5,10,20,30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.add(new Rectangle(5,10,20,30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// Get maxi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uble max=data.getMaximum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86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allback to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easure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ctangleMeasure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method is made from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dd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ataSe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have flexibility over our implementation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ctangleMeasure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o that any feature can be meas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 even defining several measurer classes to measure different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0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d finally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0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 far we have covered fundamental issues relating to object orientation including classes, inheritance and polymorphism and interfa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e next set of lectures we will cover more advanced features of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aphics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les and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lti-th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 – generic sort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pose we want write a sort program that is able to sort many kinds of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can do this using inheritance and an abstract base class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Sortab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ith metho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mpareTo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derive what we want to sort from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ortab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polymorphism does the 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, we can sort an array of students based on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DNumb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need to provide an implementation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mpareTo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the 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295280" y="838080"/>
            <a:ext cx="723924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class Sortab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int compareTo(Sortable b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70000" y="68544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mpareT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ortable b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turns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–1,0 or 1 depending on whether some chosen instance fiel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f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f 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ortab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is such that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is.f&lt;b.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is.f==b.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is.f&gt;b.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050"/>
          <p:cNvSpPr/>
          <p:nvPr/>
        </p:nvSpPr>
        <p:spPr>
          <a:xfrm>
            <a:off x="1371600" y="230040"/>
            <a:ext cx="7238880" cy="67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 ArrayAl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shellSort(Sortable[] a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n = a.lengt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incr = n / 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le (incr &gt;=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 for (int i = incr; i &lt; n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rtable temp = a[i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j =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le (j &gt;= inc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amp;&amp; temp.compareTo(a[j - incr]) &lt;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 a[j] = a[j - incr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 -= inc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j] = te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cr /= 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6"/>
          <p:cNvSpPr/>
          <p:nvPr/>
        </p:nvSpPr>
        <p:spPr>
          <a:xfrm>
            <a:off x="1295280" y="609480"/>
            <a:ext cx="8180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Student extends Sor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compareTo(Sortable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 s=(Student) b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idNnumber&lt;s.idNumber) return –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idNumber&gt;s.idNumber) return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String 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int idNumb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String addres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1219320" y="380880"/>
            <a:ext cx="739116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StudentSort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[] s=new Student[3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0]=new Student(“John Smith”, 3429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1 Bristol Rd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1]=new Student(“Alan Jones”, 5395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0 Bournbrook Rd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[2]=new Student(“Peter Brown”, 1643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0 Bristol Rd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rayAlg.shellSort(s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Sorts on id.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m</cp:lastModifiedBy>
  <dcterms:modified xsi:type="dcterms:W3CDTF">2010-11-04T10:39:47Z</dcterms:modified>
  <cp:revision>112</cp:revision>
  <dc:subject/>
  <dc:title>EE2E1. JAVA Programming  </dc:title>
</cp:coreProperties>
</file>