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646A-E042-4F55-8C7F-63C333C00C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6640-FC00-403F-BC1F-2A88C075733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2149-94A1-467A-B277-C2AAE344C3B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6839-8A84-4818-B8B7-13566F30826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64EB-F84B-4D5D-9777-EC820FF6AD2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4A35-F099-4915-9455-04CC4ED667D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2822-657F-4A93-A286-2485735AC52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E162-E2F6-4813-A9A2-F840B91C935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D2B9-8A19-40CA-93A7-1401B9815BE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DECE-0C5D-4D20-85A4-2FAD9EA8F6F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EBFB-17FA-45E8-8740-C416759E3E6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FF9F-AA53-46E9-80CD-232282E0E5E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ED75-AB26-4253-9BBD-88F824E77B0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32C5-CCE3-4749-94BD-548206EA291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351A-1A66-4906-81FD-5987A6ED23A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A30F-0F4B-47EE-BF84-6FB0CD1C004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5985-6A8E-4D25-90EE-9FB829D0DA9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24D8-3F64-4701-B870-54C31021766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EA7A-8987-45EC-A614-322FB81B3D6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DB46-CC00-45AC-B391-BAF20889914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FA30-C0AB-4022-9543-118350E71EA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F886-198B-4AB8-8709-382DEB49E51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0D2F-3CF8-4541-B1DC-F1A16B8B5A0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C87D-0873-49AF-912B-9BBF49C3FEE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E57D-B8C9-4E17-9CCF-DCFDAF43DE8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CB7E-1AA5-46AA-A682-9D2AE1C86EB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3A3B-A943-4D9D-ADA8-C26E652BC76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07C3-8A25-494C-BB32-F49C0A603AD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C1A-7552-4EF8-9509-74407B99970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C680-01CD-4604-B457-15E38524278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6E38-8DB7-41D9-B7EA-DA1EFABFF3E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16C9-FD7B-48ED-BEB2-D9F26BB4D04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3F5F-40F5-4653-BEC4-43BA42B3E68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9DAF-305F-4C47-9848-4EEE3DA1BEF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BE69-FC16-4A41-89EB-AB0A5D97694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95ED-500E-4230-9545-375E1BFDB2D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003F-AE8C-45DC-898C-49DEACEEAE8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4AA2-A6EC-4518-8229-2AECE7B7E0A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7276-C555-41D3-A5B5-ECF37196CFF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9F5C-E6DF-4343-A124-ACC79885679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89A3-7036-4278-8E99-3085E94F102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B20-9FBC-4B36-BD38-5F6B8508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8CD-D44D-47F6-8BAC-0936A604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378-027B-45E6-B69E-BC3C4895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8F1-DB12-44C1-A390-4E5C9F79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9C8B-8BAE-43FA-8860-6FB5C391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E01D-EFD3-42E7-A446-F3927CC5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795C-FEF2-4314-9C9F-3E37F497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FC02-CC76-45DE-9B1E-D762B98F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173D-7A91-43B0-8D39-FC19AB18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AA05-97CA-407B-ABB7-DA5C353D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A45F-745F-44CA-9683-DE694E3C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81C-BDBE-4ED4-B1D2-8F9580DB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FCF7-706C-4AC8-8850-5210224C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1FD6-64C7-43D6-A761-32AEA993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DBB9-9E37-4DB3-BC5C-F8C2680B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E877-FE0B-45E4-B47A-533EC836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3852-6AB3-463E-9FAD-90AB8C60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39A-2804-4961-9C55-A4E86EB4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728-4D80-4046-B981-31CB1EAE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A9F-5A37-4E15-ABE2-22E591E6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A98-4553-411A-951B-4112A028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199-438E-48AA-976D-7F92B4A6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655-CC30-4403-B268-9BB6A62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3B1-411A-4FAA-8810-1669CB80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EEFD-DAAE-4221-B795-23DE3F395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0C6C-3886-4EC2-854E-D168254D3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java.sun.com/j2se/1.5.0/docs/api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E2E1. JAVA Programm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cture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Objects and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2438280" y="19810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143000" y="928800"/>
            <a:ext cx="8001000" cy="42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StudentInf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udentInfo si1=new StudentInfo(“John Smith”, 3429,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“21 Bristol Rd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udentInfo si2=new StudentInfo(“Alan Jones”, 5395,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“30 Bournbrook Rd”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i1. printInfo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i2.printInfo()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udentInfoTes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create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udentInfo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s us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ew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constructor i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utomaticall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alled from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ew StudentInfo(…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lling the constructor initializes the obje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rintInfo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alled from the 2 object variable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i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i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udentInfoTes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s made public which gives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ublic scop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 The class is visible outside of its pack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private/public  a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wor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ans only methods in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udentInf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 can access these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wor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ans the method can be called from any other method in any other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27"/>
          <p:cNvSpPr/>
          <p:nvPr/>
        </p:nvSpPr>
        <p:spPr>
          <a:xfrm>
            <a:off x="2895480" y="1219320"/>
            <a:ext cx="3962520" cy="45720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028"/>
          <p:cNvSpPr/>
          <p:nvPr/>
        </p:nvSpPr>
        <p:spPr>
          <a:xfrm>
            <a:off x="2895480" y="1828800"/>
            <a:ext cx="3962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029"/>
          <p:cNvSpPr/>
          <p:nvPr/>
        </p:nvSpPr>
        <p:spPr>
          <a:xfrm>
            <a:off x="3809880" y="1371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entInf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030"/>
          <p:cNvSpPr/>
          <p:nvPr/>
        </p:nvSpPr>
        <p:spPr>
          <a:xfrm>
            <a:off x="2895480" y="4114800"/>
            <a:ext cx="3962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031"/>
          <p:cNvSpPr/>
          <p:nvPr/>
        </p:nvSpPr>
        <p:spPr>
          <a:xfrm>
            <a:off x="3657600" y="4572000"/>
            <a:ext cx="29718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id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032"/>
          <p:cNvSpPr/>
          <p:nvPr/>
        </p:nvSpPr>
        <p:spPr>
          <a:xfrm>
            <a:off x="29718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033"/>
          <p:cNvSpPr/>
          <p:nvPr/>
        </p:nvSpPr>
        <p:spPr>
          <a:xfrm>
            <a:off x="297180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034"/>
          <p:cNvSpPr/>
          <p:nvPr/>
        </p:nvSpPr>
        <p:spPr>
          <a:xfrm>
            <a:off x="2286000" y="41148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1035"/>
          <p:cNvSpPr/>
          <p:nvPr/>
        </p:nvSpPr>
        <p:spPr>
          <a:xfrm>
            <a:off x="3581280" y="2362320"/>
            <a:ext cx="25146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entInfo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ntInfo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1036"/>
          <p:cNvSpPr/>
          <p:nvPr/>
        </p:nvSpPr>
        <p:spPr>
          <a:xfrm>
            <a:off x="1066680" y="45720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ccessed only b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1037"/>
          <p:cNvSpPr/>
          <p:nvPr/>
        </p:nvSpPr>
        <p:spPr>
          <a:xfrm>
            <a:off x="2438280" y="228600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1042"/>
          <p:cNvSpPr/>
          <p:nvPr/>
        </p:nvSpPr>
        <p:spPr>
          <a:xfrm>
            <a:off x="7010280" y="205740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43"/>
          <p:cNvSpPr/>
          <p:nvPr/>
        </p:nvSpPr>
        <p:spPr>
          <a:xfrm>
            <a:off x="739152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ccessed from an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1044"/>
          <p:cNvSpPr/>
          <p:nvPr/>
        </p:nvSpPr>
        <p:spPr>
          <a:xfrm>
            <a:off x="7467480" y="2514600"/>
            <a:ext cx="1600200" cy="380880"/>
          </a:xfrm>
          <a:prstGeom prst="rightArrow">
            <a:avLst>
              <a:gd name="adj1" fmla="val 50000"/>
              <a:gd name="adj2" fmla="val 10503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1045"/>
          <p:cNvSpPr/>
          <p:nvPr/>
        </p:nvSpPr>
        <p:spPr>
          <a:xfrm flipH="1" rot="5400000">
            <a:off x="684720" y="2819160"/>
            <a:ext cx="2438280" cy="1066680"/>
          </a:xfrm>
          <a:custGeom>
            <a:avLst/>
            <a:gdLst>
              <a:gd name="textAreaLeft" fmla="*/ -360 w 2438280"/>
              <a:gd name="textAreaRight" fmla="*/ 2003400 w 2438280"/>
              <a:gd name="textAreaTop" fmla="*/ 91368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6475" y="0"/>
                </a:moveTo>
                <a:lnTo>
                  <a:pt x="11350" y="11350"/>
                </a:lnTo>
                <a:lnTo>
                  <a:pt x="15200" y="11350"/>
                </a:lnTo>
                <a:lnTo>
                  <a:pt x="15200" y="18497"/>
                </a:lnTo>
                <a:lnTo>
                  <a:pt x="0" y="18497"/>
                </a:lnTo>
                <a:lnTo>
                  <a:pt x="0" y="21600"/>
                </a:lnTo>
                <a:lnTo>
                  <a:pt x="17750" y="21600"/>
                </a:lnTo>
                <a:lnTo>
                  <a:pt x="17750" y="11350"/>
                </a:lnTo>
                <a:lnTo>
                  <a:pt x="21600" y="1135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rally, instance fields are priv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represent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f the cla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s are generally publ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represent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o th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eparation of a class into public/private is a key feature of object-oriented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times known a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ncapsula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 OO cir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ff"/>
                </a:solidFill>
                <a:latin typeface="Times New Roman"/>
              </a:rPr>
              <a:t>Implementation/interface (state/behaviour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mplementation of a class is specified in the private instance fiel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y are hidden from outside th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nterface to the class is specified by the public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y can be accessed from anywh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mplementation may change but the interface must stay the s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oin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represents the position in the 2D (x-y) pl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666880" y="2320920"/>
            <a:ext cx="84092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Point(int x, int 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 xpos=x; ypos=y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 getX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 return xpos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 getY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 return ypos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int xpos, yp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se this class is used to represent a polygon as an array of points – also includes a method to compute the peri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x and y co-odinates are accessed through method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getX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getY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600200" y="22860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143000" y="685800"/>
            <a:ext cx="8458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ass Polyg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Polygon() {…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double perimeter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ouble pm=0; int n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or (int n=1; n&lt;numVertices; n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 xv1= vertices[n-1].getX(); int yv1=vertices[n-1].get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n=n%numVertic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 xv=vertices[nn].getX(); int yv=vertices[nn].get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m+=(Math.sqrt((xv1-xv)*(xv1-xxv)+(yv1-yv)*(yv1-yv)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urn p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ivate Point[] vertic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ivate int numVertic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key point is that we can change the implementation of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oin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use polar co-ordin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mplementation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 (and in particular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erimeter(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hod) doesn’t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have created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e-useab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oftware componen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oin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ing existing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ing new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vate/public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lementation/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i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s as function arg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c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371600" y="6858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Point(int x, int 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=Math.sqrt(x*x+y*y); theta=Math.atan2(y,x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 getX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r*Math.cos(theta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int getY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turn r*Math.sin(theta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float r, float thet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structo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tructors are special methods for initialising  an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ust have the same name as the class and not have a return typ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tructors can b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overloa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lass can have several constructors with different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 can be used to store information about employees in a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truct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mployee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the default con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d for creating un-initialized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truct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mployee(String, int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itializes the instance field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mployeeTe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 create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s using both constru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050"/>
          <p:cNvSpPr/>
          <p:nvPr/>
        </p:nvSpPr>
        <p:spPr>
          <a:xfrm>
            <a:off x="1371600" y="6858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Employ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Employee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// default con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{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Employee(String n, int 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=new String(n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ge=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vate String nam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vate int ag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  <a:tab algn="l" pos="61675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1143000" y="914400"/>
            <a:ext cx="769608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clas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Employee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mployee emp=new Employee(); // default cnst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mployee emp1=new Employee(“John Smith”,3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e </a:t>
            </a:r>
            <a:r>
              <a:rPr b="0" i="1" lang="en-GB" sz="4400" spc="-1" strike="noStrike">
                <a:solidFill>
                  <a:srgbClr val="00ffff"/>
                </a:solidFill>
                <a:latin typeface="Times New Roman"/>
              </a:rPr>
              <a:t>this 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object refere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ows access to the current object as a whole and not just particular instance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keywor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i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refers to the object on which the method oper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simple use of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i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to force the default constructor to call another constr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many other uses for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143000" y="4572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 Employ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Employee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// default con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(“No name”, 0);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// Call other con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Employee(String n, int 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=n; age=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vate String nam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vate int ag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Objects as function argum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ject names are references (pointers!) to the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tempting to think that object arguments to functions are effectively passed by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means that objects can be changed inside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fortunately this is wrong – the object references are passed by value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objec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an be changed by calling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utato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s of the object inside th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219320" y="3808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Employ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Employee(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{}// default co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Employee(String n, int 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ame=new String(n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=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void incrementAge() {age++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String 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ivate int ag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219320" y="533520"/>
            <a:ext cx="7315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ss changeEmployeeDeta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tic void swap(Employee e1, Employee e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mployee temp=e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2=e1; e1=te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tic void incrementAge(Employee 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.increment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380880"/>
                <a:tab algn="l" pos="488880"/>
                <a:tab algn="l" pos="733320"/>
                <a:tab algn="l" pos="977760"/>
                <a:tab algn="l" pos="1222200"/>
                <a:tab algn="l" pos="1467000"/>
                <a:tab algn="l" pos="17114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8080"/>
                <a:tab algn="l" pos="3422520"/>
                <a:tab algn="l" pos="3666960"/>
                <a:tab algn="l" pos="3911760"/>
                <a:tab algn="l" pos="4156200"/>
                <a:tab algn="l" pos="4400640"/>
                <a:tab algn="l" pos="4645080"/>
                <a:tab algn="l" pos="4889520"/>
                <a:tab algn="l" pos="5133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Using existing clas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92320" y="1600200"/>
            <a:ext cx="795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have already seen examples of classes in 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are 100’s more which come with all the various Java API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classes are grouped in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ocumentation f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Java classes is at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java.sun.com/j2se/1.5.0/docs/api/index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218960" y="685440"/>
            <a:ext cx="79246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Employe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ployee emp=new Employee(“John Smith”,35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ployee emp1=new Employee(“John Smith”,36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Update ag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hangeEmployeeDetails.swap(emp,emp1);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emp.age still 35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Update 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hangeEmployeeDetails.incrementAge(emp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emp.age now 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533520"/>
            <a:ext cx="77724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first case,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wap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doesn’t change the state of the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fter the method is called,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mp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till refers to the 35 y/o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ohn Sm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bject references are passe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by valu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hence don’t change on exit from the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905120" y="533520"/>
            <a:ext cx="1019160" cy="365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962600" y="228600"/>
            <a:ext cx="1360440" cy="12193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4952880" y="609480"/>
            <a:ext cx="1360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4962600" y="65556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ohn Sm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235480" y="102060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962600" y="228600"/>
            <a:ext cx="19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041560" y="533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2924280" y="716040"/>
            <a:ext cx="1971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905120" y="2057400"/>
            <a:ext cx="1019160" cy="365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4962600" y="1752480"/>
            <a:ext cx="1360440" cy="12193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4952880" y="2133720"/>
            <a:ext cx="136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235480" y="254484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2041560" y="20574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p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2924280" y="2239920"/>
            <a:ext cx="1971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5029200" y="1676520"/>
            <a:ext cx="19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4962600" y="217980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ohn Sm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762120" y="380988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6781680" y="457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rt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wap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2028960" y="4160880"/>
            <a:ext cx="1019160" cy="365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2165400" y="4160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28"/>
          <p:cNvSpPr/>
          <p:nvPr/>
        </p:nvSpPr>
        <p:spPr>
          <a:xfrm flipV="1">
            <a:off x="3048120" y="990360"/>
            <a:ext cx="1828800" cy="3352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2028960" y="5684760"/>
            <a:ext cx="1019160" cy="365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2165400" y="568476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34"/>
          <p:cNvSpPr/>
          <p:nvPr/>
        </p:nvSpPr>
        <p:spPr>
          <a:xfrm flipV="1">
            <a:off x="3048120" y="2437920"/>
            <a:ext cx="182880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678168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  sw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905120" y="533520"/>
            <a:ext cx="1019160" cy="365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962600" y="228600"/>
            <a:ext cx="1360440" cy="12193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4952880" y="609480"/>
            <a:ext cx="1360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962600" y="65556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ohn Sm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235480" y="102060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4962600" y="228600"/>
            <a:ext cx="19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2041560" y="533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9"/>
          <p:cNvSpPr/>
          <p:nvPr/>
        </p:nvSpPr>
        <p:spPr>
          <a:xfrm>
            <a:off x="2924280" y="716040"/>
            <a:ext cx="1971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1905120" y="2057400"/>
            <a:ext cx="1019160" cy="365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4962600" y="1752480"/>
            <a:ext cx="1360440" cy="12193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>
            <a:off x="4952880" y="2133720"/>
            <a:ext cx="136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5235480" y="254484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2041560" y="20574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p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2924280" y="2239920"/>
            <a:ext cx="1971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5029200" y="1676520"/>
            <a:ext cx="19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4962600" y="217980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ohn Sm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62120" y="380988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6781680" y="457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d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wap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2028960" y="4160880"/>
            <a:ext cx="1019160" cy="365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2165400" y="4160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27"/>
          <p:cNvSpPr/>
          <p:nvPr/>
        </p:nvSpPr>
        <p:spPr>
          <a:xfrm flipV="1">
            <a:off x="3048120" y="2590920"/>
            <a:ext cx="190476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028960" y="5684760"/>
            <a:ext cx="1019160" cy="3650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32"/>
          <p:cNvSpPr/>
          <p:nvPr/>
        </p:nvSpPr>
        <p:spPr>
          <a:xfrm>
            <a:off x="2165400" y="568476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33"/>
          <p:cNvSpPr/>
          <p:nvPr/>
        </p:nvSpPr>
        <p:spPr>
          <a:xfrm flipV="1">
            <a:off x="3048120" y="990720"/>
            <a:ext cx="1828800" cy="487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678168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  sw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second case,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ncrementAge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a mutator method which changes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g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stance field of a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ncrementAge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clas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hangeEmployeeDetails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an then update the age of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 passed by re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bject reference has not been changed, just the object’s internal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13716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Static meth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143000" y="1371600"/>
            <a:ext cx="77724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c methods belong to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are called through the class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have already seen examples of static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Console.readDoubl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Math.pow(x,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Arrays.sor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don’t need to create an object (instantiate the class) in order to call a static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ain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in a class is static which means the Java interpreter can start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ain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without creating an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c methods cannot access the instance fields (which belong to objec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asses can also have static fields, which again belong to the class and not the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are typically constants defined in the context of th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ample –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o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 has 13 public static fields representing colour constants –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or.blac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or.r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6"/>
          <p:cNvSpPr/>
          <p:nvPr/>
        </p:nvSpPr>
        <p:spPr>
          <a:xfrm>
            <a:off x="259092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yClass obj1=new Myclass(1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yClass obj2=new Myclass(2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Group 17"/>
          <p:cNvGrpSpPr/>
          <p:nvPr/>
        </p:nvGrpSpPr>
        <p:grpSpPr>
          <a:xfrm>
            <a:off x="1981080" y="4419720"/>
            <a:ext cx="6782040" cy="2212200"/>
            <a:chOff x="1981080" y="4419720"/>
            <a:chExt cx="6782040" cy="2212200"/>
          </a:xfrm>
        </p:grpSpPr>
        <p:sp>
          <p:nvSpPr>
            <p:cNvPr id="295" name="Text Box 7"/>
            <p:cNvSpPr/>
            <p:nvPr/>
          </p:nvSpPr>
          <p:spPr>
            <a:xfrm>
              <a:off x="2666880" y="6172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obj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6934320" y="61722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obj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Rectangle 9"/>
            <p:cNvSpPr/>
            <p:nvPr/>
          </p:nvSpPr>
          <p:spPr>
            <a:xfrm>
              <a:off x="1981080" y="4419720"/>
              <a:ext cx="2667240" cy="17524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10"/>
            <p:cNvSpPr/>
            <p:nvPr/>
          </p:nvSpPr>
          <p:spPr>
            <a:xfrm>
              <a:off x="6095880" y="4419720"/>
              <a:ext cx="2667240" cy="17524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43200" y="5105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n=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6781680" y="51055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n=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Group 16"/>
          <p:cNvGrpSpPr/>
          <p:nvPr/>
        </p:nvGrpSpPr>
        <p:grpSpPr>
          <a:xfrm>
            <a:off x="2590920" y="838080"/>
            <a:ext cx="5638680" cy="1828800"/>
            <a:chOff x="2590920" y="838080"/>
            <a:chExt cx="5638680" cy="1828800"/>
          </a:xfrm>
        </p:grpSpPr>
        <p:sp>
          <p:nvSpPr>
            <p:cNvPr id="302" name="Rectangle 2"/>
            <p:cNvSpPr/>
            <p:nvPr/>
          </p:nvSpPr>
          <p:spPr>
            <a:xfrm>
              <a:off x="2590920" y="838080"/>
              <a:ext cx="3124080" cy="182880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Text Box 3"/>
            <p:cNvSpPr/>
            <p:nvPr/>
          </p:nvSpPr>
          <p:spPr>
            <a:xfrm>
              <a:off x="2971800" y="9907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lass MyCl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Text Box 4"/>
            <p:cNvSpPr/>
            <p:nvPr/>
          </p:nvSpPr>
          <p:spPr>
            <a:xfrm>
              <a:off x="2743200" y="1600200"/>
              <a:ext cx="3124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private int n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private static int m=15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Text Box 15"/>
            <p:cNvSpPr/>
            <p:nvPr/>
          </p:nvSpPr>
          <p:spPr>
            <a:xfrm>
              <a:off x="6019920" y="91440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public MyClass(int nn) {n=nn;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785960" y="3786120"/>
            <a:ext cx="6615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ublic class SayHel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ystem.out.println(message);  // Error! message non-stat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ivate String message=“Hello”;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1295280" y="30492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5072040"/>
            <a:ext cx="7772400" cy="50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143000" y="1500120"/>
            <a:ext cx="7772400" cy="50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c methods cannot access non-static instance fields – vice versa is 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ommon error is to try and access a non-static from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106668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tatic metho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ai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not access the non-static instance fiel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to declar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essag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s static for this program to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ivate static String message=“Hello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343400" y="5437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981080" y="5589720"/>
            <a:ext cx="144792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143000" y="5589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181480" y="5056200"/>
            <a:ext cx="1524240" cy="15238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5181480" y="54370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5562720" y="497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5257800" y="5894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257800" y="54100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riday Oct 16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12:07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3200400" y="581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914400" y="1371600"/>
            <a:ext cx="77724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provides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at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 for representing the time and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3428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ffectively, objec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at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a pointer to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at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371600" y="24382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 date = new Date(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Initialized to current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time and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nd finally….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has been a lot of detail in this l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s important to appreciate the significance of encapsulation – implementation/interface as well as the difference between static and non-static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he first assessed programming lab exercise, you will have to design and implement a number of classes to create a relatively sophisticated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ffff"/>
                </a:solidFill>
                <a:latin typeface="Times New Roman"/>
              </a:rPr>
              <a:t>Class methods (member functions)</a:t>
            </a:r>
            <a:endParaRPr b="0" lang="en-US" sz="4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905120" y="4267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295280" y="2057400"/>
            <a:ext cx="94489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specify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functionalit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f th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are called through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590920" y="3657600"/>
            <a:ext cx="3733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 date = new Dat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h=date.getHours(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m=date.getMonth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can think of these methods as operating on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objects –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are called through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object variable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495680" y="215424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2133720" y="2459160"/>
            <a:ext cx="144756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95280" y="26114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257800" y="2154240"/>
            <a:ext cx="1676520" cy="15796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5257800" y="261144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55627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5410080" y="261144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3429000" y="27637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2057400" y="3733920"/>
            <a:ext cx="57531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 date = new Dat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h=date.getHours(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returns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m=date.getMonth(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returns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1143000" y="5486400"/>
            <a:ext cx="74674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object has to exist before one of its methods   can be ca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spcBef>
                <a:spcPts val="1749"/>
              </a:spcBef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5334120" y="25909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riday Oct 16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12:07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reating new clas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lass consists of class methods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nstance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thods specify the functionality of the class (what we ca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with objects of the cla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tance fields specify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f the objec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StudentInf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lass is used to store student records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(public)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udentInfo(..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a method with the same name as the class, known as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n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rintInf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3 (private) instance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d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26"/>
          <p:cNvSpPr/>
          <p:nvPr/>
        </p:nvSpPr>
        <p:spPr>
          <a:xfrm>
            <a:off x="1192320" y="762120"/>
            <a:ext cx="79516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ublic class StudentInf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ublic StudentInfo(String n, int id, String 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name=new String(n)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idNumber=id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ddress=new String(a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ublic void printInfo(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System.out.println(name  + “  ”+ idNumber + “ ” +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address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rivate String name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rivate int idNumber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rivate String address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16:20Z</dcterms:created>
  <dc:creator>spannm</dc:creator>
  <dc:description/>
  <dc:language>en-US</dc:language>
  <cp:lastModifiedBy>spannm</cp:lastModifiedBy>
  <dcterms:modified xsi:type="dcterms:W3CDTF">2010-10-21T09:30:56Z</dcterms:modified>
  <cp:revision>65</cp:revision>
  <dc:subject/>
  <dc:title>EE2E1. JAVA Programming  </dc:title>
</cp:coreProperties>
</file>