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432-1CFB-4193-B9FC-6F224B79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D62-D92E-45A8-81AE-0F632608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71F-545E-4C99-903B-6783AB39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4DA-2911-484D-9356-6E7DECF6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963C-49AC-4D9E-8F0B-DA92A960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AC4F-A650-498F-BD22-284D8174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D9B4-EFA6-4C98-8C3D-A792E5E2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36D9-BAAD-4A70-B00F-CEBD82D1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73BB-4F6C-450E-984E-B94BB279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667D-6007-4939-A904-A00AA224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A05C-9297-4F62-B57D-11D69611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715-4BD9-41E7-BB28-F8C20B4C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8A4A-17E2-432F-9C1D-553076D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8D01-53E5-49A0-8FAE-27D70E6D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AA74-0BF9-448B-90CB-875E1155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E9B3-4AF2-4216-A851-8C01E5C2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2CD1-AAD6-4D4E-8789-DB8E24E4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394-4363-4BA2-ABC3-9557A4C6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AE5-EDCF-4E28-9ACA-AE5404D4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926-D935-46E5-9043-EC7D651B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CA1-FA44-4EA1-9803-48D5DB00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B28-76F8-4D42-B742-CCCF4FCA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549-3E24-4E01-BBB3-D5DA6300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E9B-B26F-4BAC-85F3-E5EA041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4C0E-0F13-4697-ACED-F9988AF6B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C2E9-1305-46CA-A63B-705919258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e.bham.ac.uk/spannm/Courses/ee2e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nicode.org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E2E1. JAVA Programm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ctur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From C to Java – a one way ticke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stant variable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905120" y="42670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396252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nal double electronicCharge=1.6E-19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ectronicCharge=1.6E-18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illegal assignment!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219320" y="1905120"/>
            <a:ext cx="76197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Java, the keywor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denotes a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tant variables cannot be assigned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Operato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ual arithmetic operators + - * / are used in Java as i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ger divide / and modulus % as i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crement ++ and decrement 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nentiation use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ow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unction which is part of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Mat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438280" y="5181480"/>
            <a:ext cx="4800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uble y=Math.pow(x,a);  // y=x</a:t>
            </a:r>
            <a:r>
              <a:rPr b="0" lang="en-GB" sz="2400" spc="-1" strike="noStrike" baseline="70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Relational and boolean operato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8180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uses the same relational operators a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= (equal 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!= (not equal 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, &gt;, &lt;=, &gt;= (less, greater, less or equal, greater or equ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uses the same bitwise operators a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amp; (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| (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^ (x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 (no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Boolean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Java the result of a boolean expression is a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oole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ype (true or fal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can’t be converted to an int (as in 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x == y) {…}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Result is a boo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eliminates a common C programming b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x = y) {…}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Ok in C, won’t compile in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trol flo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 uses the same control structures as i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lection (conditional)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..) {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..) {…} else if (..) {…} …. else {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 (..) { case 1: break;  …  default: break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eration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(..) {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le (..) {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 {…} while (.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Example – a square root calculator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public class SquareRoo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double a,roo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a=Console.readDouble("Enter a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positive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number : ")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if (a&lt;0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System.out.println(“Please enter a positive number!)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} while (a&lt;0)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root=a/2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double root_old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root_old=roo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root=(root_old+a/root_old)/2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} while (Math.abs(root_old-root)&gt;1.0E-6)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ystem.out.println("The square root of " + a + " is " + root)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1371600" y="457200"/>
            <a:ext cx="77724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utes the square root of an inputted number using a simple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me control structure as i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e the use of indentation to indicat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Java, keyboard input is not straight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ne by the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readDouble(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in clas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ons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String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ings are sequences of characters as i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tandard Java library has a predefined clas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ings ar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mmutabl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unlike in C) – individual characters in the string cannot be 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438280" y="3200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name = “Mike”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590920" y="5638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ame[0] = ‘m’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Not allow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ings can be concatenated using the “+”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Java, every object, even literals,  can be automatically converted to a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2052"/>
          <p:cNvSpPr/>
          <p:nvPr/>
        </p:nvSpPr>
        <p:spPr>
          <a:xfrm>
            <a:off x="2286000" y="1981080"/>
            <a:ext cx="48006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name1 = “Mike”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name2 = “Spann”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myName=name1+name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053"/>
          <p:cNvSpPr/>
          <p:nvPr/>
        </p:nvSpPr>
        <p:spPr>
          <a:xfrm>
            <a:off x="2362320" y="4800600"/>
            <a:ext cx="5410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postcode = “B”+15+” “+2+”TT”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println(.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unction makes use of string  concat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works with any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905120" y="2133720"/>
            <a:ext cx="72388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age = 2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out.println(“I am ” + age + “ years old!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676520" y="4267080"/>
            <a:ext cx="74674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nal double pi = 3.14159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out.println(“The value of PI = ” + p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simple Java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ignment/initi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rol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Other string facil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ubstring(.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is provided to access a substring of a larger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charAt(int n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returns the character at positio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 the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286000" y="2895480"/>
            <a:ext cx="57913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java=“Java”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s = java.substring(0,3)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J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514600" y="5181480"/>
            <a:ext cx="57913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ing java=“Java”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r c= java.charAt(2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170000" y="685440"/>
            <a:ext cx="7772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equals(.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ethod tests for string eq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== operator should not be used – it tests to see if the strings are stored in the same lo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length(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turns the length of the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more than 50 methods in the Java String class! (java.lang.St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286000" y="1447920"/>
            <a:ext cx="48769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(s.equals(“Hello”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…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39680" y="1447920"/>
            <a:ext cx="810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ays created with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ew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3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ays can be created and initialized as i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rray length can be determined using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ame.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600200" y="2133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[] intArray = new int[20];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// 20 int 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752480" y="365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[] evenNumbers = {2,4,6,8};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828800" y="5257800"/>
            <a:ext cx="57913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(int j=0; j&lt;evenNumbers.length; j++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out.println(evenNumbers[j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ay variable is effectively a pointer to an array allocated on the heap (hence arrays passed by refere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’t do pointer arithmetic (as in 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438280" y="27432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219320" y="380988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[] intArray = new int[20];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// creates a 20 int 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Array++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NOT ALLOW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70000" y="6091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lti-dimensional arrays are defined as follow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s effectively a 1D array of pointer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600200" y="2133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[] a = new int[5][4]; // 5 x 4 int 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523880" y="3962520"/>
            <a:ext cx="1676520" cy="5331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059200" y="3987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[]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4367160" y="3906720"/>
            <a:ext cx="1212840" cy="18781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9"/>
          <p:cNvSpPr/>
          <p:nvPr/>
        </p:nvSpPr>
        <p:spPr>
          <a:xfrm>
            <a:off x="4367160" y="4627440"/>
            <a:ext cx="121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20"/>
          <p:cNvSpPr/>
          <p:nvPr/>
        </p:nvSpPr>
        <p:spPr>
          <a:xfrm>
            <a:off x="4367160" y="5024520"/>
            <a:ext cx="121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4367160" y="5432400"/>
            <a:ext cx="121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22"/>
          <p:cNvSpPr/>
          <p:nvPr/>
        </p:nvSpPr>
        <p:spPr>
          <a:xfrm>
            <a:off x="4367160" y="4253040"/>
            <a:ext cx="121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4682160" y="4986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7020000" y="4425840"/>
            <a:ext cx="1212840" cy="16052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34"/>
          <p:cNvSpPr/>
          <p:nvPr/>
        </p:nvSpPr>
        <p:spPr>
          <a:xfrm>
            <a:off x="7020000" y="4799160"/>
            <a:ext cx="121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36"/>
          <p:cNvSpPr/>
          <p:nvPr/>
        </p:nvSpPr>
        <p:spPr>
          <a:xfrm>
            <a:off x="7020000" y="5678640"/>
            <a:ext cx="121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7020000" y="5213520"/>
            <a:ext cx="121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40"/>
          <p:cNvSpPr/>
          <p:nvPr/>
        </p:nvSpPr>
        <p:spPr>
          <a:xfrm>
            <a:off x="3200400" y="4253040"/>
            <a:ext cx="987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41"/>
          <p:cNvSpPr/>
          <p:nvPr/>
        </p:nvSpPr>
        <p:spPr>
          <a:xfrm>
            <a:off x="470304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4707720" y="4227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43"/>
          <p:cNvSpPr/>
          <p:nvPr/>
        </p:nvSpPr>
        <p:spPr>
          <a:xfrm>
            <a:off x="4710960" y="45846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44"/>
          <p:cNvSpPr/>
          <p:nvPr/>
        </p:nvSpPr>
        <p:spPr>
          <a:xfrm>
            <a:off x="4672800" y="53499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[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7169040" y="4359240"/>
            <a:ext cx="12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[3]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7134120" y="4735440"/>
            <a:ext cx="12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[3]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7153200" y="5202360"/>
            <a:ext cx="12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[3]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7172280" y="5632560"/>
            <a:ext cx="12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[3]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49"/>
          <p:cNvSpPr/>
          <p:nvPr/>
        </p:nvSpPr>
        <p:spPr>
          <a:xfrm>
            <a:off x="5616720" y="5207040"/>
            <a:ext cx="1231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pying array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ying 1 array variable to another is equivalent (in C) to copying poin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752480" y="3352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[] newArray = evenNumbers;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352680" y="4343400"/>
            <a:ext cx="838440" cy="5335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1447920" y="4343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Nu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9810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w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352680" y="5334120"/>
            <a:ext cx="838440" cy="5331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486400" y="4114800"/>
          <a:ext cx="457200" cy="20732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26"/>
          <p:cNvSpPr/>
          <p:nvPr/>
        </p:nvSpPr>
        <p:spPr>
          <a:xfrm flipV="1">
            <a:off x="4038480" y="4266720"/>
            <a:ext cx="12956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27"/>
          <p:cNvSpPr/>
          <p:nvPr/>
        </p:nvSpPr>
        <p:spPr>
          <a:xfrm flipV="1">
            <a:off x="4114800" y="4419360"/>
            <a:ext cx="12193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6960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etho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ystem.arraycopy(…)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uld be used to copy the array con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ystem.arraycopy(from, fromIndex, to, toIndex,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676520" y="259092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[] newArray = {0,0,0,0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arraycopy(evenNumbers,0,newArray,0, 4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3276720" y="4267080"/>
            <a:ext cx="838080" cy="5335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4267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Nu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7543800" y="5943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wArr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7772400" y="5334120"/>
            <a:ext cx="838080" cy="5331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410080" y="4038480"/>
          <a:ext cx="457200" cy="20732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Line 21"/>
          <p:cNvSpPr/>
          <p:nvPr/>
        </p:nvSpPr>
        <p:spPr>
          <a:xfrm flipV="1">
            <a:off x="3962520" y="41911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22"/>
          <p:cNvSpPr/>
          <p:nvPr/>
        </p:nvSpPr>
        <p:spPr>
          <a:xfrm flipH="1" flipV="1">
            <a:off x="7086600" y="4266720"/>
            <a:ext cx="83808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553080" y="4038480"/>
          <a:ext cx="457200" cy="207324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70000" y="457200"/>
            <a:ext cx="777240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java.util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rray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has a number of convenience utility functions for ar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rrays.sort(a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- sorts array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to ascending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rrays.fill(a,val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– fills array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with valu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rrays.binarySearch(a, key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– searches for a valu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ke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n array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rrays.equals(a1,a2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– test for equivalence of array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nd finally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asic Java programming is less error prone than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pointers to worry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is a genuin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boolea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have yet to think about object oriented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es are the subject of the next l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ntroduction to the Java lab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3364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l the Java programming assignments for this semester are now available on my web site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ee.bham.ac.uk/spannm/Courses/ee2e.ht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ab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ester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 intro. (1 week)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ass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 (2 weeks)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eritance (2 weeks)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10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ng and GUI’s (2 weeks)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este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programming assignment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Simple example Java progra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828800" y="198108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class first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stem.out.println(“Java is fun!”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170000" y="761760"/>
            <a:ext cx="777240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ganisation of the l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You will work in 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programming assignments cover material already done in le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ease carry out the preparatory work before the lab with your part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You will need to put in some time outside the lab slots to finish each exer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170000" y="685440"/>
            <a:ext cx="7772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essment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kes up 85% of the 2E1 m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will be 3 programming assignments this seme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essed by submission of code + program outputs per lab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details will follow and submission will be at the end of the seme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will be 1 major programming assignment next seme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essed by a formal lab report per lab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Main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verything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 a Java program is a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eywor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s a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ccess mod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ram starts execution from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will worry about wha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tatic voi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ans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gram prints the string “Java is fun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ystem.out.println(“…”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ans call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rintln(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ethod of the objec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ystem.ou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which is part of the clas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yst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Data typ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ke C, Java is strongly ty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ava has 8 primitiv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chine independent storage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Primitive data typ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71600" y="1371600"/>
          <a:ext cx="7467480" cy="5041800"/>
        </p:xfrm>
        <a:graphic>
          <a:graphicData uri="http://schemas.openxmlformats.org/drawingml/2006/table">
            <a:tbl>
              <a:tblPr/>
              <a:tblGrid>
                <a:gridCol w="1371600"/>
                <a:gridCol w="2895480"/>
                <a:gridCol w="3200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orage requir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by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,147,483,648 .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47,483,6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by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2768 .. 327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by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rox ± 9x10</a:t>
                      </a:r>
                      <a:r>
                        <a:rPr b="0" lang="en-GB" sz="2000" spc="-1" strike="noStrike" baseline="70000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y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by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28 .. 1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o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by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rox ± 3.4x10</a:t>
                      </a:r>
                      <a:r>
                        <a:rPr b="0" lang="en-GB" sz="2000" spc="-1" strike="noStrike" baseline="70000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u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by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rox ± 1.8x10</a:t>
                      </a:r>
                      <a:r>
                        <a:rPr b="0" lang="en-GB" sz="2000" spc="-1" strike="noStrike" baseline="70000">
                          <a:solidFill>
                            <a:srgbClr val="ffffff"/>
                          </a:solidFill>
                          <a:latin typeface="Times New Roman"/>
                        </a:rPr>
                        <a:t>3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bytes (Unicod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ol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lse, tr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e char datatyp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ar represented by a 2-byte Unicode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signed to represent all characters in the written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ows 65536 characters (35000 are in use) whereas ascii only allows 2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ed as hexidecimal ‘\u0000’ to ‘\uFFFF’ (‘\u0000’ to ‘\u00FF’ is the ascii s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\u indicates a Unicode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eck out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unicode.org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or more 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riables must be declared before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riable names must begin with a letter but can contain letters and dig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riable names are case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Assignment/initializ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ignment and initialization are identical to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666880" y="3429000"/>
            <a:ext cx="214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90920" y="31240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447920" y="320040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myVariable=20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initialization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 anotherVariabl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otherVariable=myVariable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r yes=‘y’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initi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r cc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c=yes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/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3:16:20Z</dcterms:created>
  <dc:creator>spannm</dc:creator>
  <dc:description/>
  <dc:language>en-US</dc:language>
  <cp:lastModifiedBy>spannm</cp:lastModifiedBy>
  <dcterms:modified xsi:type="dcterms:W3CDTF">2010-10-15T07:30:31Z</dcterms:modified>
  <cp:revision>47</cp:revision>
  <dc:subject/>
  <dc:title>EE2E1. JAVA Programming  </dc:title>
</cp:coreProperties>
</file>