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325E-5A96-45AD-A07E-E9AE354ED7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5635-AD87-48A1-A7B2-A7D383F94B6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165C-726A-47B3-80A0-D9DBF84B6D8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C767-C008-44F3-AA19-30D19B3CCB0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3F99-B4B7-49F4-A29F-B5353C33BDE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2FAC-5BE6-4FB3-8DDC-59243980C7D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8455-0124-4823-A5E3-5D0C50A3D40D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70F6-3AA2-40EB-9D23-E8B8FE5894D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18AF-7DFE-4650-81B7-2B163CD4FCA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637B-AB69-4638-ABF7-33B25E0046D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2B5AF-168D-43FA-BCC6-7B6819F755E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8B3B-F4FC-4B28-8565-BA0CBFA7F23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AA79-F655-452E-9648-F7C429ABE8A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A066-5AB0-46CC-9022-092A5FF7FE6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AB41-3CE4-4FF5-96BE-A0B98427D39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4688-8CBE-4779-82EF-33E95CEB0FF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F170-A8A7-4E23-BFC0-3861360D29C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3691-5CC0-4727-B985-703AC0E1BA4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111F-C340-4BAE-894D-AC6DE5D6F21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1D80-8D88-4F37-A1A7-07355A64F75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433C-A4FD-42E9-A8E1-C5D0FC02E75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5F81-98A1-4393-9952-316D0B123AC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4C54-142A-4CE2-8E3D-FED7622C9DF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C3EC-2936-46E7-8E9D-69ACFFD44A8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ADA4-3EF7-47A9-ACA5-ECA080D5A0D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3EC9-10F6-4C59-A1E1-5FDB61DDF03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54FF-73C3-404B-BA51-9C4F102B9C2B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EE30-05E0-49CF-B377-A3DA8679DADB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9FBB-45BB-446F-843F-19BB9404162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8F28-035F-42DA-A2F6-5D8B68E86ED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5303-C3A9-431F-9290-4654CFD6D25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140F-B5BC-4277-BD50-429D7F963AF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1FE8-EC2F-4E27-8F43-A5076F36431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0B16-3D68-4B4B-8A36-5A89F7A706B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3B02-79AC-451C-9E2E-4C1E44F4D5A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5222-68E9-4020-90D5-0D6E66A05DC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5CB4-740D-485B-9B6C-4A9411F5B7A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72E9-37D7-450E-8D30-A7EB91AF3D2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3F7A-E405-4C4E-BD8D-5E12829E8FA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A635-CEC8-473F-AFC0-42BD0607AC2B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26BD-396E-4DA0-BFD0-4B536116C79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599C-3A9F-42D2-A155-BC72BE562ED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71AD-CE58-4773-9F33-BFDA2A407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921B-95C0-473A-8A99-5DA06CD2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96A7-81C2-4B9B-9C29-902AB40AA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B5A8-2691-487F-8DC2-97F156D41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1ECE2-ABD7-40AE-AF8B-B1869EC31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2EED-C57F-41C5-8032-740FC957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EAF0-8599-4A9D-9E56-ADD3183E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E552-746E-4979-9226-D151C29B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6B766-5B17-4937-B670-8491B7B6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5447C-5F4F-4929-AF46-87592CC5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E5CD-C683-40D4-90F8-EF16B4F4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A887-3867-4C57-8C85-F855B45F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1728-0D60-433C-936E-1265D6D0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DFB59-A1B8-4EF9-B92F-CD53CF9C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9144-71B9-4716-8B1E-52242D48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7320-2FB8-404D-89A6-45943DE89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14E2-AF14-42D4-AA33-7A8930585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EC85-03BA-4925-8035-2FE26D11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0215-1085-4D62-AFB6-EFC48171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24FA-B186-4F09-8049-C94F39FF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ECB3-EF76-4636-93CD-DF5C1D57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5F99-E1FB-414C-9831-11BA9713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BDCC-5F05-4B7F-BCC7-4C86B778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FB9B-94E7-4D2C-B3FE-8415FAF4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F916-9F10-4A45-AD2A-3AD111B0D2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CBE1-E615-4A0F-8F46-500B62A1DD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EE2E1. JAVA Programming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6002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ecture 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170000" y="380880"/>
            <a:ext cx="7772400" cy="56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1447920" y="609480"/>
            <a:ext cx="7238880" cy="45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void run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nt++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belFrame.getPanel().setCount(count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leep(10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belFrame.repaint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 while (true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tch(InterruptedException e){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1066680" y="304920"/>
            <a:ext cx="8229600" cy="62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384120"/>
                <a:tab algn="l" pos="47628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  <a:tab algn="l" pos="713412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public class ThreadTest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Frame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extends J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Frame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47628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  <a:tab algn="l" pos="713412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47628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  <a:tab algn="l" pos="713412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private int nthreads=0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47628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  <a:tab algn="l" pos="713412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47628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  <a:tab algn="l" pos="713412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public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ThreadTestFrame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(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47628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  <a:tab algn="l" pos="713412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47628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  <a:tab algn="l" pos="713412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Container contentPane=getContentPane()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47628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  <a:tab algn="l" pos="713412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JPanel p=new JPanel()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47628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  <a:tab algn="l" pos="713412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addButton(p,"Start Count",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47628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  <a:tab algn="l" pos="713412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new ActionListener(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47628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  <a:tab algn="l" pos="713412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47628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  <a:tab algn="l" pos="713412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public void actionPerformed(ActionEvent evt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47628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  <a:tab algn="l" pos="713412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47628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  <a:tab algn="l" pos="713412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// Select frame colour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47628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  <a:tab algn="l" pos="713412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Counter c=new Counter(new LabelFrame(color))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47628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  <a:tab algn="l" pos="713412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c.start()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47628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  <a:tab algn="l" pos="713412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nthreads++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47628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  <a:tab algn="l" pos="713412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47628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  <a:tab algn="l" pos="713412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})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47628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  <a:tab algn="l" pos="713412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contentPane.add(p,"South")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47628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  <a:tab algn="l" pos="713412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47628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  <a:tab algn="l" pos="713412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47628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  <a:tab algn="l" pos="713412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ublic void addButton(Container c, String title, ActionListener a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47628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  <a:tab algn="l" pos="713412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 // Add button to a panel }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47628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  <a:tab algn="l" pos="713412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666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sleep(int t)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method is a static method of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Thread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ich puts the currently running thread to sleep for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milliseco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is allows other counters running in separate threads to resume coun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sleep(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throws an exception when the thread is interrupted by  another thread wanting to run – hence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try-catch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la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143000" y="685800"/>
            <a:ext cx="7772400" cy="56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ach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Counter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bject is created in th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actionPerformed()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method of the button attached to the outer frame (apple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thread is started by calling th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start()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number of threads started is counted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 nthreads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ariable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d the frame colour selected according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Thread stat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thread can exist in one of 4 st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thread has just been cre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unn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start()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method has been called for the thread and it is now ready to r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170000" y="604800"/>
            <a:ext cx="777240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loc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ither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sleep(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method has been call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thread has blocked on an I/O op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thread has called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wait(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thread tries to lock an object that is locked by another thr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ither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run(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method for the thread has completed or an uncaught exception has terminated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run()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Oval 2"/>
          <p:cNvSpPr/>
          <p:nvPr/>
        </p:nvSpPr>
        <p:spPr>
          <a:xfrm>
            <a:off x="1676520" y="2438280"/>
            <a:ext cx="144756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205740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Oval 4"/>
          <p:cNvSpPr/>
          <p:nvPr/>
        </p:nvSpPr>
        <p:spPr>
          <a:xfrm>
            <a:off x="4267080" y="2590920"/>
            <a:ext cx="144792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Oval 5"/>
          <p:cNvSpPr/>
          <p:nvPr/>
        </p:nvSpPr>
        <p:spPr>
          <a:xfrm>
            <a:off x="7284960" y="533520"/>
            <a:ext cx="144792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Oval 6"/>
          <p:cNvSpPr/>
          <p:nvPr/>
        </p:nvSpPr>
        <p:spPr>
          <a:xfrm>
            <a:off x="2376360" y="5195880"/>
            <a:ext cx="144792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434340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unn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7331040" y="990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lock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268272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3200400" y="3200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star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13"/>
          <p:cNvSpPr/>
          <p:nvPr/>
        </p:nvSpPr>
        <p:spPr>
          <a:xfrm>
            <a:off x="5348160" y="334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sleep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7" name="AutoShape 14"/>
          <p:cNvCxnSpPr>
            <a:stCxn id="199" idx="3"/>
            <a:endCxn id="201" idx="7"/>
          </p:cNvCxnSpPr>
          <p:nvPr/>
        </p:nvCxnSpPr>
        <p:spPr>
          <a:xfrm flipH="1">
            <a:off x="3611160" y="3760920"/>
            <a:ext cx="869040" cy="16372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08" name="Text Box 15"/>
          <p:cNvSpPr/>
          <p:nvPr/>
        </p:nvSpPr>
        <p:spPr>
          <a:xfrm>
            <a:off x="3886200" y="48769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run(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method ex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19"/>
          <p:cNvSpPr/>
          <p:nvPr/>
        </p:nvSpPr>
        <p:spPr>
          <a:xfrm>
            <a:off x="7238880" y="32004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6095880" y="3657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lock on  I/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28"/>
          <p:cNvSpPr/>
          <p:nvPr/>
        </p:nvSpPr>
        <p:spPr>
          <a:xfrm>
            <a:off x="5029200" y="914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one slee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30"/>
          <p:cNvSpPr/>
          <p:nvPr/>
        </p:nvSpPr>
        <p:spPr>
          <a:xfrm>
            <a:off x="5456160" y="1814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wai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Line 32"/>
          <p:cNvSpPr/>
          <p:nvPr/>
        </p:nvSpPr>
        <p:spPr>
          <a:xfrm>
            <a:off x="3124080" y="3124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Line 33"/>
          <p:cNvSpPr/>
          <p:nvPr/>
        </p:nvSpPr>
        <p:spPr>
          <a:xfrm flipV="1">
            <a:off x="5576760" y="1311120"/>
            <a:ext cx="1737000" cy="1570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ine 34"/>
          <p:cNvSpPr/>
          <p:nvPr/>
        </p:nvSpPr>
        <p:spPr>
          <a:xfrm flipH="1">
            <a:off x="5638320" y="1523880"/>
            <a:ext cx="167652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35"/>
          <p:cNvSpPr/>
          <p:nvPr/>
        </p:nvSpPr>
        <p:spPr>
          <a:xfrm>
            <a:off x="6324480" y="2209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notify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7" name="AutoShape 40"/>
          <p:cNvCxnSpPr>
            <a:stCxn id="199" idx="5"/>
            <a:endCxn id="200" idx="5"/>
          </p:cNvCxnSpPr>
          <p:nvPr/>
        </p:nvCxnSpPr>
        <p:spPr>
          <a:xfrm flipH="1" flipV="1" rot="5400000">
            <a:off x="5981400" y="1222560"/>
            <a:ext cx="2057760" cy="3018600"/>
          </a:xfrm>
          <a:prstGeom prst="bentConnector3">
            <a:avLst>
              <a:gd name="adj1" fmla="val -20909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8" name="Line 43"/>
          <p:cNvSpPr/>
          <p:nvPr/>
        </p:nvSpPr>
        <p:spPr>
          <a:xfrm>
            <a:off x="8688240" y="1465200"/>
            <a:ext cx="0" cy="2863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Line 44"/>
          <p:cNvSpPr/>
          <p:nvPr/>
        </p:nvSpPr>
        <p:spPr>
          <a:xfrm flipH="1">
            <a:off x="5165280" y="4343400"/>
            <a:ext cx="3505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46"/>
          <p:cNvSpPr/>
          <p:nvPr/>
        </p:nvSpPr>
        <p:spPr>
          <a:xfrm>
            <a:off x="6354720" y="4295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/O comple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Line 47"/>
          <p:cNvSpPr/>
          <p:nvPr/>
        </p:nvSpPr>
        <p:spPr>
          <a:xfrm flipV="1">
            <a:off x="5151600" y="38862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Line 48"/>
          <p:cNvSpPr/>
          <p:nvPr/>
        </p:nvSpPr>
        <p:spPr>
          <a:xfrm flipV="1">
            <a:off x="4587840" y="792000"/>
            <a:ext cx="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Line 49"/>
          <p:cNvSpPr/>
          <p:nvPr/>
        </p:nvSpPr>
        <p:spPr>
          <a:xfrm>
            <a:off x="4587840" y="792000"/>
            <a:ext cx="2863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Line 51"/>
          <p:cNvSpPr/>
          <p:nvPr/>
        </p:nvSpPr>
        <p:spPr>
          <a:xfrm flipH="1">
            <a:off x="4754520" y="944640"/>
            <a:ext cx="2604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Line 53"/>
          <p:cNvSpPr/>
          <p:nvPr/>
        </p:nvSpPr>
        <p:spPr>
          <a:xfrm>
            <a:off x="4754520" y="944640"/>
            <a:ext cx="0" cy="1676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825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Thread priorities and scheduling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17720" y="13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very thread has a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priority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hich can be increased or decreased by calling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setPriority(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Thread.MIN_PRIORITY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is the minimum priority (defined 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Thread.MAX_PRIORITY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is the maximum priority (defined as 1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en a thread is created, it is given a priority of 5 – defined as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Thread.NORM_PRIO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96920" y="2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Thread scheduling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ffers depending on the operating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indo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ach thread is given a timeslice after which it is pre-empted by another thread of higher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or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equal prio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olaris (UNIX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thread can only be pre-empted by a thread of higher priority. If one is not available, the thread runs to comple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 both cases, lower priority threads can only run if all higher priority threads are bloc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3200400" y="380880"/>
            <a:ext cx="29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unnable threa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6172200" y="380880"/>
            <a:ext cx="23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locked threa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1219320" y="1600200"/>
            <a:ext cx="533160" cy="457200"/>
          </a:xfrm>
          <a:prstGeom prst="rect">
            <a:avLst/>
          </a:prstGeom>
          <a:solidFill>
            <a:srgbClr val="bb561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219320" y="2057400"/>
            <a:ext cx="533160" cy="457200"/>
          </a:xfrm>
          <a:prstGeom prst="rect">
            <a:avLst/>
          </a:prstGeom>
          <a:solidFill>
            <a:srgbClr val="38b01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3352680" y="1371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=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1219320" y="2514600"/>
            <a:ext cx="533160" cy="457200"/>
          </a:xfrm>
          <a:prstGeom prst="rect">
            <a:avLst/>
          </a:prstGeom>
          <a:solidFill>
            <a:srgbClr val="bb561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Rectangle 14"/>
          <p:cNvSpPr/>
          <p:nvPr/>
        </p:nvSpPr>
        <p:spPr>
          <a:xfrm>
            <a:off x="1219320" y="2971800"/>
            <a:ext cx="533160" cy="1295280"/>
          </a:xfrm>
          <a:prstGeom prst="rect">
            <a:avLst/>
          </a:prstGeom>
          <a:solidFill>
            <a:srgbClr val="38b01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Line 15"/>
          <p:cNvSpPr/>
          <p:nvPr/>
        </p:nvSpPr>
        <p:spPr>
          <a:xfrm>
            <a:off x="1752480" y="289548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2057400" y="21337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1828800" y="2438280"/>
            <a:ext cx="29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loc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19"/>
          <p:cNvSpPr/>
          <p:nvPr/>
        </p:nvSpPr>
        <p:spPr>
          <a:xfrm>
            <a:off x="1828800" y="3657600"/>
            <a:ext cx="29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loc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Line 20"/>
          <p:cNvSpPr/>
          <p:nvPr/>
        </p:nvSpPr>
        <p:spPr>
          <a:xfrm>
            <a:off x="1752480" y="411480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Rectangle 21"/>
          <p:cNvSpPr/>
          <p:nvPr/>
        </p:nvSpPr>
        <p:spPr>
          <a:xfrm>
            <a:off x="6553080" y="3809880"/>
            <a:ext cx="533520" cy="457200"/>
          </a:xfrm>
          <a:prstGeom prst="rect">
            <a:avLst/>
          </a:prstGeom>
          <a:solidFill>
            <a:srgbClr val="38b01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Rectangle 22"/>
          <p:cNvSpPr/>
          <p:nvPr/>
        </p:nvSpPr>
        <p:spPr>
          <a:xfrm>
            <a:off x="1219320" y="4267080"/>
            <a:ext cx="53316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24"/>
          <p:cNvSpPr/>
          <p:nvPr/>
        </p:nvSpPr>
        <p:spPr>
          <a:xfrm>
            <a:off x="7315200" y="3809880"/>
            <a:ext cx="533520" cy="457200"/>
          </a:xfrm>
          <a:prstGeom prst="rect">
            <a:avLst/>
          </a:prstGeom>
          <a:solidFill>
            <a:srgbClr val="bb561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Rectangle 25"/>
          <p:cNvSpPr/>
          <p:nvPr/>
        </p:nvSpPr>
        <p:spPr>
          <a:xfrm>
            <a:off x="1219320" y="5257800"/>
            <a:ext cx="533160" cy="990720"/>
          </a:xfrm>
          <a:prstGeom prst="rect">
            <a:avLst/>
          </a:prstGeom>
          <a:solidFill>
            <a:srgbClr val="bb561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26"/>
          <p:cNvSpPr/>
          <p:nvPr/>
        </p:nvSpPr>
        <p:spPr>
          <a:xfrm flipH="1">
            <a:off x="1752480" y="541008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27"/>
          <p:cNvSpPr/>
          <p:nvPr/>
        </p:nvSpPr>
        <p:spPr>
          <a:xfrm>
            <a:off x="1752480" y="5029200"/>
            <a:ext cx="29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n-bloc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Rectangle 28"/>
          <p:cNvSpPr/>
          <p:nvPr/>
        </p:nvSpPr>
        <p:spPr>
          <a:xfrm>
            <a:off x="3429000" y="914400"/>
            <a:ext cx="533520" cy="457200"/>
          </a:xfrm>
          <a:prstGeom prst="rect">
            <a:avLst/>
          </a:prstGeom>
          <a:solidFill>
            <a:srgbClr val="bb561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Rectangle 29"/>
          <p:cNvSpPr/>
          <p:nvPr/>
        </p:nvSpPr>
        <p:spPr>
          <a:xfrm>
            <a:off x="4114800" y="914400"/>
            <a:ext cx="533520" cy="457200"/>
          </a:xfrm>
          <a:prstGeom prst="rect">
            <a:avLst/>
          </a:prstGeom>
          <a:solidFill>
            <a:srgbClr val="38b01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Rectangle 30"/>
          <p:cNvSpPr/>
          <p:nvPr/>
        </p:nvSpPr>
        <p:spPr>
          <a:xfrm>
            <a:off x="4800600" y="914400"/>
            <a:ext cx="5335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31"/>
          <p:cNvSpPr/>
          <p:nvPr/>
        </p:nvSpPr>
        <p:spPr>
          <a:xfrm>
            <a:off x="4038480" y="1371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=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32"/>
          <p:cNvSpPr/>
          <p:nvPr/>
        </p:nvSpPr>
        <p:spPr>
          <a:xfrm>
            <a:off x="4800600" y="1371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=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Rectangle 33"/>
          <p:cNvSpPr/>
          <p:nvPr/>
        </p:nvSpPr>
        <p:spPr>
          <a:xfrm>
            <a:off x="6781680" y="2514600"/>
            <a:ext cx="533520" cy="457200"/>
          </a:xfrm>
          <a:prstGeom prst="rect">
            <a:avLst/>
          </a:prstGeom>
          <a:solidFill>
            <a:srgbClr val="bb561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ctangle 34"/>
          <p:cNvSpPr/>
          <p:nvPr/>
        </p:nvSpPr>
        <p:spPr>
          <a:xfrm>
            <a:off x="6781680" y="5029200"/>
            <a:ext cx="533520" cy="457200"/>
          </a:xfrm>
          <a:prstGeom prst="rect">
            <a:avLst/>
          </a:prstGeom>
          <a:solidFill>
            <a:srgbClr val="38b01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35"/>
          <p:cNvSpPr/>
          <p:nvPr/>
        </p:nvSpPr>
        <p:spPr>
          <a:xfrm>
            <a:off x="4114800" y="2590920"/>
            <a:ext cx="533520" cy="457200"/>
          </a:xfrm>
          <a:prstGeom prst="rect">
            <a:avLst/>
          </a:prstGeom>
          <a:solidFill>
            <a:srgbClr val="38b01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Rectangle 36"/>
          <p:cNvSpPr/>
          <p:nvPr/>
        </p:nvSpPr>
        <p:spPr>
          <a:xfrm>
            <a:off x="4800600" y="2590920"/>
            <a:ext cx="5335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Rectangle 37"/>
          <p:cNvSpPr/>
          <p:nvPr/>
        </p:nvSpPr>
        <p:spPr>
          <a:xfrm>
            <a:off x="4800600" y="3809880"/>
            <a:ext cx="5335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Rectangle 38"/>
          <p:cNvSpPr/>
          <p:nvPr/>
        </p:nvSpPr>
        <p:spPr>
          <a:xfrm>
            <a:off x="4038480" y="5105520"/>
            <a:ext cx="533520" cy="457200"/>
          </a:xfrm>
          <a:prstGeom prst="rect">
            <a:avLst/>
          </a:prstGeom>
          <a:solidFill>
            <a:srgbClr val="bb561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39"/>
          <p:cNvSpPr/>
          <p:nvPr/>
        </p:nvSpPr>
        <p:spPr>
          <a:xfrm>
            <a:off x="4800600" y="5105520"/>
            <a:ext cx="5335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Line 41"/>
          <p:cNvSpPr/>
          <p:nvPr/>
        </p:nvSpPr>
        <p:spPr>
          <a:xfrm>
            <a:off x="5943600" y="228600"/>
            <a:ext cx="0" cy="61722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Conte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reating a thread – th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Thread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arting and running threa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read st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read priorities and schedu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read synchronis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Runnabl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Thread synchronis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9246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reads need to share access to objects and may update shared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r example multiple threads may access a database for an online flight booking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ne thread may be updating a database entry whilst another is reading it may lead to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e can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synchronise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reads so that they must complete their action before another thread is schedu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e do this by tagging methods as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synchroniz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80000"/>
              </a:lnSpc>
              <a:spcBef>
                <a:spcPts val="1225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en a synchronised method is being executed, the object is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locke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and no other method can access the object until the method comple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5"/>
          <p:cNvSpPr/>
          <p:nvPr/>
        </p:nvSpPr>
        <p:spPr>
          <a:xfrm>
            <a:off x="1295280" y="45720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nsynchronised threa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1752480" y="2362320"/>
            <a:ext cx="0" cy="4038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1219320" y="1752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ad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3657600" y="1752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ad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AutoShape 10"/>
          <p:cNvSpPr/>
          <p:nvPr/>
        </p:nvSpPr>
        <p:spPr>
          <a:xfrm>
            <a:off x="2209680" y="2362320"/>
            <a:ext cx="533520" cy="4038480"/>
          </a:xfrm>
          <a:custGeom>
            <a:avLst/>
            <a:gdLst>
              <a:gd name="textAreaLeft" fmla="*/ 0 w 533520"/>
              <a:gd name="textAreaRight" fmla="*/ 192600 w 533520"/>
              <a:gd name="textAreaTop" fmla="*/ 105120 h 4038480"/>
              <a:gd name="textAreaBottom" fmla="*/ 3933360 h 403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64"/>
                </a:lnTo>
                <a:cubicBezTo>
                  <a:pt x="10800" y="9764"/>
                  <a:pt x="16200" y="10664"/>
                  <a:pt x="21600" y="10664"/>
                </a:cubicBezTo>
                <a:cubicBezTo>
                  <a:pt x="16200" y="10664"/>
                  <a:pt x="10800" y="11564"/>
                  <a:pt x="10800" y="1246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2743200" y="38862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pdate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14"/>
          <p:cNvSpPr/>
          <p:nvPr/>
        </p:nvSpPr>
        <p:spPr>
          <a:xfrm>
            <a:off x="4191120" y="2362320"/>
            <a:ext cx="0" cy="4038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18"/>
          <p:cNvSpPr/>
          <p:nvPr/>
        </p:nvSpPr>
        <p:spPr>
          <a:xfrm>
            <a:off x="4724280" y="38862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ad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19"/>
          <p:cNvSpPr/>
          <p:nvPr/>
        </p:nvSpPr>
        <p:spPr>
          <a:xfrm>
            <a:off x="2590920" y="2819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re-em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ext Box 20"/>
          <p:cNvSpPr/>
          <p:nvPr/>
        </p:nvSpPr>
        <p:spPr>
          <a:xfrm>
            <a:off x="2666880" y="5334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re-em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AutoShape 22"/>
          <p:cNvSpPr/>
          <p:nvPr/>
        </p:nvSpPr>
        <p:spPr>
          <a:xfrm>
            <a:off x="4343400" y="335268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Line 23"/>
          <p:cNvSpPr/>
          <p:nvPr/>
        </p:nvSpPr>
        <p:spPr>
          <a:xfrm>
            <a:off x="2666880" y="335268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Line 24"/>
          <p:cNvSpPr/>
          <p:nvPr/>
        </p:nvSpPr>
        <p:spPr>
          <a:xfrm flipH="1">
            <a:off x="2666520" y="525780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1026"/>
          <p:cNvSpPr/>
          <p:nvPr/>
        </p:nvSpPr>
        <p:spPr>
          <a:xfrm>
            <a:off x="1295280" y="3808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ynchronised threa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Line 1027"/>
          <p:cNvSpPr/>
          <p:nvPr/>
        </p:nvSpPr>
        <p:spPr>
          <a:xfrm>
            <a:off x="1752480" y="2286000"/>
            <a:ext cx="0" cy="4038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 Box 1028"/>
          <p:cNvSpPr/>
          <p:nvPr/>
        </p:nvSpPr>
        <p:spPr>
          <a:xfrm>
            <a:off x="1219320" y="1676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ad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1029"/>
          <p:cNvSpPr/>
          <p:nvPr/>
        </p:nvSpPr>
        <p:spPr>
          <a:xfrm>
            <a:off x="3657600" y="1676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ad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AutoShape 1030"/>
          <p:cNvSpPr/>
          <p:nvPr/>
        </p:nvSpPr>
        <p:spPr>
          <a:xfrm>
            <a:off x="2286000" y="2286000"/>
            <a:ext cx="457200" cy="2057400"/>
          </a:xfrm>
          <a:custGeom>
            <a:avLst/>
            <a:gdLst>
              <a:gd name="textAreaLeft" fmla="*/ 0 w 457200"/>
              <a:gd name="textAreaRight" fmla="*/ 164880 w 4572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64"/>
                </a:lnTo>
                <a:cubicBezTo>
                  <a:pt x="10800" y="9764"/>
                  <a:pt x="16200" y="10664"/>
                  <a:pt x="21600" y="10664"/>
                </a:cubicBezTo>
                <a:cubicBezTo>
                  <a:pt x="16200" y="10664"/>
                  <a:pt x="10800" y="11564"/>
                  <a:pt x="10800" y="1246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Text Box 1031"/>
          <p:cNvSpPr/>
          <p:nvPr/>
        </p:nvSpPr>
        <p:spPr>
          <a:xfrm>
            <a:off x="2895480" y="28954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pdate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Line 1032"/>
          <p:cNvSpPr/>
          <p:nvPr/>
        </p:nvSpPr>
        <p:spPr>
          <a:xfrm>
            <a:off x="4191120" y="2286000"/>
            <a:ext cx="0" cy="4038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1033"/>
          <p:cNvSpPr/>
          <p:nvPr/>
        </p:nvSpPr>
        <p:spPr>
          <a:xfrm>
            <a:off x="5105520" y="502920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ad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AutoShape 1036"/>
          <p:cNvSpPr/>
          <p:nvPr/>
        </p:nvSpPr>
        <p:spPr>
          <a:xfrm>
            <a:off x="4343400" y="441972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73240" y="41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Example – An online seat reservation syste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371600" y="2133360"/>
            <a:ext cx="77724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90000"/>
              </a:lnSpc>
              <a:spcBef>
                <a:spcPts val="1225"/>
              </a:spcBef>
              <a:spcAft>
                <a:spcPts val="34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ats for a concert can be reserved through booking ag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-219240">
              <a:lnSpc>
                <a:spcPct val="90000"/>
              </a:lnSpc>
              <a:spcBef>
                <a:spcPts val="1225"/>
              </a:spcBef>
              <a:spcAft>
                <a:spcPts val="34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processing for each booking agent runs in a separate thread – possibly on a different process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-219240">
              <a:lnSpc>
                <a:spcPct val="90000"/>
              </a:lnSpc>
              <a:spcBef>
                <a:spcPts val="1225"/>
              </a:spcBef>
              <a:spcAft>
                <a:spcPts val="34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ach booking transaction must check seat availability before reserving the se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>
              <a:lnSpc>
                <a:spcPct val="90000"/>
              </a:lnSpc>
              <a:spcBef>
                <a:spcPts val="1225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5"/>
          <p:cNvSpPr/>
          <p:nvPr/>
        </p:nvSpPr>
        <p:spPr>
          <a:xfrm>
            <a:off x="3581280" y="4800600"/>
            <a:ext cx="2133720" cy="1143000"/>
          </a:xfrm>
          <a:prstGeom prst="rect">
            <a:avLst/>
          </a:prstGeom>
          <a:solidFill>
            <a:srgbClr val="bb561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3581280" y="502920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at reservation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1905120" y="1219320"/>
            <a:ext cx="12952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1905120" y="13111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ooking agent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9"/>
          <p:cNvSpPr/>
          <p:nvPr/>
        </p:nvSpPr>
        <p:spPr>
          <a:xfrm>
            <a:off x="4038480" y="1219320"/>
            <a:ext cx="129564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xt Box 10"/>
          <p:cNvSpPr/>
          <p:nvPr/>
        </p:nvSpPr>
        <p:spPr>
          <a:xfrm>
            <a:off x="4038480" y="129528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ooking agent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5638680" y="12952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7467480" y="1219320"/>
            <a:ext cx="129564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13"/>
          <p:cNvSpPr/>
          <p:nvPr/>
        </p:nvSpPr>
        <p:spPr>
          <a:xfrm>
            <a:off x="7467480" y="129528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ooking agent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15"/>
          <p:cNvSpPr/>
          <p:nvPr/>
        </p:nvSpPr>
        <p:spPr>
          <a:xfrm>
            <a:off x="6629400" y="3962520"/>
            <a:ext cx="251460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heck avail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serve s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Line 25"/>
          <p:cNvSpPr/>
          <p:nvPr/>
        </p:nvSpPr>
        <p:spPr>
          <a:xfrm flipV="1">
            <a:off x="5791320" y="2209680"/>
            <a:ext cx="2133360" cy="32004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Line 27"/>
          <p:cNvSpPr/>
          <p:nvPr/>
        </p:nvSpPr>
        <p:spPr>
          <a:xfrm flipV="1">
            <a:off x="4724280" y="2209320"/>
            <a:ext cx="0" cy="25146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Text Box 28"/>
          <p:cNvSpPr/>
          <p:nvPr/>
        </p:nvSpPr>
        <p:spPr>
          <a:xfrm>
            <a:off x="4800600" y="2819520"/>
            <a:ext cx="251460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heck avail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serve s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Line 29"/>
          <p:cNvSpPr/>
          <p:nvPr/>
        </p:nvSpPr>
        <p:spPr>
          <a:xfrm flipH="1" flipV="1">
            <a:off x="2361960" y="2209320"/>
            <a:ext cx="1143000" cy="29718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30"/>
          <p:cNvSpPr/>
          <p:nvPr/>
        </p:nvSpPr>
        <p:spPr>
          <a:xfrm>
            <a:off x="1371600" y="3657600"/>
            <a:ext cx="2514600" cy="11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vail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serve s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1066680" y="5331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6000"/>
          </a:bodyPr>
          <a:p>
            <a:pPr marL="123480" indent="-12348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seudo-code for booking a se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234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234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seat n is avail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234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ook seat 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23480" indent="-123480">
              <a:lnSpc>
                <a:spcPct val="90000"/>
              </a:lnSpc>
              <a:spcBef>
                <a:spcPts val="10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not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atom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267480" indent="-102600">
              <a:lnSpc>
                <a:spcPct val="90000"/>
              </a:lnSpc>
              <a:spcBef>
                <a:spcPts val="10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r an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unsynchronised thread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can be pre-empted by another thread after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if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at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267480" indent="-102600">
              <a:lnSpc>
                <a:spcPct val="90000"/>
              </a:lnSpc>
              <a:spcBef>
                <a:spcPts val="876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thread might think the seat is available but it then might be booked by the pre-empting thr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267480" indent="-102600">
              <a:lnSpc>
                <a:spcPct val="90000"/>
              </a:lnSpc>
              <a:spcBef>
                <a:spcPts val="876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seat will be double boo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23480" indent="-12348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ttp://www.eee.bham.ac.uk/spannm/Java%20Stuff/SeatBookingApplet/SeatBookingApplet.htm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3"/>
          <p:cNvSpPr/>
          <p:nvPr/>
        </p:nvSpPr>
        <p:spPr>
          <a:xfrm>
            <a:off x="1143000" y="12193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ooking agent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Line 8"/>
          <p:cNvSpPr/>
          <p:nvPr/>
        </p:nvSpPr>
        <p:spPr>
          <a:xfrm>
            <a:off x="1905120" y="1905120"/>
            <a:ext cx="0" cy="3886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2133720" y="327672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Text Box 24"/>
          <p:cNvSpPr/>
          <p:nvPr/>
        </p:nvSpPr>
        <p:spPr>
          <a:xfrm>
            <a:off x="5410080" y="1295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ooking agent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Line 25"/>
          <p:cNvSpPr/>
          <p:nvPr/>
        </p:nvSpPr>
        <p:spPr>
          <a:xfrm>
            <a:off x="6248520" y="1905120"/>
            <a:ext cx="0" cy="3886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Text Box 28"/>
          <p:cNvSpPr/>
          <p:nvPr/>
        </p:nvSpPr>
        <p:spPr>
          <a:xfrm>
            <a:off x="2438280" y="2286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heck avail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31"/>
          <p:cNvSpPr/>
          <p:nvPr/>
        </p:nvSpPr>
        <p:spPr>
          <a:xfrm>
            <a:off x="2438280" y="4191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ook s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Line 42"/>
          <p:cNvSpPr/>
          <p:nvPr/>
        </p:nvSpPr>
        <p:spPr>
          <a:xfrm>
            <a:off x="2057400" y="19810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Line 43"/>
          <p:cNvSpPr/>
          <p:nvPr/>
        </p:nvSpPr>
        <p:spPr>
          <a:xfrm>
            <a:off x="2362320" y="19810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Line 44"/>
          <p:cNvSpPr/>
          <p:nvPr/>
        </p:nvSpPr>
        <p:spPr>
          <a:xfrm>
            <a:off x="2362320" y="29718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Line 45"/>
          <p:cNvSpPr/>
          <p:nvPr/>
        </p:nvSpPr>
        <p:spPr>
          <a:xfrm>
            <a:off x="2362320" y="40384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Line 46"/>
          <p:cNvSpPr/>
          <p:nvPr/>
        </p:nvSpPr>
        <p:spPr>
          <a:xfrm>
            <a:off x="2057400" y="47242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Line 47"/>
          <p:cNvSpPr/>
          <p:nvPr/>
        </p:nvSpPr>
        <p:spPr>
          <a:xfrm>
            <a:off x="2666880" y="2971800"/>
            <a:ext cx="3353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Text Box 48"/>
          <p:cNvSpPr/>
          <p:nvPr/>
        </p:nvSpPr>
        <p:spPr>
          <a:xfrm>
            <a:off x="304812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re-emp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Line 49"/>
          <p:cNvSpPr/>
          <p:nvPr/>
        </p:nvSpPr>
        <p:spPr>
          <a:xfrm>
            <a:off x="6324480" y="29718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Line 50"/>
          <p:cNvSpPr/>
          <p:nvPr/>
        </p:nvSpPr>
        <p:spPr>
          <a:xfrm>
            <a:off x="6629400" y="29718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Line 51"/>
          <p:cNvSpPr/>
          <p:nvPr/>
        </p:nvSpPr>
        <p:spPr>
          <a:xfrm>
            <a:off x="6324480" y="40384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52"/>
          <p:cNvSpPr/>
          <p:nvPr/>
        </p:nvSpPr>
        <p:spPr>
          <a:xfrm>
            <a:off x="6705720" y="3048120"/>
            <a:ext cx="2590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heck avail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ook s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Line 54"/>
          <p:cNvSpPr/>
          <p:nvPr/>
        </p:nvSpPr>
        <p:spPr>
          <a:xfrm flipH="1">
            <a:off x="2514240" y="4038480"/>
            <a:ext cx="3352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55"/>
          <p:cNvSpPr/>
          <p:nvPr/>
        </p:nvSpPr>
        <p:spPr>
          <a:xfrm>
            <a:off x="3048120" y="3581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-sche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Line 56"/>
          <p:cNvSpPr/>
          <p:nvPr/>
        </p:nvSpPr>
        <p:spPr>
          <a:xfrm>
            <a:off x="1905120" y="5715000"/>
            <a:ext cx="0" cy="53352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Line 57"/>
          <p:cNvSpPr/>
          <p:nvPr/>
        </p:nvSpPr>
        <p:spPr>
          <a:xfrm>
            <a:off x="6248520" y="5791320"/>
            <a:ext cx="0" cy="53316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Text Box 59"/>
          <p:cNvSpPr/>
          <p:nvPr/>
        </p:nvSpPr>
        <p:spPr>
          <a:xfrm>
            <a:off x="2895480" y="2286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nsynchronised threa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1066680" y="228240"/>
            <a:ext cx="7772400" cy="54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2 main cla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SeatBook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tains the seat booking information (just a simple arra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tains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isAvailable(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bookSeat()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ethods which access the seat booking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Booking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tends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Thread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d thus contains a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run()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tains a reference to a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SeatBooking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object which is thus a shared object between all of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BookingAgent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code is as follows (code to output to frames has been omitt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"/>
          <p:cNvSpPr/>
          <p:nvPr/>
        </p:nvSpPr>
        <p:spPr>
          <a:xfrm>
            <a:off x="1523880" y="376200"/>
            <a:ext cx="76201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 SeatBookin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vate int[] seat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SeatBookings(int[] 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ats=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boolean isAvailable(int seatn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turn (seats[seatno]==0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void bookSeat(int seatn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(isAvailable(seatno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ats[seatno]++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boolean doubleBooked(int seatn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turn (seats[seatno]&gt;1);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3"/>
          <p:cNvSpPr/>
          <p:nvPr/>
        </p:nvSpPr>
        <p:spPr>
          <a:xfrm>
            <a:off x="1066680" y="533520"/>
            <a:ext cx="784872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class BookingAgent extends Thread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private SeatBookings sb;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// shared object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public BookingAgent(SeatBookings s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sb=s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public void run(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d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int seatno=(int)(Math.random()*20000)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sb.bookSeat(seatno)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tabLst>
                <a:tab algn="l" pos="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  <a:tab algn="l" pos="845172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if (sb.doubleBooked(seatno)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// generate a warning dialog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} while (true)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8960" y="14479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You are used to computers (operating systems) being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multi-tas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You can browse the web whilst editing your Java program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ulti-tasking refers to an operating system running several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processes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urren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ach process has its own completely independent dat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ulti-tasking is difficult to incorporate in application programs requiring system programming primiti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1170000" y="609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can synchronise the threads by tagging th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SeatBookings.bookSeat()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ethod as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synchronized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SeatBooking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bject is then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locked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y the thread which has current ac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0" name="Group 18"/>
          <p:cNvGrpSpPr/>
          <p:nvPr/>
        </p:nvGrpSpPr>
        <p:grpSpPr>
          <a:xfrm>
            <a:off x="3048120" y="3260880"/>
            <a:ext cx="4800600" cy="3063600"/>
            <a:chOff x="3048120" y="3260880"/>
            <a:chExt cx="4800600" cy="3063600"/>
          </a:xfrm>
        </p:grpSpPr>
        <p:sp>
          <p:nvSpPr>
            <p:cNvPr id="331" name="Rectangle 6"/>
            <p:cNvSpPr/>
            <p:nvPr/>
          </p:nvSpPr>
          <p:spPr>
            <a:xfrm>
              <a:off x="4038480" y="5181480"/>
              <a:ext cx="2895840" cy="1143000"/>
            </a:xfrm>
            <a:prstGeom prst="rect">
              <a:avLst/>
            </a:prstGeom>
            <a:solidFill>
              <a:srgbClr val="bb561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Text Box 7"/>
            <p:cNvSpPr/>
            <p:nvPr/>
          </p:nvSpPr>
          <p:spPr>
            <a:xfrm>
              <a:off x="4191120" y="548640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SeatBookings objec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Rectangle 8"/>
            <p:cNvSpPr/>
            <p:nvPr/>
          </p:nvSpPr>
          <p:spPr>
            <a:xfrm>
              <a:off x="3124080" y="3260880"/>
              <a:ext cx="129564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Text Box 9"/>
            <p:cNvSpPr/>
            <p:nvPr/>
          </p:nvSpPr>
          <p:spPr>
            <a:xfrm>
              <a:off x="3124080" y="3352680"/>
              <a:ext cx="1295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Booking agent 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Rectangle 10"/>
            <p:cNvSpPr/>
            <p:nvPr/>
          </p:nvSpPr>
          <p:spPr>
            <a:xfrm>
              <a:off x="5257800" y="3260880"/>
              <a:ext cx="129528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Text Box 11"/>
            <p:cNvSpPr/>
            <p:nvPr/>
          </p:nvSpPr>
          <p:spPr>
            <a:xfrm>
              <a:off x="5257800" y="3336840"/>
              <a:ext cx="129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Booking agent 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Line 12"/>
            <p:cNvSpPr/>
            <p:nvPr/>
          </p:nvSpPr>
          <p:spPr>
            <a:xfrm>
              <a:off x="4038480" y="4343400"/>
              <a:ext cx="762120" cy="762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Text Box 14"/>
            <p:cNvSpPr/>
            <p:nvPr/>
          </p:nvSpPr>
          <p:spPr>
            <a:xfrm>
              <a:off x="3048120" y="449568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lock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Line 15"/>
            <p:cNvSpPr/>
            <p:nvPr/>
          </p:nvSpPr>
          <p:spPr>
            <a:xfrm flipH="1">
              <a:off x="5486040" y="4343400"/>
              <a:ext cx="685800" cy="68580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Line 16"/>
            <p:cNvSpPr/>
            <p:nvPr/>
          </p:nvSpPr>
          <p:spPr>
            <a:xfrm>
              <a:off x="5562720" y="4343400"/>
              <a:ext cx="609480" cy="609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Text Box 17"/>
            <p:cNvSpPr/>
            <p:nvPr/>
          </p:nvSpPr>
          <p:spPr>
            <a:xfrm>
              <a:off x="6324480" y="441972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locked ou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31"/>
          <p:cNvSpPr/>
          <p:nvPr/>
        </p:nvSpPr>
        <p:spPr>
          <a:xfrm>
            <a:off x="2514600" y="3808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ynchronised threa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Text Box 32"/>
          <p:cNvSpPr/>
          <p:nvPr/>
        </p:nvSpPr>
        <p:spPr>
          <a:xfrm>
            <a:off x="1066680" y="12193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ooking agent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Line 33"/>
          <p:cNvSpPr/>
          <p:nvPr/>
        </p:nvSpPr>
        <p:spPr>
          <a:xfrm flipH="1">
            <a:off x="1980720" y="1828800"/>
            <a:ext cx="1800" cy="2895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Text Box 35"/>
          <p:cNvSpPr/>
          <p:nvPr/>
        </p:nvSpPr>
        <p:spPr>
          <a:xfrm>
            <a:off x="5486400" y="12193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ooking agent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Line 36"/>
          <p:cNvSpPr/>
          <p:nvPr/>
        </p:nvSpPr>
        <p:spPr>
          <a:xfrm flipH="1">
            <a:off x="6324120" y="1828800"/>
            <a:ext cx="1800" cy="3886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Text Box 37"/>
          <p:cNvSpPr/>
          <p:nvPr/>
        </p:nvSpPr>
        <p:spPr>
          <a:xfrm>
            <a:off x="2666880" y="2057400"/>
            <a:ext cx="2676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heck avail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ook s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Line 52"/>
          <p:cNvSpPr/>
          <p:nvPr/>
        </p:nvSpPr>
        <p:spPr>
          <a:xfrm>
            <a:off x="6324480" y="5715000"/>
            <a:ext cx="1800" cy="53352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Line 53"/>
          <p:cNvSpPr/>
          <p:nvPr/>
        </p:nvSpPr>
        <p:spPr>
          <a:xfrm>
            <a:off x="2133720" y="18288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Line 54"/>
          <p:cNvSpPr/>
          <p:nvPr/>
        </p:nvSpPr>
        <p:spPr>
          <a:xfrm>
            <a:off x="2514600" y="1828800"/>
            <a:ext cx="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Line 55"/>
          <p:cNvSpPr/>
          <p:nvPr/>
        </p:nvSpPr>
        <p:spPr>
          <a:xfrm>
            <a:off x="2133720" y="32767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Line 56"/>
          <p:cNvSpPr/>
          <p:nvPr/>
        </p:nvSpPr>
        <p:spPr>
          <a:xfrm>
            <a:off x="6477120" y="3352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Line 57"/>
          <p:cNvSpPr/>
          <p:nvPr/>
        </p:nvSpPr>
        <p:spPr>
          <a:xfrm>
            <a:off x="6858000" y="3352680"/>
            <a:ext cx="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Line 58"/>
          <p:cNvSpPr/>
          <p:nvPr/>
        </p:nvSpPr>
        <p:spPr>
          <a:xfrm>
            <a:off x="6477120" y="4800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59"/>
          <p:cNvSpPr/>
          <p:nvPr/>
        </p:nvSpPr>
        <p:spPr>
          <a:xfrm>
            <a:off x="6858000" y="3505320"/>
            <a:ext cx="2676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heck avail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ook s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Line 61"/>
          <p:cNvSpPr/>
          <p:nvPr/>
        </p:nvSpPr>
        <p:spPr>
          <a:xfrm>
            <a:off x="1981080" y="4724280"/>
            <a:ext cx="0" cy="1828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Line 62"/>
          <p:cNvSpPr/>
          <p:nvPr/>
        </p:nvSpPr>
        <p:spPr>
          <a:xfrm>
            <a:off x="2133720" y="49528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Line 63"/>
          <p:cNvSpPr/>
          <p:nvPr/>
        </p:nvSpPr>
        <p:spPr>
          <a:xfrm>
            <a:off x="2514600" y="4952880"/>
            <a:ext cx="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Line 64"/>
          <p:cNvSpPr/>
          <p:nvPr/>
        </p:nvSpPr>
        <p:spPr>
          <a:xfrm>
            <a:off x="2133720" y="64008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Text Box 65"/>
          <p:cNvSpPr/>
          <p:nvPr/>
        </p:nvSpPr>
        <p:spPr>
          <a:xfrm>
            <a:off x="2590920" y="5105520"/>
            <a:ext cx="2676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heck avail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ook s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11430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imple change to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1905120" y="1523880"/>
            <a:ext cx="647676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 SeatBookin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synchronized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id bookSeat(int seatn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1219320" y="4876920"/>
            <a:ext cx="7315200" cy="17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 double booking then takes pl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-1652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eee.bham.ac.uk/spannm/Java%20Stuff/SeatBooking%20SynchApplet/SeatBookingSynchApplet.htm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The </a:t>
            </a:r>
            <a:r>
              <a:rPr b="0" i="1" lang="en-GB" sz="4400" spc="-1" strike="noStrike">
                <a:solidFill>
                  <a:srgbClr val="00ffff"/>
                </a:solidFill>
                <a:latin typeface="Times New Roman"/>
              </a:rPr>
              <a:t>Runnable</a:t>
            </a: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 interfa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7772400" cy="29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o far, to develop classes which support multi-threading we have extended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Threa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class and overwritten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run(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is causes problems if the class is already extended from another 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ava doesn’t support multiple inheri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Group 13"/>
          <p:cNvGrpSpPr/>
          <p:nvPr/>
        </p:nvGrpSpPr>
        <p:grpSpPr>
          <a:xfrm>
            <a:off x="2362320" y="4419720"/>
            <a:ext cx="3886200" cy="2133360"/>
            <a:chOff x="2362320" y="4419720"/>
            <a:chExt cx="3886200" cy="2133360"/>
          </a:xfrm>
        </p:grpSpPr>
        <p:sp>
          <p:nvSpPr>
            <p:cNvPr id="367" name="Rectangle 4"/>
            <p:cNvSpPr/>
            <p:nvPr/>
          </p:nvSpPr>
          <p:spPr>
            <a:xfrm>
              <a:off x="3352680" y="5715000"/>
              <a:ext cx="1600200" cy="838080"/>
            </a:xfrm>
            <a:prstGeom prst="rect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Rectangle 5"/>
            <p:cNvSpPr/>
            <p:nvPr/>
          </p:nvSpPr>
          <p:spPr>
            <a:xfrm>
              <a:off x="2362320" y="4419720"/>
              <a:ext cx="1600200" cy="838080"/>
            </a:xfrm>
            <a:prstGeom prst="rect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Text Box 6"/>
            <p:cNvSpPr/>
            <p:nvPr/>
          </p:nvSpPr>
          <p:spPr>
            <a:xfrm>
              <a:off x="3429000" y="59436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MyCla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Line 7"/>
            <p:cNvSpPr/>
            <p:nvPr/>
          </p:nvSpPr>
          <p:spPr>
            <a:xfrm flipV="1">
              <a:off x="4343400" y="5334120"/>
              <a:ext cx="609480" cy="3808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Text Box 8"/>
            <p:cNvSpPr/>
            <p:nvPr/>
          </p:nvSpPr>
          <p:spPr>
            <a:xfrm>
              <a:off x="2438280" y="46483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SuperCla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Rectangle 9"/>
            <p:cNvSpPr/>
            <p:nvPr/>
          </p:nvSpPr>
          <p:spPr>
            <a:xfrm>
              <a:off x="4419720" y="4419720"/>
              <a:ext cx="1600200" cy="838080"/>
            </a:xfrm>
            <a:prstGeom prst="rect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Text Box 10"/>
            <p:cNvSpPr/>
            <p:nvPr/>
          </p:nvSpPr>
          <p:spPr>
            <a:xfrm>
              <a:off x="4648320" y="46483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Threa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Line 11"/>
            <p:cNvSpPr/>
            <p:nvPr/>
          </p:nvSpPr>
          <p:spPr>
            <a:xfrm flipH="1" flipV="1">
              <a:off x="3124080" y="5334120"/>
              <a:ext cx="53352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Line 12"/>
            <p:cNvSpPr/>
            <p:nvPr/>
          </p:nvSpPr>
          <p:spPr>
            <a:xfrm>
              <a:off x="4495680" y="5334120"/>
              <a:ext cx="38124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1170000" y="533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is is generally a problem if we want outer containers (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JFram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JApple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 objects to support multi-thre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simple solution is to make our class implement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Runnabl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inte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would then need to implement a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 run()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ethod in the usual 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1523880" y="3886200"/>
            <a:ext cx="731520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yClass extends superClass implements Runn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void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un() {…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1170000" y="6854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thread is created and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MyClass.run()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arted as follows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1600200" y="2209680"/>
            <a:ext cx="7315200" cy="18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yClass myObject=new Myclass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ad t=new Thread(myObject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.start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Text Box 5"/>
          <p:cNvSpPr/>
          <p:nvPr/>
        </p:nvSpPr>
        <p:spPr>
          <a:xfrm>
            <a:off x="1295280" y="4267080"/>
            <a:ext cx="7162920" cy="29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call to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Thread(Runnable r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creates a thr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7800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lling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Thread.start(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then automatically calls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run()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ethod of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Runnabl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ob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Example – a counter apple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e will create an applet which has 2 butt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art Cou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set Cou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thread to do the counting must run in a separated thread to the one which handles button pre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wing programs create an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event dispatch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thread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ich handles all the events generated by the program (including window events for repainting graphics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2"/>
          <p:cNvSpPr/>
          <p:nvPr/>
        </p:nvSpPr>
        <p:spPr>
          <a:xfrm>
            <a:off x="3505320" y="53352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vent dispatch thr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1143000" y="609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thr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Text Box 5"/>
          <p:cNvSpPr/>
          <p:nvPr/>
        </p:nvSpPr>
        <p:spPr>
          <a:xfrm>
            <a:off x="6400800" y="6094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unting thr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Line 6"/>
          <p:cNvSpPr/>
          <p:nvPr/>
        </p:nvSpPr>
        <p:spPr>
          <a:xfrm>
            <a:off x="1447920" y="1219320"/>
            <a:ext cx="0" cy="2895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Line 9"/>
          <p:cNvSpPr/>
          <p:nvPr/>
        </p:nvSpPr>
        <p:spPr>
          <a:xfrm>
            <a:off x="4114800" y="2895480"/>
            <a:ext cx="0" cy="2438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Line 10"/>
          <p:cNvSpPr/>
          <p:nvPr/>
        </p:nvSpPr>
        <p:spPr>
          <a:xfrm>
            <a:off x="4114800" y="4876920"/>
            <a:ext cx="0" cy="129528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Text Box 11"/>
          <p:cNvSpPr/>
          <p:nvPr/>
        </p:nvSpPr>
        <p:spPr>
          <a:xfrm>
            <a:off x="1523880" y="16765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nstruct applet contai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Line 13"/>
          <p:cNvSpPr/>
          <p:nvPr/>
        </p:nvSpPr>
        <p:spPr>
          <a:xfrm>
            <a:off x="1600200" y="2895480"/>
            <a:ext cx="2362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Text Box 14"/>
          <p:cNvSpPr/>
          <p:nvPr/>
        </p:nvSpPr>
        <p:spPr>
          <a:xfrm>
            <a:off x="1676520" y="28954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how contai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Text Box 15"/>
          <p:cNvSpPr/>
          <p:nvPr/>
        </p:nvSpPr>
        <p:spPr>
          <a:xfrm>
            <a:off x="1143000" y="4191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x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Line 16"/>
          <p:cNvSpPr/>
          <p:nvPr/>
        </p:nvSpPr>
        <p:spPr>
          <a:xfrm>
            <a:off x="4267080" y="350532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Text Box 17"/>
          <p:cNvSpPr/>
          <p:nvPr/>
        </p:nvSpPr>
        <p:spPr>
          <a:xfrm>
            <a:off x="4343400" y="35812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Star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button pres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Line 18"/>
          <p:cNvSpPr/>
          <p:nvPr/>
        </p:nvSpPr>
        <p:spPr>
          <a:xfrm>
            <a:off x="6934320" y="3505320"/>
            <a:ext cx="0" cy="2209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Line 19"/>
          <p:cNvSpPr/>
          <p:nvPr/>
        </p:nvSpPr>
        <p:spPr>
          <a:xfrm>
            <a:off x="6934320" y="5334120"/>
            <a:ext cx="0" cy="129528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Text Box 20"/>
          <p:cNvSpPr/>
          <p:nvPr/>
        </p:nvSpPr>
        <p:spPr>
          <a:xfrm>
            <a:off x="7010280" y="35053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tart counting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Text Box 21"/>
          <p:cNvSpPr/>
          <p:nvPr/>
        </p:nvSpPr>
        <p:spPr>
          <a:xfrm>
            <a:off x="4343400" y="48769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Rese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button pres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Line 22"/>
          <p:cNvSpPr/>
          <p:nvPr/>
        </p:nvSpPr>
        <p:spPr>
          <a:xfrm>
            <a:off x="4267080" y="480060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Text Box 23"/>
          <p:cNvSpPr/>
          <p:nvPr/>
        </p:nvSpPr>
        <p:spPr>
          <a:xfrm>
            <a:off x="7086600" y="4572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set cou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7724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following applet doesn’t use a separate thread to do the coun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utton press events or repainting events can’t be handled once counting beg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ttp://www.eee.bham.ac.uk/spannm/Java%20Stuff/CounterApplet/CounterApplet.htm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following applet generates a separate thread for the cou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eee.bham.ac.uk/spannm/Java%20Stuff/RunnableTestApplet/RunnableTestApplet.htm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1143000" y="228600"/>
            <a:ext cx="8001000" cy="68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public class RunnableTestApplet extends JApplet implements Runnable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public void init(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// Generate outer container …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addButton(p,"Start Count",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new ActionListener(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public void actionPerformed(ActionEvent evt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startCount()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Aft>
                <a:spcPts val="862"/>
              </a:spcAft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})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addButton(p,"Reset Count",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new ActionListener(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{  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public void actionPerformed(ActionEvent evt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{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resetCount()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}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})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// Add buttons to container …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0666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ava is the only commonly used programming language that enables concurrency to be implemented within application pro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Multi-thre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 application program can be written as a set of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thread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hich run concurrently (in paralle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thread is different from a process in that threads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share the same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witching between threads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volves much less overhead than switching between pro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aring data can lead to programming complications (for example in reading/writing databas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1143000" y="304920"/>
            <a:ext cx="5943600" cy="62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void startCoun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ner=new Thread(thi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ner.start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void resetCoun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ner.interrupt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nt=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/ repaint fr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void run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ile (!Thread.interrupted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nt++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/ repaint fr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rivate Thread runner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/ end of class RunnableTestAppl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And finally….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ulti-threading is compl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ke sure you understand the code for the first example we looked 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un the applet from my web site and scrutinize th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ulti-threading is the basis of many applications and, as we have seen, particularly crucial in graphical/event driven program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 the last lab exercise, you will have the opportunity to write a multi-threading server for a network-based  gam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170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Creating threads – the </a:t>
            </a:r>
            <a:r>
              <a:rPr b="0" i="1" lang="en-GB" sz="4400" spc="-1" strike="noStrike">
                <a:solidFill>
                  <a:srgbClr val="00ffff"/>
                </a:solidFill>
                <a:latin typeface="Times New Roman"/>
              </a:rPr>
              <a:t>Thread</a:t>
            </a: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 clas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1341000"/>
            <a:ext cx="7772400" cy="12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o run a piece of code in a separate thread it is placed in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run(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method of a class which extends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Thr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1676520" y="2819520"/>
            <a:ext cx="6140160" cy="34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39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class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ThreadApp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extends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Thread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9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9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public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void run(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9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9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// This code runs in a new thread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9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9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9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public static void main(String args[]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9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9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ThreadApp m=new ThreadApp()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9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m.start()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9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9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143000" y="609120"/>
            <a:ext cx="7494480" cy="14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Thread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lass has a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start()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ethod which automatically calls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run(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Group 17"/>
          <p:cNvGrpSpPr/>
          <p:nvPr/>
        </p:nvGrpSpPr>
        <p:grpSpPr>
          <a:xfrm>
            <a:off x="1371600" y="2209680"/>
            <a:ext cx="7391520" cy="4191120"/>
            <a:chOff x="1371600" y="2209680"/>
            <a:chExt cx="7391520" cy="4191120"/>
          </a:xfrm>
        </p:grpSpPr>
        <p:sp>
          <p:nvSpPr>
            <p:cNvPr id="165" name="Line 7"/>
            <p:cNvSpPr/>
            <p:nvPr/>
          </p:nvSpPr>
          <p:spPr>
            <a:xfrm>
              <a:off x="3200400" y="2209680"/>
              <a:ext cx="0" cy="3276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Line 8"/>
            <p:cNvSpPr/>
            <p:nvPr/>
          </p:nvSpPr>
          <p:spPr>
            <a:xfrm>
              <a:off x="3200400" y="5486400"/>
              <a:ext cx="0" cy="91440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1371600" y="22860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ffffff"/>
                  </a:solidFill>
                  <a:latin typeface="Times New Roman"/>
                </a:rPr>
                <a:t>main() 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threa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Line 11"/>
            <p:cNvSpPr/>
            <p:nvPr/>
          </p:nvSpPr>
          <p:spPr>
            <a:xfrm>
              <a:off x="3200400" y="3124080"/>
              <a:ext cx="3048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Line 12"/>
            <p:cNvSpPr/>
            <p:nvPr/>
          </p:nvSpPr>
          <p:spPr>
            <a:xfrm>
              <a:off x="6477120" y="3200400"/>
              <a:ext cx="0" cy="2362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6629400" y="380988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new threa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Text Box 15"/>
            <p:cNvSpPr/>
            <p:nvPr/>
          </p:nvSpPr>
          <p:spPr>
            <a:xfrm>
              <a:off x="3429000" y="259092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new thread creat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Line 16"/>
            <p:cNvSpPr/>
            <p:nvPr/>
          </p:nvSpPr>
          <p:spPr>
            <a:xfrm>
              <a:off x="6477120" y="5486400"/>
              <a:ext cx="0" cy="91440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28600" y="31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09520" y="1581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following simple application creates separate threads to update a count within a wind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ttp://www.eee.bham.ac.uk/spannm/Java%20Stuff/ThreadTestApplet/ThreadTestApplet.htm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Line 1026"/>
          <p:cNvSpPr/>
          <p:nvPr/>
        </p:nvSpPr>
        <p:spPr>
          <a:xfrm>
            <a:off x="2133720" y="1143000"/>
            <a:ext cx="0" cy="3352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1027"/>
          <p:cNvSpPr/>
          <p:nvPr/>
        </p:nvSpPr>
        <p:spPr>
          <a:xfrm>
            <a:off x="1371600" y="457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thr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Line 1028"/>
          <p:cNvSpPr/>
          <p:nvPr/>
        </p:nvSpPr>
        <p:spPr>
          <a:xfrm>
            <a:off x="4267080" y="1981080"/>
            <a:ext cx="0" cy="2514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Line 1029"/>
          <p:cNvSpPr/>
          <p:nvPr/>
        </p:nvSpPr>
        <p:spPr>
          <a:xfrm>
            <a:off x="6400800" y="2514600"/>
            <a:ext cx="0" cy="1981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Line 1030"/>
          <p:cNvSpPr/>
          <p:nvPr/>
        </p:nvSpPr>
        <p:spPr>
          <a:xfrm>
            <a:off x="2286000" y="198108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1031"/>
          <p:cNvSpPr/>
          <p:nvPr/>
        </p:nvSpPr>
        <p:spPr>
          <a:xfrm>
            <a:off x="2362320" y="11430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ate counter thr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Line 1032"/>
          <p:cNvSpPr/>
          <p:nvPr/>
        </p:nvSpPr>
        <p:spPr>
          <a:xfrm>
            <a:off x="4267080" y="4495680"/>
            <a:ext cx="0" cy="99072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1033"/>
          <p:cNvSpPr/>
          <p:nvPr/>
        </p:nvSpPr>
        <p:spPr>
          <a:xfrm>
            <a:off x="4419720" y="27432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ate counter thr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1034"/>
          <p:cNvSpPr/>
          <p:nvPr/>
        </p:nvSpPr>
        <p:spPr>
          <a:xfrm>
            <a:off x="2286000" y="2514600"/>
            <a:ext cx="4038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Line 1035"/>
          <p:cNvSpPr/>
          <p:nvPr/>
        </p:nvSpPr>
        <p:spPr>
          <a:xfrm>
            <a:off x="6400800" y="4495680"/>
            <a:ext cx="0" cy="99072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Line 1036"/>
          <p:cNvSpPr/>
          <p:nvPr/>
        </p:nvSpPr>
        <p:spPr>
          <a:xfrm>
            <a:off x="2133720" y="4495680"/>
            <a:ext cx="0" cy="99072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1037"/>
          <p:cNvSpPr/>
          <p:nvPr/>
        </p:nvSpPr>
        <p:spPr>
          <a:xfrm>
            <a:off x="6781680" y="320040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066680" y="380520"/>
            <a:ext cx="7772400" cy="560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lass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Count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tores the current count and a frame to display the tex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has a a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run()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method which simply slowly counts upwards within a separate thre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1828800" y="2971800"/>
            <a:ext cx="533412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 Counter extends Thr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Counter(LabelFrame fram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…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void run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..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vate int count=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vate LabelFrame labelFrame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6T13:16:20Z</dcterms:created>
  <dc:creator>spannm</dc:creator>
  <dc:description/>
  <dc:language>en-US</dc:language>
  <cp:lastModifiedBy>spannm</cp:lastModifiedBy>
  <dcterms:modified xsi:type="dcterms:W3CDTF">2009-12-03T11:20:54Z</dcterms:modified>
  <cp:revision>165</cp:revision>
  <dc:subject/>
  <dc:title>EE2E1. JAVA Programming  </dc:title>
</cp:coreProperties>
</file>