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8463-7BFB-4D93-82C7-F02FCFFCF1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7E3-BA9A-4B5F-ACB8-39A03ACB28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704-2C0B-4161-B0B8-09C9560B20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C681-75FE-4E80-8B04-0F07E5EEF09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8E8-EFAB-4B3A-8222-CEF058D261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6D25-8805-47B8-8F3D-2F233E9D20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2D32-EB09-46D2-8A02-3E36A8CEF80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A27B-E9DA-4746-B9E8-72BFBE3472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BA83-A7A8-4F00-A7CD-BCEA22689B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741-83EB-4FC9-956D-E39D2942F4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0A7C-EE81-4E72-93BA-024A8A91FD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7B7-AA02-402F-94BB-967D983AC7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6D0-B407-411A-8466-3CCF8F756D9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EF79-6835-4756-A4EC-EAF55C9F87A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409E-135E-419F-A38C-5E731A216B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DC3-D054-47C3-827C-924AE2E883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485A-7F44-4084-86BB-4547A73F102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3F1F-68CA-455F-8C37-B727D4921A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AFE-1A71-4599-8BF5-BFB498D925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CBE4-3D78-49B9-A3EB-9FEC9F17DAF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E8D-4B7E-423B-902F-50D5B811FC2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FE7-1A52-4A69-BFA7-0DABF454D2B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3FE9-CB98-4E6F-A78C-85020EE9AFD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5421-C7FC-48E0-9F31-74DE09EF6E7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255F-7FA3-4500-8671-0B55086EED1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A0F-6F92-48C1-B48B-540D4AC0855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3229-746B-4F12-B283-DE608F3A0B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C52-A1E3-47DC-8FA1-02067DC55A6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741-A452-45CD-AF30-155C73D4711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3D21-C6F4-45ED-ADBD-2EF0DB15E6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9E8-A95F-43F6-AE2A-5455DFDE8F8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698-036C-4355-8FEA-223443CDA0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9717-3D52-4AED-B349-3875F67036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8C54-7D6C-4580-AE3E-A0CE728E946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2E5C-310D-453F-B233-B79A06CC1AB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BE19-B61A-4817-B853-890710FE640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60F-0DA5-4213-8374-A20AC1DB01E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D972-E1FA-4F9B-AFC4-BFC7CA72C9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EA0D-9B92-4F0D-B599-BAB715B8FF3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4D5-3168-46C2-BF69-B020634684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39B-B045-4F62-BCB0-CA76740F48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49CC-0DA9-4D74-B9B6-56417D747E3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CFF-51F8-460A-8964-3B94356C8A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9FB-17D0-4C6F-916F-AA04A944B97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F84C-C815-4F63-8215-E8AD4BEF15B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DFBD-0C06-46CA-B065-01B30EBF299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2BEC-DAC0-4092-B85A-38E3C36273F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4D47-E1B4-4E8C-B777-BB9639FF9F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822-5F7D-48F6-B186-C75AC5698AC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70D-2737-435B-A7C4-897ADC93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AA6-FF18-4AED-824C-CF30A047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234-7E0A-4777-A596-D7B96E69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972-E5F8-4B3F-9784-CD6458E6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1C07-8084-4CE0-9B3D-B56A9CF2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825B-DB46-4F37-9AF1-CB07459B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CB73-4FA9-4103-B937-FDD4E8C9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7BD8-1AEB-4655-8AD1-501CC94E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D748-942D-4377-A7D6-E63F69D6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D02F-9EEA-4E76-BACC-6B88F2F4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1005-55C4-4FEC-AA6F-5AC2157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3BE-867D-410B-9003-38CAA187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9790-7763-410B-A726-817E093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EA57-C77A-4CB4-9699-B478AE4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C884-4245-4C72-B21C-F03F16A5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8579-775C-4D88-A12B-0B8DE49C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2C5-2D6A-422E-A4D6-19EC355F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60F-55C5-40F9-8BF9-A76B09B3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BC6-833E-4DAA-9937-13F93F0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34D-AAD1-441E-9C9F-21D7B2F5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D22-BE06-43AA-BBEE-5B49C02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C18-8DEB-4960-8EDB-36F0EE8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891-9B64-450C-8AA8-1BA1C97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3DC-50EC-4C4B-9B55-36AED8F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7FD0-DAC8-43E1-80E7-2C6C06B74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6FEA-821C-4C12-9A6B-8F7F9337F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ham.ac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twork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680" y="380520"/>
            <a:ext cx="777240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e that Java also provides a mechanism for the user datagram protocol (UDP) which is a simpler transport protocol that T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gra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ocket is the abstraction to a UDP so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fference between TCP and UDP is like the difference between a telephone conversation (albeit sent in packets) and sending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6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 it stands, attempting to read from a socket will block until data becomes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s possible to set a timeout (in ms) after which a socket read will throw an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600200" y="39625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HTTP_PORT=8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s= new Socket(“java.sun.com”,HTTP_POR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.setSoTimeOut(5000)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5 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putStream instream=s.getInputStream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y{ // read socke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ch(InterruptedIOException e) { // process exception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bove code assumes we have already created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ock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 from which to call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tSoTimeOut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ock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nstructor can itself block if it can’t make a conn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possible if the server is un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s a multi-threaded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1143000" y="297000"/>
            <a:ext cx="8001000" cy="62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lass SocketOpener implements Run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blic void SocketOpener(String aHost, int aPort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t aTimeOut) {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blic Socket openSocke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hread t=new Thread(thi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// Calls the run meth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.join(timeOut);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// Returns when thread dies or timeout expi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atch (interruptedException e) {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return socke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blic void ru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// Opens a sock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ry{socket=new Socket(host,port);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atch (IOException e) {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ivate int timeOu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ivate String hos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ivate int por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ivate Socket socke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now implement a simple client program which opens a socket to communicate with a 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hostname is supplied from the command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GET command is sent to the 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a HTTP command to return the requested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 “GET / HTTP/1.0” means get the root page (/) from the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erver will then return the requested information which is just HTML 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71680" y="35712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class Web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Read command line ar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ing hos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ing resour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 (args.length==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ost=args[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source=args[1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ystem.out.println("Getting " + resource + " from " + hos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ystem.out.println("Getting / from java.sun.com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ost="java.sun.com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source="/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295280" y="0"/>
            <a:ext cx="7543800" cy="67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Open s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nal int HTTP_PORT=8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ocketOpener so=new SocketOpener(host, HTTP_PORT, 1000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ocket s=so.openSocke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Get stre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 (s!=nu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putStream instream=s.getIn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utputStream outstream=s.getOut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Turn streams in scanners and wri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anner in=new Scanner(instrea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intWriter out=new PrintWriter(outstrea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Send 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ing command="GET " + resource + " HTTP/1.0\n\n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ut.print(comman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ut.flush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828800" y="457200"/>
            <a:ext cx="640080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Read response from the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hile (in.hasNextLine(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ing input=in.next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ystem.out.println(input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Close s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ystem.out.println("Error - couldn't open socket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tch(IOException e) {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157400" y="762120"/>
            <a:ext cx="79866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 simple server progra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server is a program which waits for a client to connect to it at a specified 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rmally a server would specify some application level protocol (such as HTTP) enabling clients to interact with the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start with, we will look at a simple server which simply echo’s the text sent to it by the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ill use telnet as the client to test out our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oduction to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CP/IP So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imple clien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imple server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erver with multiple cl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 – a simple email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RL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vanced networking technologies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rverSock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is created to establish a server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cept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then waits for a client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cept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its indefinitely and return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ocke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at represents the connection to the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981080" y="396252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portNumber=825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Socket s=new ServerSocket(portNumb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clientSoc=s.accep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09480" y="304920"/>
            <a:ext cx="891540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Echo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Socket s=new ServerSocket(825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clientSoc=s.accep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fferedReader in=new BufferedReader(new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putStreamReader(clientSoc.getInputStream()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ntWriter out=new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ntWriter(clientSoc.getOutputStream(),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.println("Hello client! Enter BYE to exit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752480" y="533520"/>
            <a:ext cx="6858000" cy="62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lean done=fals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le (!d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line=in.readLi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line==null) done=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.println("Echo: " + lin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line.trim().equals("BYE"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ne=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Soc.clo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ch(Exception e){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run the telnet client on the local host (IP 127.0.0.1) at port 82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telnet 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590920" y="2362320"/>
            <a:ext cx="374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590920" y="2362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n 127.0.0.1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73915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 server with multiple cli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real world a server will want to link to many cl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s include servers providing information (such as weather or travel info) or online ticket bo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early we don’t want a single client program to ‘hog’ a server and prevent other clients from accessing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implementing a multi-threaded server, we can allow multiple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simply need to create a new thread to handle each newly accepted client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6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1523880" y="2666880"/>
            <a:ext cx="7315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19320" y="838080"/>
            <a:ext cx="79246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portNumber=825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Socket s=new ServerSocket(portNumb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le(true)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accept multiple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clientSoc=s.accep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ad t=new ThreadedEchoHandler(clientSoc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Handle the clien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implement 2 classes,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ultiThreadedEchoServ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eadedEchoHandl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handle multiple client conn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ultiThreadedEchoServ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reat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eadedEchoHandl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for each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eadedEchoHandl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xtend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ea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it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un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handles client I/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s implementation is the same as the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of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choServ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4"/>
          <p:cNvSpPr/>
          <p:nvPr/>
        </p:nvSpPr>
        <p:spPr>
          <a:xfrm>
            <a:off x="2590920" y="228600"/>
            <a:ext cx="4267080" cy="1447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3276720" y="5335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MultiThreadedEchoServ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26"/>
          <p:cNvSpPr/>
          <p:nvPr/>
        </p:nvSpPr>
        <p:spPr>
          <a:xfrm flipH="1">
            <a:off x="2285640" y="1752480"/>
            <a:ext cx="762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724280" y="1676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6172200" y="167652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29" descr="C:\Program Files\Microsoft Office\Clipart\smbusbas\BS00094_.wmf"/>
          <p:cNvPicPr/>
          <p:nvPr/>
        </p:nvPicPr>
        <p:blipFill>
          <a:blip r:embed="rId1"/>
          <a:stretch/>
        </p:blipFill>
        <p:spPr>
          <a:xfrm>
            <a:off x="1219320" y="4495680"/>
            <a:ext cx="984240" cy="120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0" descr="C:\Program Files\Microsoft Office\Clipart\smbusbas\BS00094_.wmf"/>
          <p:cNvPicPr/>
          <p:nvPr/>
        </p:nvPicPr>
        <p:blipFill>
          <a:blip r:embed="rId2"/>
          <a:stretch/>
        </p:blipFill>
        <p:spPr>
          <a:xfrm>
            <a:off x="4038480" y="4724280"/>
            <a:ext cx="984240" cy="120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1" descr="C:\Program Files\Microsoft Office\Clipart\smbusbas\BS00094_.wmf"/>
          <p:cNvPicPr/>
          <p:nvPr/>
        </p:nvPicPr>
        <p:blipFill>
          <a:blip r:embed="rId3"/>
          <a:stretch/>
        </p:blipFill>
        <p:spPr>
          <a:xfrm>
            <a:off x="7162920" y="4800600"/>
            <a:ext cx="984240" cy="1201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2"/>
          <p:cNvSpPr/>
          <p:nvPr/>
        </p:nvSpPr>
        <p:spPr>
          <a:xfrm>
            <a:off x="1143000" y="5867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4191120" y="5943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7238880" y="5943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505320" y="2514600"/>
            <a:ext cx="2590560" cy="10666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505320" y="26668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readedEchoHandler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6324480" y="2666880"/>
            <a:ext cx="2590920" cy="1067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6324480" y="281952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readedEchoHandler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609480" y="2362320"/>
            <a:ext cx="2590920" cy="10666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609480" y="25146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readedEchoHandler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41"/>
          <p:cNvSpPr/>
          <p:nvPr/>
        </p:nvSpPr>
        <p:spPr>
          <a:xfrm>
            <a:off x="167652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42"/>
          <p:cNvSpPr/>
          <p:nvPr/>
        </p:nvSpPr>
        <p:spPr>
          <a:xfrm>
            <a:off x="4572000" y="3657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43"/>
          <p:cNvSpPr/>
          <p:nvPr/>
        </p:nvSpPr>
        <p:spPr>
          <a:xfrm>
            <a:off x="7620120" y="3886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838080" y="228600"/>
            <a:ext cx="853452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MultiThreadedEcho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clientID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Socket s=new ServerSocket(825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(;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clientSoc=s.accep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"New client connection” + clientI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 ThreadedEchoHandler(clientSoc,clientID)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ID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ch(Exception e){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 email progra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 a simple example of socket programming we can implement a program that sends email to a remote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taken from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re Jav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vol 2, 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mail servers use port number 25 which is the SMTP 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mail transpor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Introduction to Network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twork programming is surprisingly easy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classes relevant to network programming are in the java.net pack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ding data out onto a network involves attaching a stream to a network connection (socket) and using the stream I/O functions we looked at in a previous l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in issues to consider are client/server architectures and attaching multiple clients to a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we will look an introduction to networking and the TCP/IP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ient socket to the mail server can be opened on port 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PT uses the following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905120" y="1981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s=new Socket(“engmail.bham.ac.uk”,2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286000" y="358128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LO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ending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L FROM: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ender email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CPT TO: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ecipient email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mail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mail program uses a simple GUI to input the required infor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utton on the GUI calls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ndMail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which outputs the correct protocol to the mail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066680" y="3429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s=new Socket(“engmail.bham.ac.uk”,2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=new PrintWriter(s.getOutputStream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hostname=InetAddress.getLocalHost().getHostNam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.println(“HELO “ + host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.println(“MAIL FROM: “ + from.getText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66680" y="631800"/>
            <a:ext cx="807732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URL conne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seen that to send or retrieve information to a web server, we use the HTTP protocol through a client socket attached to port 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do this by using normal socket-based programming and sending the correct HTTP com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ever, Java has specific support for the HTTP protocol through it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RLConnecti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s very easy to retrieve a file from a web server by simply providing the fi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s a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71600" y="249984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sets up an input stream from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turn this into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cann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for text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RLConnecti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also has additional functionality related to the HTTP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erying the server for header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ting request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676520" y="380880"/>
            <a:ext cx="6019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L u=new URL(“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ham.ac.u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LConnection c=u.openConnectio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putStream in=c.getInputStream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70000" y="7617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simple example program opens a web page and displays the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also checks the server respons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404 if the page is not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00 if the connection succ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cann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to output the lines of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80880" y="0"/>
            <a:ext cx="8763120" cy="68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blic class URL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blic static void main(String[] args) throws IOExce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ing url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 (args.length &gt; 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rlName = args[0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rlName = "http://java.sun.com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URL url = new URL(url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URLConnection c = url.openConnectio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// Check response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HttpURLConnection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httpConnection = (HttpURLConnection) 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t code =httpConnection.getResponseCod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tring message=httpConnection.getResponseMessag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ystem.out.println(code + " " + mess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f (code!=HttpURLConnection.HTTP_O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// Read server respon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putStream instream=connection.getInputStream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canner in=new Scanner(instrea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while (in.hasNextLine(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tring input=in.nextLin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ystem.out.println(inpu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386000" y="1066680"/>
            <a:ext cx="7758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Advanced networking technologies in Java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section we will look briefly at more advanced technologies for networking in Java without looking in detail a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nding data to a web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GI and servlet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-object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mote method invocation (RM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17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ernet Protocol (I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341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is transmitted between computers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packet is marked with a destination addr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C:\Program Files\Microsoft Office\Clipart\smbusbas\BS00094_.wmf"/>
          <p:cNvPicPr/>
          <p:nvPr/>
        </p:nvPicPr>
        <p:blipFill>
          <a:blip r:embed="rId1"/>
          <a:stretch/>
        </p:blipFill>
        <p:spPr>
          <a:xfrm>
            <a:off x="1676520" y="3505320"/>
            <a:ext cx="112392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Line 9"/>
          <p:cNvSpPr/>
          <p:nvPr/>
        </p:nvSpPr>
        <p:spPr>
          <a:xfrm>
            <a:off x="2133720" y="5029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914400" y="5791320"/>
            <a:ext cx="3200400" cy="533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914400" y="5791320"/>
            <a:ext cx="1752480" cy="533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429000" y="5791320"/>
            <a:ext cx="685800" cy="533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143000" y="5867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30.65.83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81952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429000" y="5867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6858000" y="3200400"/>
            <a:ext cx="457200" cy="18288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0" y="3200400"/>
            <a:ext cx="457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6858000" y="3809880"/>
            <a:ext cx="457200" cy="609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6858000" y="4419720"/>
            <a:ext cx="457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41911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1" descr="C:\Program Files\Microsoft Office\Clipart\standard\stddir2\BS00253_.wmf"/>
          <p:cNvPicPr/>
          <p:nvPr/>
        </p:nvPicPr>
        <p:blipFill>
          <a:blip r:embed="rId2"/>
          <a:stretch/>
        </p:blipFill>
        <p:spPr>
          <a:xfrm>
            <a:off x="4800600" y="5486400"/>
            <a:ext cx="1295280" cy="1074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2"/>
          <p:cNvSpPr/>
          <p:nvPr/>
        </p:nvSpPr>
        <p:spPr>
          <a:xfrm>
            <a:off x="4952880" y="5029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 flipV="1">
            <a:off x="6019920" y="4191120"/>
            <a:ext cx="5331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66688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15238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76201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629400" y="5181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68580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685800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6858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1523880" y="6400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twork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32" descr="C:\Program Files\Microsoft Office\Clipart\smbusbas\BS00089_.wmf"/>
          <p:cNvPicPr/>
          <p:nvPr/>
        </p:nvPicPr>
        <p:blipFill>
          <a:blip r:embed="rId3"/>
          <a:stretch/>
        </p:blipFill>
        <p:spPr>
          <a:xfrm>
            <a:off x="7467480" y="3124080"/>
            <a:ext cx="1411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GI and servlet technolog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often need to send data back to a 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we fill out an online form displayed on a web browser and click a ‘submit’ but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lder web technology uses a CGI script to process th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GI stands for Common Gateway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it is a program running on the server and written in a scripting language like Pe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GI script processes the data submitted and sends back a response to the client – usually a HTML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143000" y="228600"/>
            <a:ext cx="4267080" cy="54100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66688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295280" y="2209680"/>
            <a:ext cx="213372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67652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GI 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7391520" y="3962520"/>
            <a:ext cx="1676160" cy="9144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391520" y="4038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web 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505320" y="3657600"/>
            <a:ext cx="17524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6576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4100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13"/>
          <p:cNvSpPr/>
          <p:nvPr/>
        </p:nvSpPr>
        <p:spPr>
          <a:xfrm flipH="1">
            <a:off x="2209320" y="40384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160020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er starts CGI 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7543800" y="1600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 displays web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 flipV="1">
            <a:off x="2209680" y="1523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2209680" y="1523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3657600" y="1143000"/>
            <a:ext cx="1219320" cy="83808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1295280" y="609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ript produces reply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657600" y="1143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ly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6095880" y="1523880"/>
            <a:ext cx="137160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6172200" y="1676520"/>
            <a:ext cx="4795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6172200" y="2057400"/>
            <a:ext cx="4795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6248520" y="2362320"/>
            <a:ext cx="960480" cy="304560"/>
          </a:xfrm>
          <a:prstGeom prst="rect">
            <a:avLst/>
          </a:prstGeom>
          <a:solidFill>
            <a:srgbClr val="c2c2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6781680" y="1676520"/>
            <a:ext cx="4795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6781680" y="2057400"/>
            <a:ext cx="4795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6400800" y="236232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ubm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8458200" y="22856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31"/>
          <p:cNvSpPr/>
          <p:nvPr/>
        </p:nvSpPr>
        <p:spPr>
          <a:xfrm flipH="1">
            <a:off x="7695720" y="2286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34"/>
          <p:cNvSpPr/>
          <p:nvPr/>
        </p:nvSpPr>
        <p:spPr>
          <a:xfrm>
            <a:off x="4343400" y="19810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6781680" y="26668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40"/>
          <p:cNvSpPr/>
          <p:nvPr/>
        </p:nvSpPr>
        <p:spPr>
          <a:xfrm flipH="1">
            <a:off x="525744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41"/>
          <p:cNvSpPr/>
          <p:nvPr/>
        </p:nvSpPr>
        <p:spPr>
          <a:xfrm>
            <a:off x="5257800" y="4343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42"/>
          <p:cNvSpPr/>
          <p:nvPr/>
        </p:nvSpPr>
        <p:spPr>
          <a:xfrm>
            <a:off x="5410080" y="44197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 returns re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70000" y="7617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GI is well established and still widely use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s major disadvantage is that each request forks a new process which can make it s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es sharing resources tric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so there are some security flaws with CGI – it can be fooled into running commands on the server since it uses an interpreted scripted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rvlet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re Java classes which extend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tpServl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. They run inside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rvlet Contain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calls methods of the serv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ervlet container must be part of a compliant web server which contains the Java runtim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y run in the Java virtual machine inside the web server and so are portable and sec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ike CGI each separate request creates a new thread which is able to share resources with existing running thr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er-object communication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orientation is all about objects ‘communicating’ with each other by calling each others’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the objects are distributed across a net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f the objects are implemented in different languages? (eg Java and C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170000" y="457200"/>
            <a:ext cx="777240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two mechanisms for inter object communication across a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independent mechanism is calle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on object request bro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eparate language neutral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roker objec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handles all messages between the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lly rather slow and complex because of its generality and ability to handle legacy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both objects are implemented in Java a much simpler mechanism i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mote Method Invocatio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RM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RMI,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lie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calls a method of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on a different mac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ent/server terminology only applies to the single method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4" descr="C:\Program Files\Microsoft Office\Clipart\smbusbas\BS00094_.wmf"/>
          <p:cNvPicPr/>
          <p:nvPr/>
        </p:nvPicPr>
        <p:blipFill>
          <a:blip r:embed="rId1"/>
          <a:stretch/>
        </p:blipFill>
        <p:spPr>
          <a:xfrm>
            <a:off x="1371600" y="3200400"/>
            <a:ext cx="1123920" cy="13716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1219320" y="4724280"/>
            <a:ext cx="12189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295280" y="4800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400800" y="4800600"/>
            <a:ext cx="12193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477120" y="4876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2971800" y="4800600"/>
            <a:ext cx="3048120" cy="304920"/>
          </a:xfrm>
          <a:prstGeom prst="rightArrow">
            <a:avLst>
              <a:gd name="adj1" fmla="val 50000"/>
              <a:gd name="adj2" fmla="val 2499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2971800" y="5257800"/>
            <a:ext cx="2895480" cy="380880"/>
          </a:xfrm>
          <a:prstGeom prst="leftArrow">
            <a:avLst>
              <a:gd name="adj1" fmla="val 50000"/>
              <a:gd name="adj2" fmla="val 1900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18" descr="C:\Program Files\Microsoft Office\Clipart\smbusbas\BS00094_.wmf"/>
          <p:cNvPicPr/>
          <p:nvPr/>
        </p:nvPicPr>
        <p:blipFill>
          <a:blip r:embed="rId2"/>
          <a:stretch/>
        </p:blipFill>
        <p:spPr>
          <a:xfrm>
            <a:off x="6172200" y="3124080"/>
            <a:ext cx="1123920" cy="13716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0"/>
          <p:cNvSpPr/>
          <p:nvPr/>
        </p:nvSpPr>
        <p:spPr>
          <a:xfrm>
            <a:off x="2662560" y="426708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thod call with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28954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ed data (obj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this seems easy but the actual behind the scenes issues are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tual inter-object communictation is done through separat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b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 which package remote method calls and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erver registers its objects with a naming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lients finds the remote objects using a url 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“rmi://servername.com/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complex security issues involved also as calling a remote method locally can introduce vir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ever, much of this is transparent to the programmer and RMI is relatively straigh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twork programming is a doddle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ckets look like ordinary I/O streams from an application programming view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in issues are writing multi-threaded code for multiple client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last lab exercise, you will have the opportunity to write a multi-threading server for a network-based  g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026"/>
          <p:cNvSpPr/>
          <p:nvPr/>
        </p:nvSpPr>
        <p:spPr>
          <a:xfrm>
            <a:off x="1828800" y="1447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 very early 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Group 1029"/>
          <p:cNvGrpSpPr/>
          <p:nvPr/>
        </p:nvGrpSpPr>
        <p:grpSpPr>
          <a:xfrm>
            <a:off x="990720" y="2514600"/>
            <a:ext cx="8001000" cy="2990880"/>
            <a:chOff x="990720" y="2514600"/>
            <a:chExt cx="8001000" cy="2990880"/>
          </a:xfrm>
        </p:grpSpPr>
        <p:pic>
          <p:nvPicPr>
            <p:cNvPr id="329" name="Picture 1027" descr="C:\Program Files\Microsoft Office\Clipart\standard\stddir2\bd08072_.wmf"/>
            <p:cNvPicPr/>
            <p:nvPr/>
          </p:nvPicPr>
          <p:blipFill>
            <a:blip r:embed="rId1"/>
            <a:stretch/>
          </p:blipFill>
          <p:spPr>
            <a:xfrm>
              <a:off x="990720" y="2514600"/>
              <a:ext cx="380052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028"/>
            <p:cNvSpPr/>
            <p:nvPr/>
          </p:nvSpPr>
          <p:spPr>
            <a:xfrm>
              <a:off x="5105520" y="358128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600" spc="-1" strike="noStrike">
                  <a:solidFill>
                    <a:srgbClr val="ffffff"/>
                  </a:solidFill>
                  <a:latin typeface="Times New Roman"/>
                </a:rPr>
                <a:t>Merry Christmas!!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1" name="MSSN00819_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5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49484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4 byte address is the IP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7600" indent="-91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ly we refer to computers with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omain n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65760" indent="-7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bham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65760" indent="-7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.su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7600" indent="-91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anslation from domain name to IP address is carried out using DNS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omain Name Servi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P has no provision for re-transmission in case of failure to deliver 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7600" indent="-91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the job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ansmission Control Protoco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TC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7600" indent="-91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internet programs (eg the WWW, email etc) are based on TCP/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65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7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286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CP/IP Socke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9520" y="158076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TCP/IP socket enables a java program running on a client machine to open a connection with a web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is a socket on both the client and serve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ent server communication is carried out through input and output st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4" descr="C:\Program Files\Microsoft Office\Clipart\smbusbas\BS00094_.wmf"/>
          <p:cNvPicPr/>
          <p:nvPr/>
        </p:nvPicPr>
        <p:blipFill>
          <a:blip r:embed="rId1"/>
          <a:stretch/>
        </p:blipFill>
        <p:spPr>
          <a:xfrm>
            <a:off x="1219320" y="2514600"/>
            <a:ext cx="112392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5"/>
          <p:cNvSpPr/>
          <p:nvPr/>
        </p:nvSpPr>
        <p:spPr>
          <a:xfrm>
            <a:off x="2514600" y="2743200"/>
            <a:ext cx="12193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590920" y="2819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6019920" y="2743200"/>
            <a:ext cx="12189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6095880" y="27432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 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3962520" y="289548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3809880" y="3352680"/>
            <a:ext cx="2057400" cy="304920"/>
          </a:xfrm>
          <a:prstGeom prst="leftArrow">
            <a:avLst>
              <a:gd name="adj1" fmla="val 50000"/>
              <a:gd name="adj2" fmla="val 16868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2819520" y="990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output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3505320" y="190512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5943600" y="9907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 input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24"/>
          <p:cNvSpPr/>
          <p:nvPr/>
        </p:nvSpPr>
        <p:spPr>
          <a:xfrm flipH="1">
            <a:off x="5410080" y="1905120"/>
            <a:ext cx="5335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236232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input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3276720" y="3809520"/>
            <a:ext cx="11430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571500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er output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29"/>
          <p:cNvSpPr/>
          <p:nvPr/>
        </p:nvSpPr>
        <p:spPr>
          <a:xfrm flipH="1" flipV="1">
            <a:off x="5791320" y="3733920"/>
            <a:ext cx="3045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30" descr="C:\Program Files\Microsoft Office\Clipart\smbusbas\BS00089_.wmf"/>
          <p:cNvPicPr/>
          <p:nvPr/>
        </p:nvPicPr>
        <p:blipFill>
          <a:blip r:embed="rId2"/>
          <a:stretch/>
        </p:blipFill>
        <p:spPr>
          <a:xfrm>
            <a:off x="7315200" y="2286000"/>
            <a:ext cx="1411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 simple client progra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Rectangle 1028"/>
          <p:cNvSpPr/>
          <p:nvPr/>
        </p:nvSpPr>
        <p:spPr>
          <a:xfrm>
            <a:off x="1066680" y="148284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ha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ock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which is an abstraction for a TCP/IP network endpoint to a client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nects to a server specified by the hostname “java.sun.com” and creates I/O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1029"/>
          <p:cNvSpPr/>
          <p:nvPr/>
        </p:nvSpPr>
        <p:spPr>
          <a:xfrm>
            <a:off x="1600200" y="289548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HTTP_PORT=8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s= new Socket(“java.sun.com”,HTTP_POR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putStream instream=s.getInputStream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utputStream outstream=s.getOutputStream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also directly specify the IP address instead of a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 ha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etAddres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to specify IP addr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(static) 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getByNam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nverts from a hostname to a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et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905120" y="46483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HTTP_PORT=8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etAddress address=InetAddress(“java.sun.com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cket s= new Socket(address,HTTP_POR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08-12-05T08:59:12Z</dcterms:modified>
  <cp:revision>229</cp:revision>
  <dc:subject/>
  <dc:title>EE2E1. JAVA Programming  </dc:title>
</cp:coreProperties>
</file>