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C1F-898F-49C7-BE19-C55467ED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46A-E4B3-4F30-9027-88E7EC5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18A-3FFF-4918-9650-0EF680A4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65D-E272-40D2-9C3F-3F147338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3D9-45A4-4F3A-B40B-A7395831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44B0-AD31-449F-90D2-9DFD829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37F9-A30A-4459-98D0-5736022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F88D-3EE2-4447-A246-EE399252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F0B7-2B64-48B2-A8C5-17EDDF8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CE04-4D4F-4837-ADBC-0911739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10CC-C740-45BA-9F61-B6B1256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841-CDDD-4486-84CC-095EFD3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8FC-6F65-4323-BDB7-29BA28C2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C61-3686-451B-902A-62E1F84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48A-61EC-44D1-A54C-D288012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E9E9-CA63-47E9-B2D6-FFD20B4C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EDF6-3C46-496D-A87E-E92708D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140-6816-4A1B-AEB0-626BCFF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128-4922-4228-9FB9-3A6883E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9FE-B209-41E5-ADFE-18F4FC5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828-CB85-422F-9A6B-D25FE69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2D5-A048-4D4E-86F3-748BF1D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996-369C-4B1E-9775-D351FFE7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F7F-9D49-4D46-A110-025F452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71E-192E-4977-BA06-F11FFD589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195A-D74E-41D0-B0F0-2B94D325A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219320" y="380880"/>
            <a:ext cx="792468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tudent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dergradStudent s1=new UndergradStudent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hn Smith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29, “21 Bristol Rd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ctrical Eng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gradStudent s2=new PostgradStudent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an Jones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395, “30 Bournbrook Rd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. Mike Spann”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1. printInfo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2.printInfo()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wor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xten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ans we are making a new class which derives from an existing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new class i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erive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and the existing class i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bas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the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st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Under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re derived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so the term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uperclas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base class)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ubclas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derived class) are often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key point is that private instance fields in the base class cannot be accessed by derived class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erived class constructor invokes the base class constructor through the call to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uper(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the first statement in the derived class co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voids the derived class having to access private instance fields in order to initializ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otected scope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tected scope gives a derived class access to base class instance fields and methods declared a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ot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s encapsulation only in the inheritance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tected scope also implies package 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219320" y="762120"/>
            <a:ext cx="7391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my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tected int memb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anotherClass extends my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f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ber=1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OK – member prot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ummary of member scop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47920" y="1523880"/>
          <a:ext cx="6858000" cy="4835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79396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yw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sible (where)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v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v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encapsulating 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ck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encapsulating class’s pack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encapsulating class’s derived classes or pack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ver the encapsulating class is vi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heritance hierarch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imple tree diagram indicates the base class/derived class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1600200" y="3429000"/>
            <a:ext cx="6934320" cy="2895480"/>
            <a:chOff x="1600200" y="3429000"/>
            <a:chExt cx="6934320" cy="2895480"/>
          </a:xfrm>
        </p:grpSpPr>
        <p:sp>
          <p:nvSpPr>
            <p:cNvPr id="170" name="Rectangle 4"/>
            <p:cNvSpPr/>
            <p:nvPr/>
          </p:nvSpPr>
          <p:spPr>
            <a:xfrm>
              <a:off x="3429000" y="3429000"/>
              <a:ext cx="2209680" cy="9907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3809880" y="36576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600200" y="5257800"/>
              <a:ext cx="2666880" cy="10666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1600200" y="55627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Postgrad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5410080" y="5257800"/>
              <a:ext cx="3048120" cy="10666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5562720" y="548640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Undergrad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V="1">
              <a:off x="2971800" y="4495320"/>
              <a:ext cx="12952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5105160" y="4495320"/>
              <a:ext cx="19810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ierarchy can easily be ext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23"/>
          <p:cNvGrpSpPr/>
          <p:nvPr/>
        </p:nvGrpSpPr>
        <p:grpSpPr>
          <a:xfrm>
            <a:off x="1219320" y="1371600"/>
            <a:ext cx="7924680" cy="4876920"/>
            <a:chOff x="1219320" y="1371600"/>
            <a:chExt cx="7924680" cy="4876920"/>
          </a:xfrm>
        </p:grpSpPr>
        <p:sp>
          <p:nvSpPr>
            <p:cNvPr id="180" name="Rectangle 4"/>
            <p:cNvSpPr/>
            <p:nvPr/>
          </p:nvSpPr>
          <p:spPr>
            <a:xfrm>
              <a:off x="3581280" y="3276720"/>
              <a:ext cx="2148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3505320" y="2971800"/>
              <a:ext cx="487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67080" y="1371600"/>
              <a:ext cx="2210040" cy="9907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4800600" y="16002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2438280" y="2895480"/>
              <a:ext cx="2667240" cy="10670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438280" y="3200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ostgradStud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6248520" y="2895480"/>
              <a:ext cx="2590560" cy="10670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00800" y="3200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UndergradStud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V="1">
              <a:off x="3809880" y="2361960"/>
              <a:ext cx="99072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 flipH="1" flipV="1">
              <a:off x="6019560" y="2361960"/>
              <a:ext cx="190476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1219320" y="5181480"/>
              <a:ext cx="2666880" cy="10670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952880" y="5105520"/>
              <a:ext cx="2667240" cy="10666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1523880" y="5410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hDStud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5257800" y="5410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MastersStud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2362320" y="4038480"/>
              <a:ext cx="106668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 flipH="1" flipV="1">
              <a:off x="4495320" y="4038480"/>
              <a:ext cx="167652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IS-A relationship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905120" y="4267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143000" y="1752480"/>
            <a:ext cx="777240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y object that is an instance of a derived class must be useable in place of an object which is an instance of a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 class/derived class relationship form an IS-A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st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-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astersStud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-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st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1143000" y="685800"/>
            <a:ext cx="77724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assign a derived class object to a base class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comes important f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nverse is not legal – we can’t assign a base class object to a derived class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use a cast but 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e classes and derived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tected scop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heritance hierarc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IS-A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1600200" y="228600"/>
            <a:ext cx="7543800" cy="64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tudent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[] s=new Student[2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gradStudent ps=new  PostgradStudent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an Jones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395, “30 Bournbrook Rd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. Mike Spann”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dergradStudent us=new UndergradStudent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hn Smith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29, “21 Bristol Rd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ctrical Eng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=ps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leg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=us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leg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s=s[0]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rror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Rectangle 1029"/>
          <p:cNvSpPr/>
          <p:nvPr/>
        </p:nvSpPr>
        <p:spPr>
          <a:xfrm>
            <a:off x="1219320" y="160020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ucial to object orient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an object determining which method to call depending on where it is in the inheritance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ile the method (argument and return types) might be the same, objects might respond differen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 method of a derived class is called through a reference to a base class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erived class method is called if there is a match (argument types and return ty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wise the method call is passed to the base class (or to the next class up the inheritance hierarch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key i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late bind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Code for the method call is generated at 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23880" y="914400"/>
            <a:ext cx="6096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displayFee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219320" y="914400"/>
            <a:ext cx="8686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UndergradStudent extends Stud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void displayFees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ystem.out.println(“Undergrad. fees are £1000 pounds”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1143000" y="914400"/>
            <a:ext cx="8686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PostgradStudent extends Stud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void displayFees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ystem.out.println(“Postgrad. fees are £5000 pounds”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228600"/>
            <a:ext cx="7696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tudent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[] s=new Student[2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gradStudent ps=new  PostgradStudent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an Jones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395, “30 Bournbrook Road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. Mike Spann”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dergradStudent us=new UndergradStudent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hn Smith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29, “21 Bristol Road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ctrical Eng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=ps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leg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=us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leg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.displayFees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Postgraduate fees displa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.displayFees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Undergraduate fees displa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isplayFees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hibits different functionality depending on the object making the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obvious implementation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.displayFees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– could make it abstract (see next s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 if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isplayFees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is not present in the derived class, the call is passed up to the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calls are always passed up the inheritance chain until a match i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2209680" y="1066680"/>
            <a:ext cx="6934320" cy="2895480"/>
            <a:chOff x="2209680" y="1066680"/>
            <a:chExt cx="6934320" cy="2895480"/>
          </a:xfrm>
        </p:grpSpPr>
        <p:sp>
          <p:nvSpPr>
            <p:cNvPr id="210" name="Rectangle 3"/>
            <p:cNvSpPr/>
            <p:nvPr/>
          </p:nvSpPr>
          <p:spPr>
            <a:xfrm>
              <a:off x="4038480" y="1066680"/>
              <a:ext cx="2209680" cy="9907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4"/>
            <p:cNvSpPr/>
            <p:nvPr/>
          </p:nvSpPr>
          <p:spPr>
            <a:xfrm>
              <a:off x="4419360" y="12952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2209680" y="2895480"/>
              <a:ext cx="2666880" cy="10666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2209680" y="32004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Postgrad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6019560" y="2895480"/>
              <a:ext cx="3048120" cy="10666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6172200" y="31240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UndergradStud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3581280" y="2133000"/>
              <a:ext cx="12952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 flipH="1" flipV="1">
              <a:off x="5714640" y="2133000"/>
              <a:ext cx="19810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1066680" y="1066680"/>
            <a:ext cx="2971800" cy="1015920"/>
            <a:chOff x="1066680" y="1066680"/>
            <a:chExt cx="2971800" cy="1015920"/>
          </a:xfrm>
        </p:grpSpPr>
        <p:sp>
          <p:nvSpPr>
            <p:cNvPr id="219" name="Text Box 11"/>
            <p:cNvSpPr/>
            <p:nvPr/>
          </p:nvSpPr>
          <p:spPr>
            <a:xfrm>
              <a:off x="1066680" y="1066680"/>
              <a:ext cx="2971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s[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Student.displayFees(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2895480" y="1371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1371600" y="4038120"/>
            <a:ext cx="4114800" cy="1702080"/>
            <a:chOff x="1371600" y="4038120"/>
            <a:chExt cx="4114800" cy="1702080"/>
          </a:xfrm>
        </p:grpSpPr>
        <p:sp>
          <p:nvSpPr>
            <p:cNvPr id="222" name="Text Box 13"/>
            <p:cNvSpPr/>
            <p:nvPr/>
          </p:nvSpPr>
          <p:spPr>
            <a:xfrm>
              <a:off x="1371600" y="4724280"/>
              <a:ext cx="411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s[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PostgradStudent.displayFees(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 flipV="1">
              <a:off x="3352680" y="40381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876920" y="4114800"/>
            <a:ext cx="4267080" cy="2311200"/>
            <a:chOff x="4876920" y="4114800"/>
            <a:chExt cx="4267080" cy="2311200"/>
          </a:xfrm>
        </p:grpSpPr>
        <p:sp>
          <p:nvSpPr>
            <p:cNvPr id="225" name="Text Box 15"/>
            <p:cNvSpPr/>
            <p:nvPr/>
          </p:nvSpPr>
          <p:spPr>
            <a:xfrm>
              <a:off x="4876920" y="5410080"/>
              <a:ext cx="426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s[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Times New Roman"/>
                </a:rPr>
                <a:t>UndergradStudent.displayFees(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7010280" y="411480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why the big deal over polymorph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extend the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y ad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isplayFees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s for new classes in the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isting code will still wor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676520" y="3733920"/>
            <a:ext cx="708660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 s=new Student(…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stersStudent ms=new  MastersStudent(…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=ms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legal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.displayFees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Masters student  fees displa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Base classes and derived c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heritance is a fundamental requirement for object 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heritance allows new classes to b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eriv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om existing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isting methods can be changed and extra instance fields can be added in the deriv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bstract c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 high levels in the inheritance hierarchy, classes become more and more 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lementation of their methods becomes less clear and more 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all to an abstract method is always delegated down to one of the derived cla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lass containing at least one abstract method is called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bstrac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the keywor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note abstract classes an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1143000" y="6094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abstract class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hape(int x, int y){xpos=x; ypos=y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move(int dx, int dy){xpos+=dx; ypos+=dy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abstract float area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xpos, yp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quare extends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quare(int x, int y, int s){super(x,y); side=s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float area() {return side*side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sid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rea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bstract which makes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hap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hap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cannot b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028"/>
          <p:cNvSpPr/>
          <p:nvPr/>
        </p:nvSpPr>
        <p:spPr>
          <a:xfrm>
            <a:off x="1981080" y="2209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pe s = new Shape(0,0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rro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29"/>
          <p:cNvSpPr/>
          <p:nvPr/>
        </p:nvSpPr>
        <p:spPr>
          <a:xfrm>
            <a:off x="1143000" y="297180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hav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hap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variables but they must refer to a derived class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030"/>
          <p:cNvSpPr/>
          <p:nvPr/>
        </p:nvSpPr>
        <p:spPr>
          <a:xfrm>
            <a:off x="1905120" y="4114800"/>
            <a:ext cx="62481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pe sq = new Square(0,0,100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loat a = sq.area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031"/>
          <p:cNvSpPr/>
          <p:nvPr/>
        </p:nvSpPr>
        <p:spPr>
          <a:xfrm>
            <a:off x="1143000" y="5029200"/>
            <a:ext cx="77724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ov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non-abstract and is not overridden in the derived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285480">
              <a:lnSpc>
                <a:spcPct val="90000"/>
              </a:lnSpc>
              <a:spcBef>
                <a:spcPts val="17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on functionality across the inheritance   hierarc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uperclass </a:t>
            </a:r>
            <a:r>
              <a:rPr b="0" i="1" lang="en-GB" sz="4400" spc="-1" strike="noStrike">
                <a:solidFill>
                  <a:srgbClr val="00ffff"/>
                </a:solidFill>
                <a:latin typeface="Times New Roman"/>
              </a:rPr>
              <a:t>Obje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the ultimate ancestor of every class in Ja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, we don’t have to explicitly 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33720" y="3733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myClass extends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143000" y="4502160"/>
            <a:ext cx="723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ful f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eneric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8240" indent="-311040">
              <a:lnSpc>
                <a:spcPct val="90000"/>
              </a:lnSpc>
              <a:spcBef>
                <a:spcPts val="2001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ternative is C++ template classes which are mor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ample – a generic search algorithm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want a generic search algorithm to search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ind of object in an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provide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to test whether one object is equal to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mply checks if the 2 object references point to the same area of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 very useful in practi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need to provide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in the class of the object we are search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lymorphism does the re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9320" y="5335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following example we are searching for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in an arr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earch is based on the student ID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earchAlg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linearSearc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which carries out the 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have provided an implementation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143000" y="457200"/>
            <a:ext cx="81802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udent(String n, int id, String 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=n; idNumber=id; address=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boolean equals(Object ob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 s = (Student) obj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(idNumber==s.idNumbe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idNumb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addre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6"/>
          <p:cNvSpPr/>
          <p:nvPr/>
        </p:nvSpPr>
        <p:spPr>
          <a:xfrm>
            <a:off x="1219320" y="60948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earchAl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int linearSearch(Object[] a, Object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n=a.lengt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(int i=0; i&lt;n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a[i].equals(b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–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990720" y="457200"/>
            <a:ext cx="815328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tudent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[] s = new Student[3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=new Student(“John Smith”, 3429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1 Bristol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=new Student(“Paul Evans”, 5393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9 Pershore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2]=new Student(“John Smith”, 6592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Dawlish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 st=new Student(“SmithJ”,6592, “5 Dawlish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index=SearchAlg.linearSearch(s,s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Student found at index ” + inde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457200"/>
            <a:ext cx="792468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 point is tha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archAlg.linearSearch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s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ype of object passed to it as long a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is defined for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ast from object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crucial in enabling polymorphism t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rgument to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must be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it to be overidden with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quals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represents basic information about students at th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many categories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think about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xtending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to re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dergraduat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tgraduat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extension requires additional instance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..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has been an important lecture in explaining the mechanics and some simple examples of inheritance and polymorp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important to understand why polymorphism is key to object orient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 will develop a fuller understanding of this from the EE2E2 (object oriented design)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70000" y="914400"/>
            <a:ext cx="77724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Under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presents the basic studen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.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also represents undergraduate specific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gree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70000" y="914400"/>
            <a:ext cx="777240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wise clas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Post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presents the basic studen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.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also represents postgraduate specific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earch supervi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3"/>
          <p:cNvSpPr/>
          <p:nvPr/>
        </p:nvSpPr>
        <p:spPr>
          <a:xfrm>
            <a:off x="1143000" y="685800"/>
            <a:ext cx="85345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Stud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Student(String n, int id, String a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name=new String(n); idNumber=id; address=new String(a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void printInfo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ystem.out.println(name  + “  ”+ idNumber + “ ” + address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int idNumber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String addres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143000" y="609480"/>
            <a:ext cx="8001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UndergradStudent extends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UndergradStudent(String n, int id, String a, String 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(n,id,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greeProgramme=new String(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printInf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.printInfo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degreeProgram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degreeProgram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219320" y="457200"/>
            <a:ext cx="79246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PostgradStudent extends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PostgradStudent(String n, int id, String a, String 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(n,id,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jectSupervisor=new String(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printInf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er.printInfo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projectSuperviso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projectSupervis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10-10-28T08:57:19Z</dcterms:modified>
  <cp:revision>78</cp:revision>
  <dc:subject/>
  <dc:title>EE2E1. JAVA Programming  </dc:title>
</cp:coreProperties>
</file>