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95A-D6EE-4540-8C14-DB1CE537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06C-1D57-4CEC-A4E1-0B52D1A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4F3-BC26-4E9A-96CB-DFBB1ED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274-D34B-415E-9958-C794F924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B15B-EAA3-46B3-9499-5EC8EB41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6D76-24A0-402B-9CAB-C818BB61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518-24DB-4327-A89D-8427EF7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21CE-42E3-4798-95CA-387E5A09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FD41-8255-448F-9F11-D9D80BB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C62-8BCF-467E-AB33-8ED1A69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2B7A-B9BD-4A75-91E5-54423EE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25B-07D9-4756-8297-532C02C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CF97-099A-4276-9E96-E7A841E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AF31-DA39-4BDB-9114-C17A295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753E-4FB8-4A5F-97A7-9DF60A3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696-F3B0-4A44-B83A-1A99A954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1C32-B942-4EF7-8DDA-FE0C990A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6F2-A5ED-4667-A160-1377B80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928-C489-4B50-A188-E3C3819F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8AA-C8A2-4C76-84DD-451CFF1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7CB-9F2C-4423-9D43-5FCDC96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08E-E0A6-40CB-ACDE-818BA8F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F11-559F-417E-8190-C5BF2FA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28B-8F4C-4AEF-BABE-829DE1F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AB4-E093-4BB6-BBEF-F405889C6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40EC-5E20-48B9-8A8A-F523F3448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les and 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a simple sometimes effective method b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times not possible to return a valid error  co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object oriented! No information about the error is contained in the erro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lication code gets ‘polluted’ with error checking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ould be nice to have all of the error handling in one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ethod might not be able to return normally from the erro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xample would be if a resource the method was accessing wa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Java, if an error occurs in a method, a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xcep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i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ow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y th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y method that calls the first method must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exception in an exception handler and take appropriate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fter the exception is thrown and the exception handler code executed, control is not passed back to the ca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don’t have to worry about return error c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rowing excep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method must advertise the fact that it is going to throw an exception of a specific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 some problem with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the keywor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ow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indicate that a method can throw an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ethod actually throws the exception us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685800"/>
            <a:ext cx="79246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myMetho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row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some_IO_error_cond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ro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new IOException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throw exception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atching excep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 method calls another method which throws an exception, that exception must either b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ugh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r throw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it is not, the program will terminate (non-graphical, console applic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ntrol will pass back to the user interface processing loop (graphical applications/apple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both cases, an error message will be pri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s are caught in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447920" y="1371600"/>
            <a:ext cx="6858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a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method code which doesn’t throw an 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code including a call to myClass.myMethod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which may throw an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ch(IOException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xception handler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  // method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ecution of the above code is as fo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he code inside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lock throws an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gram skips the remainder of the code 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gram then proceeds to the code 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tch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he code inside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lock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oesn’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row an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gram skips the code 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tch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105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nall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use after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tch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ock contains code  which is always executed irrespective if an exception is caught or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384120">
              <a:lnSpc>
                <a:spcPct val="105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Quite often it is used to release a resource which has been allocated 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l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lnSpc>
                <a:spcPct val="105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all of this to work, the exception generated must be of the type specified (in this case,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OExcep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457200"/>
            <a:ext cx="6858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a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method code which doesn’t throw an 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Code which may throw an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tch(IOException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xception handler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source de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This cod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lway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ec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  // method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43000" y="304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ernatively, the exception can be throw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523880" y="1219320"/>
            <a:ext cx="7620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aMethod throws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method code including a call to myClass.myMethod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which may throw an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tion - input and output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eam class hier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e file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yering streams – reading/writing formatted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ding and writing text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ception inheritance hierarc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eptions are objects encapsulating information about the type of error which caused the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exception objects derive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ow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main types of exceptio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time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a programmer error such as divide by zero or trying to access an array beyond its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O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generally caused by programmer error and generally relating to I/O or network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048120" y="457200"/>
            <a:ext cx="22860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352680" y="762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ow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048120" y="2209680"/>
            <a:ext cx="22860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352680" y="2514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219320" y="4419720"/>
            <a:ext cx="22860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5029200" y="4343400"/>
            <a:ext cx="259092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4191120" y="1676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3716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5105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untime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2438280" y="3505320"/>
            <a:ext cx="11430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 flipH="1" flipV="1">
            <a:off x="5029200" y="35053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 flipV="1">
            <a:off x="2133720" y="5638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 flipV="1">
            <a:off x="1295280" y="5714640"/>
            <a:ext cx="6098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 flipH="1" flipV="1">
            <a:off x="2361960" y="57146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 flipV="1">
            <a:off x="6324480" y="5638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V="1">
            <a:off x="5486400" y="57146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 flipH="1" flipV="1">
            <a:off x="6553080" y="5714640"/>
            <a:ext cx="6098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371600" y="6216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5638680" y="6216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reating exception c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easy to create our own exceptions by extending an existing exception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219320" y="2819520"/>
            <a:ext cx="7696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DivideByZeroException extends Arithmetic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DivideByZeroException(String Mess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(messag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xception can then be thrown in the usual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828800" y="1981080"/>
            <a:ext cx="7010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 double quotient(int num, int 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ows DivideByZer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den=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ow new DivideByZeroException(“Error!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((double) num/(double)den);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program is a simple GUI enabling integers to be inputted and their quotient comp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ows exception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orrect integer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umberFormat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vide by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ivideByZero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ttp://www.eee.bham.ac.uk/spannm/Java%20Stuff/ExceptionTestApplet/ExceptionTestApplet.ht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ror dialog boxes are displayed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exceptions are c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 then passes back to the event handling loo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a console based application, the program would terminate after the exceptions are c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ivideByZer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xception thrown in the 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quotient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1428840" y="2143080"/>
            <a:ext cx="69339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ouble quotient(int num, int den) throws DivideByZer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den=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w(new DivideByZeroException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(double) num/(double) d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219320" y="228600"/>
            <a:ext cx="815328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ry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 numerator=Integer.parseInt(inputNum.getText()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 denominator=Integer.parseInt(inputDen.getText()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ouble result=quotient(numerator,denominator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utputQuotient.setText(precision.format(result)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(NumberFormatException e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OptionPane.showMessageDialog(this," Enter 2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egers","Invalid integer format!“,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JOptionPane.ERROR_MESSAG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(DivideByZeroException e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OptionPane.showMessageDialog(this,"The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nominator must be non-zero",e.toString(),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OptionPane.ERROR_MESSAG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371600" y="4568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xceptions are caught in the event handler class (called when ENTER is pressed from the output result text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quotie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rows the user defined exceptio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ivideByZer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teger.parseInt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ow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mberFormatException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ice how there may be several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atch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uses to catch multiple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stream class hierarc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has 2 abstract base classes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utput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representing input and output stream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lnSpc>
                <a:spcPct val="8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utput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base classes of a large hierarchy (more than 60!) of stream cla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, classe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Out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llow input and output streams to be attached to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also has 2 other abstract base classes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ad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rit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or handling Unicode character based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roduction - input and output strea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7920" y="1828800"/>
            <a:ext cx="78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applications require data to be stored in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has extensive facilities for handling files of various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ociated with files is the general concept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rea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can be applied to both files and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3"/>
          <p:cNvGrpSpPr/>
          <p:nvPr/>
        </p:nvGrpSpPr>
        <p:grpSpPr>
          <a:xfrm>
            <a:off x="1523880" y="533520"/>
            <a:ext cx="4876920" cy="2590560"/>
            <a:chOff x="1523880" y="533520"/>
            <a:chExt cx="4876920" cy="2590560"/>
          </a:xfrm>
        </p:grpSpPr>
        <p:sp>
          <p:nvSpPr>
            <p:cNvPr id="260" name="Rectangle 7"/>
            <p:cNvSpPr/>
            <p:nvPr/>
          </p:nvSpPr>
          <p:spPr>
            <a:xfrm>
              <a:off x="3962520" y="533520"/>
              <a:ext cx="175248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4038480" y="6858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InputStr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9"/>
            <p:cNvSpPr/>
            <p:nvPr/>
          </p:nvSpPr>
          <p:spPr>
            <a:xfrm flipV="1">
              <a:off x="4724280" y="137124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962520" y="22096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Times New Roman"/>
                </a:rPr>
                <a:t>………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 flipV="1">
              <a:off x="2666880" y="1447920"/>
              <a:ext cx="18288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 flipH="1" flipV="1">
              <a:off x="4952880" y="144756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523880" y="2286000"/>
              <a:ext cx="221004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600200" y="2438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FileInputStr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25"/>
          <p:cNvGrpSpPr/>
          <p:nvPr/>
        </p:nvGrpSpPr>
        <p:grpSpPr>
          <a:xfrm>
            <a:off x="1600200" y="3581280"/>
            <a:ext cx="5029200" cy="2590920"/>
            <a:chOff x="1600200" y="3581280"/>
            <a:chExt cx="5029200" cy="2590920"/>
          </a:xfrm>
        </p:grpSpPr>
        <p:sp>
          <p:nvSpPr>
            <p:cNvPr id="269" name="Rectangle 21"/>
            <p:cNvSpPr/>
            <p:nvPr/>
          </p:nvSpPr>
          <p:spPr>
            <a:xfrm>
              <a:off x="1600200" y="5334120"/>
              <a:ext cx="243828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" name="Group 24"/>
            <p:cNvGrpSpPr/>
            <p:nvPr/>
          </p:nvGrpSpPr>
          <p:grpSpPr>
            <a:xfrm>
              <a:off x="1676520" y="3581280"/>
              <a:ext cx="4952880" cy="2364840"/>
              <a:chOff x="1676520" y="3581280"/>
              <a:chExt cx="4952880" cy="2364840"/>
            </a:xfrm>
          </p:grpSpPr>
          <p:sp>
            <p:nvSpPr>
              <p:cNvPr id="271" name="Rectangle 15"/>
              <p:cNvSpPr/>
              <p:nvPr/>
            </p:nvSpPr>
            <p:spPr>
              <a:xfrm>
                <a:off x="4038480" y="3581280"/>
                <a:ext cx="1828800" cy="838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Text Box 16"/>
              <p:cNvSpPr/>
              <p:nvPr/>
            </p:nvSpPr>
            <p:spPr>
              <a:xfrm>
                <a:off x="4038480" y="3733920"/>
                <a:ext cx="221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OutputStre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17"/>
              <p:cNvSpPr/>
              <p:nvPr/>
            </p:nvSpPr>
            <p:spPr>
              <a:xfrm flipV="1">
                <a:off x="4800600" y="4419720"/>
                <a:ext cx="0" cy="761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18"/>
              <p:cNvSpPr/>
              <p:nvPr/>
            </p:nvSpPr>
            <p:spPr>
              <a:xfrm>
                <a:off x="4191120" y="5257800"/>
                <a:ext cx="243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ffffff"/>
                    </a:solidFill>
                    <a:latin typeface="Times New Roman"/>
                  </a:rPr>
                  <a:t>………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Line 19"/>
              <p:cNvSpPr/>
              <p:nvPr/>
            </p:nvSpPr>
            <p:spPr>
              <a:xfrm flipV="1">
                <a:off x="2743200" y="4495320"/>
                <a:ext cx="182880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20"/>
              <p:cNvSpPr/>
              <p:nvPr/>
            </p:nvSpPr>
            <p:spPr>
              <a:xfrm flipH="1" flipV="1">
                <a:off x="5028840" y="4495680"/>
                <a:ext cx="609480" cy="609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2"/>
              <p:cNvSpPr/>
              <p:nvPr/>
            </p:nvSpPr>
            <p:spPr>
              <a:xfrm>
                <a:off x="1676520" y="548640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FileOutputStre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19"/>
          <p:cNvGrpSpPr/>
          <p:nvPr/>
        </p:nvGrpSpPr>
        <p:grpSpPr>
          <a:xfrm>
            <a:off x="3276720" y="533520"/>
            <a:ext cx="2590560" cy="2318760"/>
            <a:chOff x="3276720" y="533520"/>
            <a:chExt cx="2590560" cy="2318760"/>
          </a:xfrm>
        </p:grpSpPr>
        <p:sp>
          <p:nvSpPr>
            <p:cNvPr id="279" name="Rectangle 2"/>
            <p:cNvSpPr/>
            <p:nvPr/>
          </p:nvSpPr>
          <p:spPr>
            <a:xfrm>
              <a:off x="3352680" y="533520"/>
              <a:ext cx="175284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3"/>
            <p:cNvSpPr/>
            <p:nvPr/>
          </p:nvSpPr>
          <p:spPr>
            <a:xfrm>
              <a:off x="3657600" y="6858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R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4"/>
            <p:cNvSpPr/>
            <p:nvPr/>
          </p:nvSpPr>
          <p:spPr>
            <a:xfrm flipV="1">
              <a:off x="4114800" y="137124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Text Box 5"/>
            <p:cNvSpPr/>
            <p:nvPr/>
          </p:nvSpPr>
          <p:spPr>
            <a:xfrm>
              <a:off x="3352680" y="2209680"/>
              <a:ext cx="243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Times New Roman"/>
                </a:rPr>
                <a:t>………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 flipV="1">
              <a:off x="3276720" y="144756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 flipH="1" flipV="1">
              <a:off x="4343040" y="144756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Group 20"/>
          <p:cNvGrpSpPr/>
          <p:nvPr/>
        </p:nvGrpSpPr>
        <p:grpSpPr>
          <a:xfrm>
            <a:off x="3276720" y="3581280"/>
            <a:ext cx="2819160" cy="2319120"/>
            <a:chOff x="3276720" y="3581280"/>
            <a:chExt cx="2819160" cy="2319120"/>
          </a:xfrm>
        </p:grpSpPr>
        <p:sp>
          <p:nvSpPr>
            <p:cNvPr id="286" name="Rectangle 10"/>
            <p:cNvSpPr/>
            <p:nvPr/>
          </p:nvSpPr>
          <p:spPr>
            <a:xfrm>
              <a:off x="3429000" y="3581280"/>
              <a:ext cx="1828800" cy="838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3886200" y="37339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ri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 flipV="1">
              <a:off x="4191120" y="4419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3581280" y="5257800"/>
              <a:ext cx="243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Times New Roman"/>
                </a:rPr>
                <a:t>………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 flipH="1" flipV="1">
              <a:off x="4419360" y="4495680"/>
              <a:ext cx="60948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 flipV="1">
              <a:off x="3276720" y="4495680"/>
              <a:ext cx="60948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imple file i/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las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leOutputStre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give input and output to streams attached to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371600" y="3200400"/>
            <a:ext cx="7315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InputStream fin=new FileInputStream(“myFile.dat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1752480" y="5410080"/>
            <a:ext cx="579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 f=new File(“myFile.dat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InputStream fin=new FileInputStream(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295280" y="3809880"/>
            <a:ext cx="70866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0400" indent="-403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attaches an input stream to a named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403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ernatively, we can use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6477120" y="609480"/>
            <a:ext cx="2361960" cy="1067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47712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219320" y="2895480"/>
            <a:ext cx="2057400" cy="31244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yFile.d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1905120" y="182880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11430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18288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25146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2004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38862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4572000" y="838080"/>
            <a:ext cx="685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2743200" y="304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yte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5486400" y="1143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7000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s a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ad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returns the byte read and –1 if it reaches the end of the input 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905120" y="2362320"/>
            <a:ext cx="5790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read() throws IOEx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219320" y="3200400"/>
            <a:ext cx="7696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ilarly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Out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has a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rite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write 1 byte to the output 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28548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ad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rit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lock the thread until the byte is read or wr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520" indent="-28584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often occurs when a network connection is being accessed and it is bu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program makes a straight copy of a file and prints out the number of bytes cop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 names provided on the  command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209680" y="3124080"/>
            <a:ext cx="579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ava FileCopyTest input_file output_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143000" y="3809880"/>
            <a:ext cx="685800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8240" indent="-311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nstructor throw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OExcep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f the file doesn’t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3110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.read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urns a –1 at the end of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520" indent="-1936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ould call this method from our own which throw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OF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219320" y="228600"/>
            <a:ext cx="815328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class FileCopyTes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ring inFile=args[0]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ring outFile=args[1]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 nbytes=0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leInputStream fin=new FileInputStream(inFil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leOutputStream fout=new FileOutputStream(outFil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 b=fin.read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ut.write(b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bytes++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=fin.read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 while (b!=-1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 (IOException e) { System.out.println("i/o problem!"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ystem.out.println(nbytes + " bytes copied"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Layering streams – reading/writing formatted fi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often want to read files containing formatt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, a file of integers or dou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u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has no methods which return numeric types – it can only read b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need to combine ou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Input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eOutput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 with other types of stream objects in order to read formatted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mbination of different stream types are known 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ilter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170000" y="7617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InputStre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can be attached to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as foll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1447920" y="2438280"/>
            <a:ext cx="7315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InputStream fin=new FileInputStream(“myFile.dat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InputStream din=new DataInputStream(fi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n.readDoubl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3429000" y="1295280"/>
            <a:ext cx="2362320" cy="1067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429000" y="1600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DataInpu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26668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6705720" y="1295280"/>
            <a:ext cx="2361960" cy="1067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705720" y="1600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ileInput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5867280" y="1905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066680" y="1371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matted in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1143000" y="3276720"/>
            <a:ext cx="2057400" cy="31240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121932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matted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1752480" y="2286000"/>
            <a:ext cx="381240" cy="914400"/>
          </a:xfrm>
          <a:prstGeom prst="upArrow">
            <a:avLst>
              <a:gd name="adj1" fmla="val 50000"/>
              <a:gd name="adj2" fmla="val 5996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Java, streams are simply sequences of b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read a byte stream from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put 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write a byte stream to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utput stre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input and output stream objects can be files but they also can be network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generality means we can use the same functions for accessing networks as reading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program writes integers and doubles to a file and then reads them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InputStream.read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InputStream.readDoubl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OutputStream.write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OutputStream.writeDoubl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tches an end of file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66680" y="228600"/>
            <a:ext cx="8458200" cy="63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class FormattedFileTes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ring fname=args[0]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leOutputStream fout=new FileOutputStream(fnam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OutputStream dout=new DataOutputStream(fou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r (int i=0; i&lt;100; i++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out.writeInt(i);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out.writeDouble(i*0.5);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spcAft>
                <a:spcPts val="1001"/>
              </a:spcAft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 (IOException e) { System.out.println("i/o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oblem!"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leInputStream fin=new FileInputStream(fnam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ataInputStream din=new DataInputStream(fin)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r (int j=0; j&lt;150; j++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    int i=din.readInt(); double d=din.readDouble();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 (EOFException e) { System.out.println("E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!"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 (IOException e) { System.out.println("i/o problem!"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Reading and writing text fi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of our classes so far have been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ina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is stored in files as bytes which is efficient but not humanly re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text file consists of information stored in humanly readable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 the number 150 would be stored as ‘1’ ‘5’ ‘0’ instead of the binary representation of 150 (100101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has a number of classes (descended from the abstra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ad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rit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es) for handling text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Outputting to a text fi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can easily be done with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Stream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th text and numeric data can be output using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ln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ains overloaded method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(char c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(int i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(double d),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l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(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lterOutputStrea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to convert from Unicode to readable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program segment outputs string and numeric text to a  tex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 clear about the difference between this and the previous program using a binary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914400" y="2438280"/>
            <a:ext cx="853452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putStream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=new File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ream(fnam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ntStream out=new PrintStream(fout,tru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.println(“Output data coming up”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r (int j=0; j&lt;150; j++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 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.print(j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out.println(j*0.5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ch (IOException e) { System.out.println("i/o problem!"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sole-based inpu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ing data input from the command line in Java is not ea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has standard output, input and error (just like C) which are already open when the program exec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can be used in console-based i/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ole based output is ea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use the methods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362320" y="380880"/>
            <a:ext cx="44956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InputStream i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PrintStream ou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PrintStream er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133720" y="5410080"/>
            <a:ext cx="609588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Hello World!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x= ” + x)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3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ole based input is more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so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has been written by the authors of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re Jav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ook providing convenient inpu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Lin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turns a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turns an inte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Doubl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turns a 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Doubl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us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adLin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read an input string and use string parsing to extract the numeric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371600" y="685800"/>
            <a:ext cx="777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readLin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… reads a string from the keyboard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double readDouble(string prom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… reads a double from the keyboard 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readInt(String prom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… reads an integer from the keyboard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295280" y="68580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String readLin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 c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 r = "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lean done = fals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(!d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ch = System.in.read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ch &lt; 0 || (char)ch == '\n'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e = 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if ((char)ch != '\r') r = r + (char) c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ch(java.io.IOException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done = 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4"/>
          <p:cNvGrpSpPr/>
          <p:nvPr/>
        </p:nvGrpSpPr>
        <p:grpSpPr>
          <a:xfrm>
            <a:off x="1447920" y="3581280"/>
            <a:ext cx="7391160" cy="2133720"/>
            <a:chOff x="1447920" y="3581280"/>
            <a:chExt cx="7391160" cy="2133720"/>
          </a:xfrm>
        </p:grpSpPr>
        <p:sp>
          <p:nvSpPr>
            <p:cNvPr id="154" name="Text Box 42"/>
            <p:cNvSpPr/>
            <p:nvPr/>
          </p:nvSpPr>
          <p:spPr>
            <a:xfrm>
              <a:off x="6095880" y="35812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Input stream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53"/>
            <p:cNvGrpSpPr/>
            <p:nvPr/>
          </p:nvGrpSpPr>
          <p:grpSpPr>
            <a:xfrm>
              <a:off x="1447920" y="4191120"/>
              <a:ext cx="6629400" cy="1523880"/>
              <a:chOff x="1447920" y="4191120"/>
              <a:chExt cx="6629400" cy="1523880"/>
            </a:xfrm>
          </p:grpSpPr>
          <p:sp>
            <p:nvSpPr>
              <p:cNvPr id="156" name="Rectangle 36"/>
              <p:cNvSpPr/>
              <p:nvPr/>
            </p:nvSpPr>
            <p:spPr>
              <a:xfrm>
                <a:off x="14479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37"/>
              <p:cNvSpPr/>
              <p:nvPr/>
            </p:nvSpPr>
            <p:spPr>
              <a:xfrm>
                <a:off x="21337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38"/>
              <p:cNvSpPr/>
              <p:nvPr/>
            </p:nvSpPr>
            <p:spPr>
              <a:xfrm>
                <a:off x="28195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39"/>
              <p:cNvSpPr/>
              <p:nvPr/>
            </p:nvSpPr>
            <p:spPr>
              <a:xfrm>
                <a:off x="35053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40"/>
              <p:cNvSpPr/>
              <p:nvPr/>
            </p:nvSpPr>
            <p:spPr>
              <a:xfrm>
                <a:off x="41911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41"/>
              <p:cNvSpPr/>
              <p:nvPr/>
            </p:nvSpPr>
            <p:spPr>
              <a:xfrm>
                <a:off x="6934320" y="4267080"/>
                <a:ext cx="1143000" cy="144792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43"/>
              <p:cNvSpPr/>
              <p:nvPr/>
            </p:nvSpPr>
            <p:spPr>
              <a:xfrm>
                <a:off x="48769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44"/>
              <p:cNvSpPr/>
              <p:nvPr/>
            </p:nvSpPr>
            <p:spPr>
              <a:xfrm>
                <a:off x="5562720" y="4724280"/>
                <a:ext cx="685800" cy="533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Text Box 46"/>
              <p:cNvSpPr/>
              <p:nvPr/>
            </p:nvSpPr>
            <p:spPr>
              <a:xfrm>
                <a:off x="2362320" y="41911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byte stre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50"/>
              <p:cNvSpPr/>
              <p:nvPr/>
            </p:nvSpPr>
            <p:spPr>
              <a:xfrm>
                <a:off x="6324480" y="49528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Group 52"/>
          <p:cNvGrpSpPr/>
          <p:nvPr/>
        </p:nvGrpSpPr>
        <p:grpSpPr>
          <a:xfrm>
            <a:off x="1447920" y="609480"/>
            <a:ext cx="7391160" cy="2133720"/>
            <a:chOff x="1447920" y="609480"/>
            <a:chExt cx="7391160" cy="2133720"/>
          </a:xfrm>
        </p:grpSpPr>
        <p:sp>
          <p:nvSpPr>
            <p:cNvPr id="167" name="Rectangle 23"/>
            <p:cNvSpPr/>
            <p:nvPr/>
          </p:nvSpPr>
          <p:spPr>
            <a:xfrm>
              <a:off x="14479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1337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8195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35053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>
              <a:off x="41911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>
              <a:off x="6934320" y="1295280"/>
              <a:ext cx="1143000" cy="14479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6095880" y="609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Output stream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48769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5562720" y="1752480"/>
              <a:ext cx="685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34"/>
            <p:cNvSpPr/>
            <p:nvPr/>
          </p:nvSpPr>
          <p:spPr>
            <a:xfrm>
              <a:off x="2362320" y="1219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byte str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51"/>
            <p:cNvSpPr/>
            <p:nvPr/>
          </p:nvSpPr>
          <p:spPr>
            <a:xfrm flipH="1">
              <a:off x="6324480" y="20574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70000" y="7617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lass is used as follow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219320" y="1752480"/>
            <a:ext cx="73911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Console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Console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void main(String args[]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 i=Console.readInt("Input an integer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d=Console.readDouble("Input a double: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"Values entered= "+ i + " " + 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…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handling of files and streams is ext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only just scratched the surfa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ts of other facilities are provided within the various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ffered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ndom access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streams – ser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e chapter 12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re Jav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Vol. 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in Easy Steps (Amaz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16000" y="533520"/>
            <a:ext cx="80280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 distinguishes betwee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byte stream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haracter 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Java, a character is represented by a 2-byte Unicode character (www.unicode.or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1062"/>
          <p:cNvGrpSpPr/>
          <p:nvPr/>
        </p:nvGrpSpPr>
        <p:grpSpPr>
          <a:xfrm>
            <a:off x="2614680" y="5029200"/>
            <a:ext cx="5767200" cy="1600200"/>
            <a:chOff x="2614680" y="5029200"/>
            <a:chExt cx="5767200" cy="1600200"/>
          </a:xfrm>
        </p:grpSpPr>
        <p:sp>
          <p:nvSpPr>
            <p:cNvPr id="180" name="Text Box 1046"/>
            <p:cNvSpPr/>
            <p:nvPr/>
          </p:nvSpPr>
          <p:spPr>
            <a:xfrm>
              <a:off x="6477120" y="50292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riter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045"/>
            <p:cNvSpPr/>
            <p:nvPr/>
          </p:nvSpPr>
          <p:spPr>
            <a:xfrm>
              <a:off x="7072200" y="5599080"/>
              <a:ext cx="928800" cy="1030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1054"/>
            <p:cNvGrpSpPr/>
            <p:nvPr/>
          </p:nvGrpSpPr>
          <p:grpSpPr>
            <a:xfrm>
              <a:off x="2614680" y="5924520"/>
              <a:ext cx="3900600" cy="475920"/>
              <a:chOff x="2614680" y="5924520"/>
              <a:chExt cx="3900600" cy="475920"/>
            </a:xfrm>
          </p:grpSpPr>
          <p:sp>
            <p:nvSpPr>
              <p:cNvPr id="183" name="Rectangle 1040"/>
              <p:cNvSpPr/>
              <p:nvPr/>
            </p:nvSpPr>
            <p:spPr>
              <a:xfrm>
                <a:off x="261468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1041"/>
              <p:cNvSpPr/>
              <p:nvPr/>
            </p:nvSpPr>
            <p:spPr>
              <a:xfrm>
                <a:off x="3171960" y="5924520"/>
                <a:ext cx="55692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1042"/>
              <p:cNvSpPr/>
              <p:nvPr/>
            </p:nvSpPr>
            <p:spPr>
              <a:xfrm>
                <a:off x="372888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1043"/>
              <p:cNvSpPr/>
              <p:nvPr/>
            </p:nvSpPr>
            <p:spPr>
              <a:xfrm>
                <a:off x="428616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1044"/>
              <p:cNvSpPr/>
              <p:nvPr/>
            </p:nvSpPr>
            <p:spPr>
              <a:xfrm>
                <a:off x="484344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1047"/>
              <p:cNvSpPr/>
              <p:nvPr/>
            </p:nvSpPr>
            <p:spPr>
              <a:xfrm>
                <a:off x="540072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1048"/>
              <p:cNvSpPr/>
              <p:nvPr/>
            </p:nvSpPr>
            <p:spPr>
              <a:xfrm>
                <a:off x="5958000" y="5924520"/>
                <a:ext cx="557280" cy="475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0" name="Text Box 1050"/>
            <p:cNvSpPr/>
            <p:nvPr/>
          </p:nvSpPr>
          <p:spPr>
            <a:xfrm>
              <a:off x="3352680" y="5410080"/>
              <a:ext cx="24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haracter str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59"/>
            <p:cNvSpPr/>
            <p:nvPr/>
          </p:nvSpPr>
          <p:spPr>
            <a:xfrm flipH="1">
              <a:off x="6552720" y="609588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Group 1061"/>
          <p:cNvGrpSpPr/>
          <p:nvPr/>
        </p:nvGrpSpPr>
        <p:grpSpPr>
          <a:xfrm>
            <a:off x="2614680" y="2971800"/>
            <a:ext cx="5843520" cy="1541520"/>
            <a:chOff x="2614680" y="2971800"/>
            <a:chExt cx="5843520" cy="1541520"/>
          </a:xfrm>
        </p:grpSpPr>
        <p:sp>
          <p:nvSpPr>
            <p:cNvPr id="193" name="Text Box 1034"/>
            <p:cNvSpPr/>
            <p:nvPr/>
          </p:nvSpPr>
          <p:spPr>
            <a:xfrm>
              <a:off x="6400800" y="29718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Reader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033"/>
            <p:cNvSpPr/>
            <p:nvPr/>
          </p:nvSpPr>
          <p:spPr>
            <a:xfrm>
              <a:off x="7072200" y="3483000"/>
              <a:ext cx="928800" cy="1030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53"/>
            <p:cNvGrpSpPr/>
            <p:nvPr/>
          </p:nvGrpSpPr>
          <p:grpSpPr>
            <a:xfrm>
              <a:off x="2614680" y="3808440"/>
              <a:ext cx="3900600" cy="458280"/>
              <a:chOff x="2614680" y="3808440"/>
              <a:chExt cx="3900600" cy="458280"/>
            </a:xfrm>
          </p:grpSpPr>
          <p:sp>
            <p:nvSpPr>
              <p:cNvPr id="196" name="Rectangle 1028"/>
              <p:cNvSpPr/>
              <p:nvPr/>
            </p:nvSpPr>
            <p:spPr>
              <a:xfrm>
                <a:off x="261468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1029"/>
              <p:cNvSpPr/>
              <p:nvPr/>
            </p:nvSpPr>
            <p:spPr>
              <a:xfrm>
                <a:off x="3171960" y="3808440"/>
                <a:ext cx="55692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0"/>
              <p:cNvSpPr/>
              <p:nvPr/>
            </p:nvSpPr>
            <p:spPr>
              <a:xfrm>
                <a:off x="372888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1031"/>
              <p:cNvSpPr/>
              <p:nvPr/>
            </p:nvSpPr>
            <p:spPr>
              <a:xfrm>
                <a:off x="428616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32"/>
              <p:cNvSpPr/>
              <p:nvPr/>
            </p:nvSpPr>
            <p:spPr>
              <a:xfrm>
                <a:off x="484344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35"/>
              <p:cNvSpPr/>
              <p:nvPr/>
            </p:nvSpPr>
            <p:spPr>
              <a:xfrm>
                <a:off x="540072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36"/>
              <p:cNvSpPr/>
              <p:nvPr/>
            </p:nvSpPr>
            <p:spPr>
              <a:xfrm>
                <a:off x="5958000" y="3808440"/>
                <a:ext cx="557280" cy="45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1038"/>
            <p:cNvSpPr/>
            <p:nvPr/>
          </p:nvSpPr>
          <p:spPr>
            <a:xfrm>
              <a:off x="3352680" y="3352680"/>
              <a:ext cx="24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haracter str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1060"/>
            <p:cNvSpPr/>
            <p:nvPr/>
          </p:nvSpPr>
          <p:spPr>
            <a:xfrm>
              <a:off x="6553080" y="3962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nally Java uses the concept of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a stream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read and write useful data such as integers and doubles (as opposed to just bytes and charact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a mechanism calle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layerin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attach these different types of streams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 we can attach an input stream to a file and then attach a data input stream to the file input stream so we can read a file of integers. (See later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va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o package contains all of the classes for input/output and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s all quite complex because of its huge 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s even worse than that because before we can use streams we need to know abou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xception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ception hand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Java programs which deal with files and/or streams must includ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ceptions are error conditions encountered in executing cla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tempting to read past an end of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tempting to read a file that doesn’t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ying to open a malformed U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vide by z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king the square root of a negative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rmal error handling (in C) would return an error code (eg. –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23880" y="1905120"/>
            <a:ext cx="76201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readFile(…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!end_of_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ad th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–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 while not_end_of_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number_of_bytes_rea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10-11-29T11:55:22Z</dcterms:modified>
  <cp:revision>163</cp:revision>
  <dc:subject/>
  <dc:title>EE2E1. JAVA Programming  </dc:title>
</cp:coreProperties>
</file>