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746875" cy="9853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9E926-6577-4F41-A5D8-9145D0988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81EA7-3404-4D26-BFB2-646C48124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AC307-60C7-49C3-A40A-A92149BAB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2E3A9-0B56-44B0-BEB0-4B2FD3F4D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7ECC3-AE66-4EC1-A77B-AB772DC6D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E128E-17C0-46F8-8ABB-D35BB79EE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5F361-2E94-485E-9B84-9437882B5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7F1BE-AC3C-4332-AA30-C503A837F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5D94B-9BB8-46FD-84F9-E82F307E4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1412C-1F4D-40A2-B9A8-29E1D21D7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9BB60-70E4-41AD-8813-270E46535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B17F3-07FB-4FBC-B7D5-840A23B67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9948C-EA3C-4D35-BBC6-6C6D8E377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25E12-08C8-41D4-93B6-879641546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E6AF2-E888-4DD6-9681-DD8623669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2B911-9C6A-4944-9A14-09884E491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18A05-3A3B-4F09-AC5A-8761F9506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5A575-9FE4-4DC9-BD6B-2957968EE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1F453-BBFF-4DB1-A79A-DB5E6690C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28864-A11C-48EA-8B55-BE2B0B063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2ECE8-9A2A-4D33-BB41-1A8C63205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5FC43-9B26-459A-B97F-81C3B289F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FC5C4-5D03-44B5-B712-3E53DAF6E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6E8C0-4FBB-4575-8A39-C3E380A41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BE70B-3489-404B-AF55-4005D7F7568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3B3E9-EE77-411C-BFE0-FB33043B8E4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4784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896040" algn="ctr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438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7920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javaboutique.internet.com/applet_index/d.html" TargetMode="External"/><Relationship Id="rId2" Type="http://schemas.openxmlformats.org/officeDocument/2006/relationships/hyperlink" Target="http://javaboutique.internet.com/applet_index/d.html" TargetMode="External"/><Relationship Id="rId3" Type="http://schemas.openxmlformats.org/officeDocument/2006/relationships/hyperlink" Target="http://javaboutique.internet.com/applet_index/d.html" TargetMode="External"/><Relationship Id="rId4" Type="http://schemas.openxmlformats.org/officeDocument/2006/relationships/hyperlink" Target="http://javaboutique.internet.com/Date2Day/" TargetMode="External"/><Relationship Id="rId5" Type="http://schemas.openxmlformats.org/officeDocument/2006/relationships/hyperlink" Target="http://javaboutique.internet.com/Date2Day/" TargetMode="External"/><Relationship Id="rId6" Type="http://schemas.openxmlformats.org/officeDocument/2006/relationships/hyperlink" Target="http://javaboutique.internet.com/Date2Day/" TargetMode="External"/><Relationship Id="rId7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eee.bham.ac.uk/spannm/Java%20Stuff/MessageApplet/MessageApplet.html" TargetMode="External"/><Relationship Id="rId2" Type="http://schemas.openxmlformats.org/officeDocument/2006/relationships/hyperlink" Target="http://www.eee.bham.ac.uk/spannm/Java%20Stuff/MessageApplet/MessageApplet.html" TargetMode="External"/><Relationship Id="rId3" Type="http://schemas.openxmlformats.org/officeDocument/2006/relationships/hyperlink" Target="http://www.eee.bham.ac.uk/spannm/Java%20Stuff/MessageApplet/MessageApplet.html" TargetMode="External"/><Relationship Id="rId4" Type="http://schemas.openxmlformats.org/officeDocument/2006/relationships/hyperlink" Target="http://www.eee.bham.ac.uk/spannm/Java%20Stuff/MessageApplet/MessageApplet.html" TargetMode="External"/><Relationship Id="rId5" Type="http://schemas.openxmlformats.org/officeDocument/2006/relationships/hyperlink" Target="http://www.eee.bham.ac.uk/spannm/Java%20Stuff/MessageApplet/MessageApplet.html" TargetMode="External"/><Relationship Id="rId6" Type="http://schemas.openxmlformats.org/officeDocument/2006/relationships/hyperlink" Target="http://www.eee.bham.ac.uk/spannm/Java%20Stuff/MessageApplet/MessageApplet.html" TargetMode="External"/><Relationship Id="rId7" Type="http://schemas.openxmlformats.org/officeDocument/2006/relationships/hyperlink" Target="http://www.eee.bham.ac.uk/spannm/Java%20Stuff/MessageApplet/MessageApplet.html" TargetMode="External"/><Relationship Id="rId8" Type="http://schemas.openxmlformats.org/officeDocument/2006/relationships/hyperlink" Target="http://www.eee.bham.ac.uk/spannm/Java%20Stuff/MessageApplet/MessageApplet.html" TargetMode="External"/><Relationship Id="rId9" Type="http://schemas.openxmlformats.org/officeDocument/2006/relationships/hyperlink" Target="http://www.eee.bham.ac.uk/spannm/Java%20Stuff/MessageApplet/MessageApplet.html" TargetMode="External"/><Relationship Id="rId10" Type="http://schemas.openxmlformats.org/officeDocument/2006/relationships/hyperlink" Target="http://www.eee.bham.ac.uk/spannm/Java%20Stuff/MessageApplet/MessageApplet.html" TargetMode="External"/><Relationship Id="rId11" Type="http://schemas.openxmlformats.org/officeDocument/2006/relationships/hyperlink" Target="http://www.eee.bham.ac.uk/spannm/Java%20Stuff/MessageApplet/MessageApplet.html" TargetMode="External"/><Relationship Id="rId12" Type="http://schemas.openxmlformats.org/officeDocument/2006/relationships/hyperlink" Target="http://www.eee.bham.ac.uk/spannm/Java%20Stuff/MessageApplet/MessageApplet.html" TargetMode="External"/><Relationship Id="rId13" Type="http://schemas.openxmlformats.org/officeDocument/2006/relationships/hyperlink" Target="http://www.eee.bham.ac.uk/spannm/Java%20Stuff/MessageApplet/MessageApplet.html" TargetMode="External"/><Relationship Id="rId1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e.bham.ac.uk/spannm/Java%20Stuff/HelloWorldApplet/HelloWorldApplet.html" TargetMode="External"/><Relationship Id="rId2" Type="http://schemas.openxmlformats.org/officeDocument/2006/relationships/hyperlink" Target="http://www.eee.bham.ac.uk/spannm/Java%20Stuff/HelloWorldApplet/HelloWorldApplet.html" TargetMode="External"/><Relationship Id="rId3" Type="http://schemas.openxmlformats.org/officeDocument/2006/relationships/hyperlink" Target="http://www.eee.bham.ac.uk/spannm/Java%20Stuff/HelloWorldApplet/HelloWorldApplet.html" TargetMode="External"/><Relationship Id="rId4" Type="http://schemas.openxmlformats.org/officeDocument/2006/relationships/hyperlink" Target="http://www.eee.bham.ac.uk/spannm/Java%20Stuff/HelloWorldApplet/HelloWorldApplet.html" TargetMode="External"/><Relationship Id="rId5" Type="http://schemas.openxmlformats.org/officeDocument/2006/relationships/hyperlink" Target="http://www.eee.bham.ac.uk/spannm/Java%20Stuff/HelloWorldApplet/HelloWorldApplet.html" TargetMode="External"/><Relationship Id="rId6" Type="http://schemas.openxmlformats.org/officeDocument/2006/relationships/hyperlink" Target="http://www.eee.bham.ac.uk/spannm/Java%20Stuff/HelloWorldApplet/HelloWorldApplet.html" TargetMode="External"/><Relationship Id="rId7" Type="http://schemas.openxmlformats.org/officeDocument/2006/relationships/hyperlink" Target="http://www.eee.bham.ac.uk/spannm/Java%20Stuff/HelloWorldApplet/HelloWorldApplet.html" TargetMode="External"/><Relationship Id="rId8" Type="http://schemas.openxmlformats.org/officeDocument/2006/relationships/hyperlink" Target="http://www.eee.bham.ac.uk/spannm/Java%20Stuff/HelloWorldApplet/HelloWorldApplet.html" TargetMode="External"/><Relationship Id="rId9" Type="http://schemas.openxmlformats.org/officeDocument/2006/relationships/hyperlink" Target="http://www.eee.bham.ac.uk/spannm/Java%20Stuff/HelloWorldApplet/HelloWorldApplet.html" TargetMode="External"/><Relationship Id="rId10" Type="http://schemas.openxmlformats.org/officeDocument/2006/relationships/hyperlink" Target="http://www.eee.bham.ac.uk/spannm/Java%20Stuff/HelloWorldApplet/HelloWorldApplet.html" TargetMode="External"/><Relationship Id="rId11" Type="http://schemas.openxmlformats.org/officeDocument/2006/relationships/hyperlink" Target="http://www.eee.bham.ac.uk/spannm/Java%20Stuff/HelloWorldApplet/HelloWorldApplet.html" TargetMode="External"/><Relationship Id="rId12" Type="http://schemas.openxmlformats.org/officeDocument/2006/relationships/hyperlink" Target="http://www.eee.bham.ac.uk/spannm/Java%20Stuff/HelloWorldApplet/HelloWorldApplet.html" TargetMode="External"/><Relationship Id="rId13" Type="http://schemas.openxmlformats.org/officeDocument/2006/relationships/hyperlink" Target="http://www.eee.bham.ac.uk/spannm/Java%20Stuff/HelloWorldApplet/HelloWorldApplet.html" TargetMode="External"/><Relationship Id="rId1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137124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ffff"/>
                </a:solidFill>
                <a:latin typeface="Times New Roman"/>
              </a:rPr>
              <a:t>EE2E1. JAVA Programming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16002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Lecture 1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ffffff"/>
                </a:solidFill>
                <a:latin typeface="Times New Roman"/>
              </a:rPr>
              <a:t>Apple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1371600" y="69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spcBef>
                <a:spcPts val="700"/>
              </a:spcBef>
              <a:spcAft>
                <a:spcPts val="700"/>
              </a:spcAft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n applet has no 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main(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metho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 algn="just">
              <a:spcBef>
                <a:spcPts val="700"/>
              </a:spcBef>
              <a:spcAft>
                <a:spcPts val="700"/>
              </a:spcAft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is is replaced by the 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init(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method and is called by the browser to perform initializ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 algn="just">
              <a:spcBef>
                <a:spcPts val="700"/>
              </a:spcBef>
              <a:spcAft>
                <a:spcPts val="700"/>
              </a:spcAft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Usually an applet has no construct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browser determines the graphics container title and the size is determined in the SIZE parameters of the .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html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fi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o need for calls to 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setSize(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and 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setTitle(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1123920" y="560520"/>
            <a:ext cx="7772400" cy="52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Other methods of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 JApplet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at you may need to imple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start(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51560" indent="-21024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utomatically called by the browser after 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init()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nd when the user returns to the web page (whereas 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init(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only called onc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stop(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51560" indent="-21024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utomatically called when the user moves off the web-page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destroy(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51560" indent="-21024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utomatically called when the browser shuts down (after it calls the 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stop(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metho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51560" indent="-21024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ormally put code to reclaim resources he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1123920" y="528480"/>
            <a:ext cx="7772400" cy="516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Lots of other example applets can be found at </a:t>
            </a:r>
            <a:r>
              <a:rPr b="0" lang="en-GB" sz="3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</a:t>
            </a:r>
            <a:r>
              <a:rPr b="0" lang="en-GB" sz="32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javaboutique</a:t>
            </a:r>
            <a:r>
              <a:rPr b="0" lang="en-GB" sz="32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.internet.com/applet_index/d.htm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 favourite of mine is </a:t>
            </a:r>
            <a:r>
              <a:rPr b="0" lang="en-GB" sz="32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http://</a:t>
            </a:r>
            <a:r>
              <a:rPr b="0" lang="en-GB" sz="32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javaboutique</a:t>
            </a:r>
            <a:r>
              <a:rPr b="0" lang="en-GB" sz="32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.internet.com/Date2Day/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89080" y="198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ffff"/>
                </a:solidFill>
                <a:latin typeface="Times New Roman"/>
              </a:rPr>
              <a:t>Browsers and plug-in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08080" y="1260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lnSpc>
                <a:spcPct val="90000"/>
              </a:lnSpc>
              <a:spcBef>
                <a:spcPts val="1225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nternet browsers such as Explorer and Netscape have not kept up with the development of Jav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09120" indent="-234360">
              <a:lnSpc>
                <a:spcPct val="90000"/>
              </a:lnSpc>
              <a:spcBef>
                <a:spcPts val="1225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Both contain a Java Virtual Machine (JVM) but earlier versions of the browsers can only run Java 1.0 programs not the more recent Java 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09120" indent="-234360">
              <a:lnSpc>
                <a:spcPct val="90000"/>
              </a:lnSpc>
              <a:spcBef>
                <a:spcPts val="1225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is is always going to be a problem as Java is developing much faster than internet brows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1225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o combat his problem, Sun developed a Java 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plug-in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which ‘plugs into’ either IE or Netscap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09120" indent="-234360">
              <a:lnSpc>
                <a:spcPct val="90000"/>
              </a:lnSpc>
              <a:spcBef>
                <a:spcPts val="1225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llows the browser to run the JVM installed on the machine running the browser and not its internal vers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433520" y="457200"/>
            <a:ext cx="7359480" cy="4387680"/>
          </a:xfrm>
          <a:prstGeom prst="rect">
            <a:avLst/>
          </a:prstGeom>
          <a:solidFill>
            <a:srgbClr val="bec20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798560" y="1630440"/>
            <a:ext cx="2652840" cy="2528640"/>
          </a:xfrm>
          <a:prstGeom prst="rect">
            <a:avLst/>
          </a:prstGeom>
          <a:solidFill>
            <a:srgbClr val="be2b0e"/>
          </a:solidFill>
          <a:ln w="9360">
            <a:solidFill>
              <a:srgbClr val="be2b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209680" y="1889280"/>
            <a:ext cx="2087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Java virtual machi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11720" y="1386000"/>
            <a:ext cx="3032280" cy="2879640"/>
          </a:xfrm>
          <a:prstGeom prst="rect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759280" y="1539720"/>
            <a:ext cx="204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Brows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745240" y="2955960"/>
            <a:ext cx="1674720" cy="914400"/>
          </a:xfrm>
          <a:prstGeom prst="rect">
            <a:avLst/>
          </a:prstGeom>
          <a:solidFill>
            <a:srgbClr val="be2b0e"/>
          </a:solidFill>
          <a:ln w="9360">
            <a:solidFill>
              <a:srgbClr val="be2b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729400" y="2986200"/>
            <a:ext cx="208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Java virtual machi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641760" y="5286240"/>
            <a:ext cx="3384360" cy="1343160"/>
          </a:xfrm>
          <a:prstGeom prst="flowChartDocument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618080" y="53784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Times New Roman"/>
              </a:rPr>
              <a:t>html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f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732120" y="5897520"/>
            <a:ext cx="329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&lt;… code for plug-in …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90" name=""/>
          <p:cNvCxnSpPr>
            <a:stCxn id="187" idx="1"/>
            <a:endCxn id="181" idx="2"/>
          </p:cNvCxnSpPr>
          <p:nvPr/>
        </p:nvCxnSpPr>
        <p:spPr>
          <a:xfrm rot="10800000">
            <a:off x="3125160" y="4158360"/>
            <a:ext cx="516600" cy="1799640"/>
          </a:xfrm>
          <a:prstGeom prst="bentConnector2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1" name=""/>
          <p:cNvSpPr/>
          <p:nvPr/>
        </p:nvSpPr>
        <p:spPr>
          <a:xfrm>
            <a:off x="3429000" y="608040"/>
            <a:ext cx="38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MS Mincho"/>
              </a:rPr>
              <a:t>Client compu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92" name=""/>
          <p:cNvCxnSpPr>
            <a:stCxn id="183" idx="2"/>
            <a:endCxn id="187" idx="0"/>
          </p:cNvCxnSpPr>
          <p:nvPr/>
        </p:nvCxnSpPr>
        <p:spPr>
          <a:xfrm flipH="1">
            <a:off x="5333400" y="4265280"/>
            <a:ext cx="1394280" cy="10213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1184400" y="329760"/>
            <a:ext cx="7772400" cy="53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Plug-ins allow the user to select any of the installed JVM’s but it makes the .</a:t>
            </a:r>
            <a:r>
              <a:rPr b="0" i="1" lang="en-GB" sz="3200" spc="-1" strike="noStrike">
                <a:solidFill>
                  <a:srgbClr val="ffffff"/>
                </a:solidFill>
                <a:latin typeface="Times New Roman"/>
              </a:rPr>
              <a:t>html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file much more comple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11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For an example see </a:t>
            </a:r>
            <a:r>
              <a:rPr b="0" i="1" lang="en-GB" sz="3200" spc="-1" strike="noStrike">
                <a:solidFill>
                  <a:srgbClr val="ffffff"/>
                </a:solidFill>
                <a:latin typeface="Times New Roman"/>
              </a:rPr>
              <a:t>Core Java 2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page 37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Fortunately, the simple .</a:t>
            </a:r>
            <a:r>
              <a:rPr b="0" i="1" lang="en-GB" sz="3200" spc="-1" strike="noStrike">
                <a:solidFill>
                  <a:srgbClr val="ffffff"/>
                </a:solidFill>
                <a:latin typeface="Times New Roman"/>
              </a:rPr>
              <a:t>html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file delimited between the the </a:t>
            </a:r>
            <a:r>
              <a:rPr b="0" i="1" lang="en-GB" sz="3200" spc="-1" strike="noStrike">
                <a:solidFill>
                  <a:srgbClr val="ffffff"/>
                </a:solidFill>
                <a:latin typeface="Times New Roman"/>
              </a:rPr>
              <a:t>APPLET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and /APPLET tags is sufficient for more recent browsers compatible with Java 2 (such as Netscape 6 or Netscape 7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876320" y="5251320"/>
            <a:ext cx="6309000" cy="12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PPLET  CODE = "HelloWorldApplet.class"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IDTH = 300 HEIGHT = 300 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/APPLE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1170000" y="681120"/>
            <a:ext cx="7772400" cy="53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lso, a .</a:t>
            </a:r>
            <a:r>
              <a:rPr b="0" i="1" lang="en-GB" sz="3200" spc="-1" strike="noStrike">
                <a:solidFill>
                  <a:srgbClr val="ffffff"/>
                </a:solidFill>
                <a:latin typeface="Times New Roman"/>
              </a:rPr>
              <a:t>html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ffffff"/>
                </a:solidFill>
                <a:latin typeface="Times New Roman"/>
              </a:rPr>
              <a:t>converter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can automatically generate the code for the plug-in from this simple .</a:t>
            </a:r>
            <a:r>
              <a:rPr b="0" i="1" lang="en-GB" sz="3200" spc="-1" strike="noStrike">
                <a:solidFill>
                  <a:srgbClr val="ffffff"/>
                </a:solidFill>
                <a:latin typeface="Times New Roman"/>
              </a:rPr>
              <a:t>html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fi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he </a:t>
            </a:r>
            <a:r>
              <a:rPr b="0" i="1" lang="en-GB" sz="3200" spc="-1" strike="noStrike">
                <a:solidFill>
                  <a:srgbClr val="ffffff"/>
                </a:solidFill>
                <a:latin typeface="Times New Roman"/>
              </a:rPr>
              <a:t>appletviewer 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program can understand the basic .</a:t>
            </a:r>
            <a:r>
              <a:rPr b="0" i="1" lang="en-GB" sz="3200" spc="-1" strike="noStrike">
                <a:solidFill>
                  <a:srgbClr val="ffffff"/>
                </a:solidFill>
                <a:latin typeface="Times New Roman"/>
              </a:rPr>
              <a:t>html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file and is a good tool for testing applets outside of the brows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n be called from the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Textpa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edi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89080" y="183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ffff"/>
                </a:solidFill>
                <a:latin typeface="Times New Roman"/>
              </a:rPr>
              <a:t>Applet attribute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111320" y="1216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se are specified after the APPLET tag which tell the browser how to load and display the apple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1225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general form is as follows (attributes in [..] are optional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316240" y="3090960"/>
            <a:ext cx="6476760" cy="336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Times New Roman"/>
              </a:rPr>
              <a:t>&lt; APPLET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[</a:t>
            </a:r>
            <a:r>
              <a:rPr b="1" lang="en-US" sz="2300" spc="-1" strike="noStrike">
                <a:solidFill>
                  <a:srgbClr val="ffffff"/>
                </a:solidFill>
                <a:latin typeface="Times New Roman"/>
              </a:rPr>
              <a:t>CODEBASE =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300" spc="-1" strike="noStrike">
                <a:solidFill>
                  <a:srgbClr val="ffffff"/>
                </a:solidFill>
                <a:latin typeface="Times New Roman"/>
              </a:rPr>
              <a:t>codebaseURL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] 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300" spc="-1" strike="noStrike">
                <a:solidFill>
                  <a:srgbClr val="ffffff"/>
                </a:solidFill>
                <a:latin typeface="Times New Roman"/>
              </a:rPr>
              <a:t>CODE =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300" spc="-1" strike="noStrike">
                <a:solidFill>
                  <a:srgbClr val="ffffff"/>
                </a:solidFill>
                <a:latin typeface="Times New Roman"/>
              </a:rPr>
              <a:t>appletFile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[</a:t>
            </a:r>
            <a:r>
              <a:rPr b="1" lang="en-GB" sz="2300" spc="-1" strike="noStrike">
                <a:solidFill>
                  <a:srgbClr val="ffffff"/>
                </a:solidFill>
                <a:latin typeface="Times New Roman"/>
              </a:rPr>
              <a:t>ARCHIVE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 = </a:t>
            </a:r>
            <a:r>
              <a:rPr b="0" i="1" lang="en-GB" sz="2300" spc="-1" strike="noStrike">
                <a:solidFill>
                  <a:srgbClr val="ffffff"/>
                </a:solidFill>
                <a:latin typeface="Times New Roman"/>
              </a:rPr>
              <a:t>jarFile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]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[</a:t>
            </a:r>
            <a:r>
              <a:rPr b="1" lang="en-US" sz="2300" spc="-1" strike="noStrike">
                <a:solidFill>
                  <a:srgbClr val="ffffff"/>
                </a:solidFill>
                <a:latin typeface="Times New Roman"/>
              </a:rPr>
              <a:t>ALT =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300" spc="-1" strike="noStrike">
                <a:solidFill>
                  <a:srgbClr val="ffffff"/>
                </a:solidFill>
                <a:latin typeface="Times New Roman"/>
              </a:rPr>
              <a:t>alternateText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] 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[</a:t>
            </a:r>
            <a:r>
              <a:rPr b="1" lang="en-US" sz="2300" spc="-1" strike="noStrike">
                <a:solidFill>
                  <a:srgbClr val="ffffff"/>
                </a:solidFill>
                <a:latin typeface="Times New Roman"/>
              </a:rPr>
              <a:t>NAME =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300" spc="-1" strike="noStrike">
                <a:solidFill>
                  <a:srgbClr val="ffffff"/>
                </a:solidFill>
                <a:latin typeface="Times New Roman"/>
              </a:rPr>
              <a:t>appletInstanceName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] 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300" spc="-1" strike="noStrike">
                <a:solidFill>
                  <a:srgbClr val="ffffff"/>
                </a:solidFill>
                <a:latin typeface="Times New Roman"/>
              </a:rPr>
              <a:t>WIDTH =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300" spc="-1" strike="noStrike">
                <a:solidFill>
                  <a:srgbClr val="ffffff"/>
                </a:solidFill>
                <a:latin typeface="Times New Roman"/>
              </a:rPr>
              <a:t>pixels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300" spc="-1" strike="noStrike">
                <a:solidFill>
                  <a:srgbClr val="ffffff"/>
                </a:solidFill>
                <a:latin typeface="Times New Roman"/>
              </a:rPr>
              <a:t>HEIGHT =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300" spc="-1" strike="noStrike">
                <a:solidFill>
                  <a:srgbClr val="ffffff"/>
                </a:solidFill>
                <a:latin typeface="Times New Roman"/>
              </a:rPr>
              <a:t>pixels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[</a:t>
            </a:r>
            <a:r>
              <a:rPr b="1" lang="en-US" sz="2300" spc="-1" strike="noStrike">
                <a:solidFill>
                  <a:srgbClr val="ffffff"/>
                </a:solidFill>
                <a:latin typeface="Times New Roman"/>
              </a:rPr>
              <a:t>ALIGN =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300" spc="-1" strike="noStrike">
                <a:solidFill>
                  <a:srgbClr val="ffffff"/>
                </a:solidFill>
                <a:latin typeface="Times New Roman"/>
              </a:rPr>
              <a:t>alignment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] 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[</a:t>
            </a:r>
            <a:r>
              <a:rPr b="1" lang="en-US" sz="2300" spc="-1" strike="noStrike">
                <a:solidFill>
                  <a:srgbClr val="ffffff"/>
                </a:solidFill>
                <a:latin typeface="Times New Roman"/>
              </a:rPr>
              <a:t>VSPACE =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300" spc="-1" strike="noStrike">
                <a:solidFill>
                  <a:srgbClr val="ffffff"/>
                </a:solidFill>
                <a:latin typeface="Times New Roman"/>
              </a:rPr>
              <a:t>pixels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] 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[</a:t>
            </a:r>
            <a:r>
              <a:rPr b="1" lang="en-US" sz="2300" spc="-1" strike="noStrike">
                <a:solidFill>
                  <a:srgbClr val="ffffff"/>
                </a:solidFill>
                <a:latin typeface="Times New Roman"/>
              </a:rPr>
              <a:t>HSPACE =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300" spc="-1" strike="noStrike">
                <a:solidFill>
                  <a:srgbClr val="ffffff"/>
                </a:solidFill>
                <a:latin typeface="Times New Roman"/>
              </a:rPr>
              <a:t>pixels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] 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Times New Roman"/>
              </a:rPr>
              <a:t>&lt;/APPLET&gt;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1170000" y="560160"/>
            <a:ext cx="7772400" cy="55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ill only look at the most common attribu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IDTH, HEIGH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he width and height of the applet window in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Note that in a browser, the applet </a:t>
            </a:r>
            <a:r>
              <a:rPr b="0" i="1" lang="en-GB" sz="3200" spc="-1" strike="noStrike">
                <a:solidFill>
                  <a:srgbClr val="ffffff"/>
                </a:solidFill>
                <a:latin typeface="Times New Roman"/>
              </a:rPr>
              <a:t>cannot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be resized so you need to make a good guess at these valu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1170000" y="666720"/>
            <a:ext cx="7772400" cy="53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CODE attribute is simply the name of the applet 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class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fi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225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 CODEBASE attribute to tell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the browser in which directory the applet's files are located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1225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f this attribute is not specified, the .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class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file is in the same directory as the .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html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fi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1225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f it is specified, it is the relative path from the directory of the .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html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fi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ffff"/>
                </a:solidFill>
                <a:latin typeface="Times New Roman"/>
              </a:rPr>
              <a:t>Content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294920" y="1599840"/>
            <a:ext cx="807732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b-servers and cli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 simple example “Hello World!” applet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onverting an application to an apple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Browsers and plug-i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pplet attribut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Passing parameters to apple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pplet secur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JAR files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"/>
          <p:cNvGrpSpPr/>
          <p:nvPr/>
        </p:nvGrpSpPr>
        <p:grpSpPr>
          <a:xfrm>
            <a:off x="1403280" y="3156120"/>
            <a:ext cx="5759640" cy="3000240"/>
            <a:chOff x="1403280" y="3156120"/>
            <a:chExt cx="5759640" cy="3000240"/>
          </a:xfrm>
        </p:grpSpPr>
        <p:sp>
          <p:nvSpPr>
            <p:cNvPr id="202" name=""/>
            <p:cNvSpPr/>
            <p:nvPr/>
          </p:nvSpPr>
          <p:spPr>
            <a:xfrm>
              <a:off x="4389480" y="5226120"/>
              <a:ext cx="2773440" cy="930240"/>
            </a:xfrm>
            <a:prstGeom prst="flowChartDocument">
              <a:avLst/>
            </a:prstGeom>
            <a:solidFill>
              <a:srgbClr val="be2b0e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110040" y="3156120"/>
              <a:ext cx="2149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Times New Roman"/>
                </a:rPr>
                <a:t>/myDirectory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403280" y="4160880"/>
              <a:ext cx="2071800" cy="625320"/>
            </a:xfrm>
            <a:prstGeom prst="flowChartDocument">
              <a:avLst/>
            </a:prstGeom>
            <a:solidFill>
              <a:srgbClr val="be2b0e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417680" y="4208400"/>
              <a:ext cx="222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Times New Roman"/>
                </a:rPr>
                <a:t>myHTML.html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 flipV="1">
              <a:off x="2668680" y="3612960"/>
              <a:ext cx="776160" cy="4251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710240" y="4146480"/>
              <a:ext cx="182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Times New Roman"/>
                </a:rPr>
                <a:t>/appletDi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 flipH="1" flipV="1">
              <a:off x="4756320" y="3612960"/>
              <a:ext cx="669600" cy="441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605480" y="5394240"/>
              <a:ext cx="2253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Times New Roman"/>
                </a:rPr>
                <a:t>myApplet.clas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 flipH="1" flipV="1">
              <a:off x="5487480" y="4603680"/>
              <a:ext cx="304920" cy="533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1798560" y="441360"/>
            <a:ext cx="6172200" cy="2133720"/>
            <a:chOff x="1798560" y="441360"/>
            <a:chExt cx="6172200" cy="2133720"/>
          </a:xfrm>
        </p:grpSpPr>
        <p:sp>
          <p:nvSpPr>
            <p:cNvPr id="212" name=""/>
            <p:cNvSpPr/>
            <p:nvPr/>
          </p:nvSpPr>
          <p:spPr>
            <a:xfrm>
              <a:off x="1935000" y="1189080"/>
              <a:ext cx="60357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&lt;APPLET CODE=</a:t>
              </a:r>
              <a:r>
                <a:rPr b="0" lang="en-GB" sz="2400" spc="-1" strike="noStrike">
                  <a:solidFill>
                    <a:srgbClr val="ffffff"/>
                  </a:solidFill>
                  <a:latin typeface="Times New Roman"/>
                </a:rPr>
                <a:t>myApple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.class CODEBASE=“</a:t>
              </a:r>
              <a:r>
                <a:rPr b="0" lang="en-GB" sz="2400" spc="-1" strike="noStrike">
                  <a:solidFill>
                    <a:srgbClr val="ffffff"/>
                  </a:solidFill>
                  <a:latin typeface="Times New Roman"/>
                </a:rPr>
                <a:t>appletDir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/"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WIDTH=500 HEIGHT=</a:t>
              </a:r>
              <a:r>
                <a:rPr b="0" lang="en-GB" sz="2400" spc="-1" strike="noStrike">
                  <a:solidFill>
                    <a:srgbClr val="ffffff"/>
                  </a:solidFill>
                  <a:latin typeface="Times New Roman"/>
                </a:rPr>
                <a:t>500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&gt; &lt;/APPLET&gt;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438280" y="441360"/>
              <a:ext cx="448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Times New Roman"/>
                </a:rPr>
                <a:t>“…</a:t>
              </a:r>
              <a:r>
                <a:rPr b="0" lang="en-GB" sz="2400" spc="-1" strike="noStrike">
                  <a:solidFill>
                    <a:srgbClr val="ffffff"/>
                  </a:solidFill>
                  <a:latin typeface="Times New Roman"/>
                </a:rPr>
                <a:t>/myDirectory/myHTML.html”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798560" y="1096920"/>
              <a:ext cx="6034320" cy="14781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1170000" y="743040"/>
            <a:ext cx="7772400" cy="53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NA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Used when applets on the same page want to communicate and calling applets from JavaScrip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RCHI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Used for more efficiently downloading multiple .</a:t>
            </a:r>
            <a:r>
              <a:rPr b="0" i="1" lang="en-GB" sz="3200" spc="-1" strike="noStrike">
                <a:solidFill>
                  <a:srgbClr val="ffffff"/>
                </a:solidFill>
                <a:latin typeface="Times New Roman"/>
              </a:rPr>
              <a:t>class 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files in one Java archive file (see later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04940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ffff"/>
                </a:solidFill>
                <a:latin typeface="Times New Roman"/>
              </a:rPr>
              <a:t>Passing parameters to applet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8720" y="1216080"/>
            <a:ext cx="795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spcAft>
                <a:spcPts val="524"/>
              </a:spcAft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pplets can use parameters passed to them from the .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html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fi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876"/>
              </a:spcBef>
              <a:spcAft>
                <a:spcPts val="524"/>
              </a:spcAft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is is done using the 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PARAM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tag in the .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html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fi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876"/>
              </a:spcBef>
              <a:spcAft>
                <a:spcPts val="524"/>
              </a:spcAft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NAME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and 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VALUE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tags then specify the parameter name and valu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371600" y="4178160"/>
            <a:ext cx="7772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APPLET CODE=Applet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ass.clas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IDTH=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500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HEIGHT=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50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gt;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PARAM NAME=parameter1Name VALUE=aValue&gt;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PARAM NAME=parameter2NameVALUE=anotherValue&gt; &lt;/APPLET&gt;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1170000" y="666720"/>
            <a:ext cx="7772400" cy="53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spcAft>
                <a:spcPts val="524"/>
              </a:spcAft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getParameter(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method of 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JApplet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then retrieves that (string) parame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225"/>
              </a:spcBef>
              <a:spcAft>
                <a:spcPts val="524"/>
              </a:spcAft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arameters allow the applet versatility to be increased without the need to recompile the applet co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225"/>
              </a:spcBef>
              <a:spcAft>
                <a:spcPts val="524"/>
              </a:spcAft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following example is the ‘Hello World’ applet with the printed message passed as a parame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1225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</a:t>
            </a:r>
            <a:r>
              <a:rPr b="0" lang="en-GB" sz="2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eee</a:t>
            </a:r>
            <a:r>
              <a:rPr b="0" lang="en-GB" sz="28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.</a:t>
            </a:r>
            <a:r>
              <a:rPr b="0" lang="en-GB" sz="28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bham</a:t>
            </a:r>
            <a:r>
              <a:rPr b="0" lang="en-GB" sz="28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.ac.</a:t>
            </a:r>
            <a:r>
              <a:rPr b="0" lang="en-GB" sz="28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uk</a:t>
            </a:r>
            <a:r>
              <a:rPr b="0" lang="en-GB" sz="2800" spc="-1" strike="noStrike" u="sng">
                <a:solidFill>
                  <a:srgbClr val="ccccff"/>
                </a:solidFill>
                <a:uFillTx/>
                <a:latin typeface="Times New Roman"/>
                <a:hlinkClick r:id="rId7"/>
              </a:rPr>
              <a:t>/</a:t>
            </a:r>
            <a:r>
              <a:rPr b="0" lang="en-GB" sz="2800" spc="-1" strike="noStrike" u="sng">
                <a:solidFill>
                  <a:srgbClr val="ccccff"/>
                </a:solidFill>
                <a:uFillTx/>
                <a:latin typeface="Times New Roman"/>
                <a:hlinkClick r:id="rId8"/>
              </a:rPr>
              <a:t>spannm</a:t>
            </a:r>
            <a:r>
              <a:rPr b="0" lang="en-GB" sz="2800" spc="-1" strike="noStrike" u="sng">
                <a:solidFill>
                  <a:srgbClr val="ccccff"/>
                </a:solidFill>
                <a:uFillTx/>
                <a:latin typeface="Times New Roman"/>
                <a:hlinkClick r:id="rId9"/>
              </a:rPr>
              <a:t>/Java%20Stuff/</a:t>
            </a:r>
            <a:r>
              <a:rPr b="0" lang="en-GB" sz="2800" spc="-1" strike="noStrike" u="sng">
                <a:solidFill>
                  <a:srgbClr val="ccccff"/>
                </a:solidFill>
                <a:uFillTx/>
                <a:latin typeface="Times New Roman"/>
                <a:hlinkClick r:id="rId10"/>
              </a:rPr>
              <a:t>MessageApplet</a:t>
            </a:r>
            <a:r>
              <a:rPr b="0" lang="en-GB" sz="2800" spc="-1" strike="noStrike" u="sng">
                <a:solidFill>
                  <a:srgbClr val="ccccff"/>
                </a:solidFill>
                <a:uFillTx/>
                <a:latin typeface="Times New Roman"/>
                <a:hlinkClick r:id="rId11"/>
              </a:rPr>
              <a:t>/</a:t>
            </a:r>
            <a:r>
              <a:rPr b="0" lang="en-GB" sz="2800" spc="-1" strike="noStrike" u="sng">
                <a:solidFill>
                  <a:srgbClr val="ccccff"/>
                </a:solidFill>
                <a:uFillTx/>
                <a:latin typeface="Times New Roman"/>
                <a:hlinkClick r:id="rId12"/>
              </a:rPr>
              <a:t>MessageApplet</a:t>
            </a:r>
            <a:r>
              <a:rPr b="0" lang="en-GB" sz="2800" spc="-1" strike="noStrike" u="sng">
                <a:solidFill>
                  <a:srgbClr val="ccccff"/>
                </a:solidFill>
                <a:uFillTx/>
                <a:latin typeface="Times New Roman"/>
                <a:hlinkClick r:id="rId13"/>
              </a:rPr>
              <a:t>.html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1371600" y="34560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html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file is as follow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584360" y="1130400"/>
            <a:ext cx="7559640" cy="13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APPLET  CODE = "MessageApplet.class" WIDTH = 500 HEIGHT = 300 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PARAM  NAME=message VALUE="Another Message"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/APPLE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827360" y="3916440"/>
            <a:ext cx="612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ring messageValue=getParameter("message"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481040" y="4510080"/>
            <a:ext cx="7148520" cy="24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just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parameter is retrieved using the following line in the Java progra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 algn="just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 algn="just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420920" y="2584440"/>
            <a:ext cx="7467480" cy="18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just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ote that parameters are strings but they can be converted to other types (eg integers) using string pars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95280" y="252360"/>
            <a:ext cx="766440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ass MessagePanel extends JPan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{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blic void paintComponent(Graphics g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{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uper.paintComponent(g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nt f=new Font("SansSerif",Font.BOLD,36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.setFont(f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.drawString(messageValue, 50, 120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blic MessagePanel(String m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essageValue=m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ivate String messageValu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blic class MessageApplet extends JAppl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{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public void ini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{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tainer contentPane = getContentPan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ring messageValue=getParameter("message"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tentPane.add(new MessagePanel(messageValue)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ffff"/>
                </a:solidFill>
                <a:latin typeface="Times New Roman"/>
              </a:rPr>
              <a:t>Applet security</a:t>
            </a:r>
            <a:br>
              <a:rPr sz="4400"/>
            </a:b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170000" y="162540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pplets are programs downloaded from a remote site and run </a:t>
            </a:r>
            <a:r>
              <a:rPr b="0" i="1" lang="en-GB" sz="3200" spc="-1" strike="noStrike">
                <a:solidFill>
                  <a:srgbClr val="ffffff"/>
                </a:solidFill>
                <a:latin typeface="Times New Roman"/>
              </a:rPr>
              <a:t>automatically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on the users home compu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hey constitute potentially a huge security risk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For this reason, applets are extremely limited in their functional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ttempts to perform other functions leads to a </a:t>
            </a:r>
            <a:r>
              <a:rPr b="0" i="1" lang="en-GB" sz="3200" spc="-1" strike="noStrike">
                <a:solidFill>
                  <a:srgbClr val="ffffff"/>
                </a:solidFill>
                <a:latin typeface="Times New Roman"/>
              </a:rPr>
              <a:t>SecurityException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being generat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1170000" y="694800"/>
            <a:ext cx="7772400" cy="53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pplets </a:t>
            </a:r>
            <a:r>
              <a:rPr b="0" i="1" lang="en-GB" sz="3200" spc="-1" strike="noStrike">
                <a:solidFill>
                  <a:srgbClr val="ffffff"/>
                </a:solidFill>
                <a:latin typeface="Times New Roman"/>
              </a:rPr>
              <a:t>canno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Read or write to the local computer’s file syste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f this were not the case, applets could potentially read sensitive data (credit card info!) or delete important fi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pplets cannot find information about the local computer. For example user names and email addres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pplets cannot run a local executable program (for obvious reasons!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1143000" y="55836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pplets canno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ommunicate with any host except its </a:t>
            </a:r>
            <a:r>
              <a:rPr b="0" i="1" lang="en-GB" sz="3200" spc="-1" strike="noStrike">
                <a:solidFill>
                  <a:srgbClr val="ffffff"/>
                </a:solidFill>
                <a:latin typeface="Times New Roman"/>
              </a:rPr>
              <a:t>originating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ho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ffffff"/>
                </a:solidFill>
                <a:latin typeface="Times New Roman"/>
              </a:rPr>
              <a:t>Applets can only phone home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f this were not the case, applets could access web pages behind corporate </a:t>
            </a:r>
            <a:r>
              <a:rPr b="0" i="1" lang="en-GB" sz="3200" spc="-1" strike="noStrike">
                <a:solidFill>
                  <a:srgbClr val="ffffff"/>
                </a:solidFill>
                <a:latin typeface="Times New Roman"/>
              </a:rPr>
              <a:t>firewal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hey could then read potentially sensitive company inform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341360" y="593640"/>
            <a:ext cx="2590920" cy="2941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081080" y="3840120"/>
            <a:ext cx="347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Applet originating ho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720800" y="1187280"/>
            <a:ext cx="2057400" cy="762120"/>
          </a:xfrm>
          <a:prstGeom prst="flowChartDocumen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660680" y="202896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appl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399360" y="992160"/>
            <a:ext cx="1479240" cy="15098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429240" y="2973240"/>
            <a:ext cx="1479600" cy="2532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878600" y="1692360"/>
            <a:ext cx="3510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908840" y="3735360"/>
            <a:ext cx="3510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8245440" y="884160"/>
            <a:ext cx="0" cy="5791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248520" y="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308640" y="28908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orporate </a:t>
            </a:r>
            <a:r>
              <a:rPr b="0" i="1" lang="en-GB" sz="2400" spc="-1" strike="noStrike">
                <a:solidFill>
                  <a:srgbClr val="ffffff"/>
                </a:solidFill>
                <a:latin typeface="Times New Roman"/>
              </a:rPr>
              <a:t>intran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643280" y="3463920"/>
            <a:ext cx="1060560" cy="563400"/>
          </a:xfrm>
          <a:custGeom>
            <a:avLst/>
            <a:gdLst/>
            <a:ahLst/>
            <a:rect l="l" t="t" r="r" b="b"/>
            <a:pathLst>
              <a:path w="2004" h="1096">
                <a:moveTo>
                  <a:pt x="1002" y="786"/>
                </a:moveTo>
                <a:lnTo>
                  <a:pt x="975" y="786"/>
                </a:lnTo>
                <a:lnTo>
                  <a:pt x="946" y="786"/>
                </a:lnTo>
                <a:lnTo>
                  <a:pt x="917" y="786"/>
                </a:lnTo>
                <a:lnTo>
                  <a:pt x="886" y="784"/>
                </a:lnTo>
                <a:lnTo>
                  <a:pt x="854" y="783"/>
                </a:lnTo>
                <a:lnTo>
                  <a:pt x="821" y="781"/>
                </a:lnTo>
                <a:lnTo>
                  <a:pt x="787" y="777"/>
                </a:lnTo>
                <a:lnTo>
                  <a:pt x="753" y="773"/>
                </a:lnTo>
                <a:lnTo>
                  <a:pt x="717" y="767"/>
                </a:lnTo>
                <a:lnTo>
                  <a:pt x="682" y="759"/>
                </a:lnTo>
                <a:lnTo>
                  <a:pt x="646" y="750"/>
                </a:lnTo>
                <a:lnTo>
                  <a:pt x="609" y="740"/>
                </a:lnTo>
                <a:lnTo>
                  <a:pt x="572" y="727"/>
                </a:lnTo>
                <a:lnTo>
                  <a:pt x="535" y="712"/>
                </a:lnTo>
                <a:lnTo>
                  <a:pt x="498" y="694"/>
                </a:lnTo>
                <a:lnTo>
                  <a:pt x="462" y="674"/>
                </a:lnTo>
                <a:lnTo>
                  <a:pt x="416" y="650"/>
                </a:lnTo>
                <a:lnTo>
                  <a:pt x="374" y="624"/>
                </a:lnTo>
                <a:lnTo>
                  <a:pt x="334" y="597"/>
                </a:lnTo>
                <a:lnTo>
                  <a:pt x="298" y="568"/>
                </a:lnTo>
                <a:lnTo>
                  <a:pt x="266" y="538"/>
                </a:lnTo>
                <a:lnTo>
                  <a:pt x="238" y="505"/>
                </a:lnTo>
                <a:lnTo>
                  <a:pt x="215" y="469"/>
                </a:lnTo>
                <a:lnTo>
                  <a:pt x="198" y="431"/>
                </a:lnTo>
                <a:lnTo>
                  <a:pt x="187" y="389"/>
                </a:lnTo>
                <a:lnTo>
                  <a:pt x="182" y="344"/>
                </a:lnTo>
                <a:lnTo>
                  <a:pt x="183" y="297"/>
                </a:lnTo>
                <a:lnTo>
                  <a:pt x="192" y="245"/>
                </a:lnTo>
                <a:lnTo>
                  <a:pt x="209" y="190"/>
                </a:lnTo>
                <a:lnTo>
                  <a:pt x="233" y="131"/>
                </a:lnTo>
                <a:lnTo>
                  <a:pt x="266" y="67"/>
                </a:lnTo>
                <a:lnTo>
                  <a:pt x="308" y="0"/>
                </a:lnTo>
                <a:lnTo>
                  <a:pt x="233" y="53"/>
                </a:lnTo>
                <a:lnTo>
                  <a:pt x="169" y="108"/>
                </a:lnTo>
                <a:lnTo>
                  <a:pt x="117" y="162"/>
                </a:lnTo>
                <a:lnTo>
                  <a:pt x="75" y="217"/>
                </a:lnTo>
                <a:lnTo>
                  <a:pt x="42" y="270"/>
                </a:lnTo>
                <a:lnTo>
                  <a:pt x="20" y="325"/>
                </a:lnTo>
                <a:lnTo>
                  <a:pt x="6" y="379"/>
                </a:lnTo>
                <a:lnTo>
                  <a:pt x="0" y="431"/>
                </a:lnTo>
                <a:lnTo>
                  <a:pt x="3" y="484"/>
                </a:lnTo>
                <a:lnTo>
                  <a:pt x="11" y="535"/>
                </a:lnTo>
                <a:lnTo>
                  <a:pt x="28" y="586"/>
                </a:lnTo>
                <a:lnTo>
                  <a:pt x="50" y="636"/>
                </a:lnTo>
                <a:lnTo>
                  <a:pt x="76" y="685"/>
                </a:lnTo>
                <a:lnTo>
                  <a:pt x="108" y="732"/>
                </a:lnTo>
                <a:lnTo>
                  <a:pt x="145" y="779"/>
                </a:lnTo>
                <a:lnTo>
                  <a:pt x="184" y="824"/>
                </a:lnTo>
                <a:lnTo>
                  <a:pt x="214" y="851"/>
                </a:lnTo>
                <a:lnTo>
                  <a:pt x="245" y="876"/>
                </a:lnTo>
                <a:lnTo>
                  <a:pt x="280" y="900"/>
                </a:lnTo>
                <a:lnTo>
                  <a:pt x="317" y="924"/>
                </a:lnTo>
                <a:lnTo>
                  <a:pt x="357" y="947"/>
                </a:lnTo>
                <a:lnTo>
                  <a:pt x="399" y="969"/>
                </a:lnTo>
                <a:lnTo>
                  <a:pt x="445" y="989"/>
                </a:lnTo>
                <a:lnTo>
                  <a:pt x="495" y="1008"/>
                </a:lnTo>
                <a:lnTo>
                  <a:pt x="547" y="1026"/>
                </a:lnTo>
                <a:lnTo>
                  <a:pt x="601" y="1043"/>
                </a:lnTo>
                <a:lnTo>
                  <a:pt x="660" y="1057"/>
                </a:lnTo>
                <a:lnTo>
                  <a:pt x="721" y="1068"/>
                </a:lnTo>
                <a:lnTo>
                  <a:pt x="786" y="1078"/>
                </a:lnTo>
                <a:lnTo>
                  <a:pt x="854" y="1087"/>
                </a:lnTo>
                <a:lnTo>
                  <a:pt x="927" y="1092"/>
                </a:lnTo>
                <a:lnTo>
                  <a:pt x="1002" y="1096"/>
                </a:lnTo>
                <a:lnTo>
                  <a:pt x="1077" y="1093"/>
                </a:lnTo>
                <a:lnTo>
                  <a:pt x="1150" y="1087"/>
                </a:lnTo>
                <a:lnTo>
                  <a:pt x="1218" y="1078"/>
                </a:lnTo>
                <a:lnTo>
                  <a:pt x="1283" y="1067"/>
                </a:lnTo>
                <a:lnTo>
                  <a:pt x="1345" y="1053"/>
                </a:lnTo>
                <a:lnTo>
                  <a:pt x="1404" y="1037"/>
                </a:lnTo>
                <a:lnTo>
                  <a:pt x="1460" y="1020"/>
                </a:lnTo>
                <a:lnTo>
                  <a:pt x="1512" y="999"/>
                </a:lnTo>
                <a:lnTo>
                  <a:pt x="1561" y="979"/>
                </a:lnTo>
                <a:lnTo>
                  <a:pt x="1607" y="956"/>
                </a:lnTo>
                <a:lnTo>
                  <a:pt x="1651" y="932"/>
                </a:lnTo>
                <a:lnTo>
                  <a:pt x="1691" y="908"/>
                </a:lnTo>
                <a:lnTo>
                  <a:pt x="1729" y="882"/>
                </a:lnTo>
                <a:lnTo>
                  <a:pt x="1764" y="857"/>
                </a:lnTo>
                <a:lnTo>
                  <a:pt x="1795" y="830"/>
                </a:lnTo>
                <a:lnTo>
                  <a:pt x="1825" y="803"/>
                </a:lnTo>
                <a:lnTo>
                  <a:pt x="1864" y="759"/>
                </a:lnTo>
                <a:lnTo>
                  <a:pt x="1898" y="713"/>
                </a:lnTo>
                <a:lnTo>
                  <a:pt x="1930" y="667"/>
                </a:lnTo>
                <a:lnTo>
                  <a:pt x="1957" y="619"/>
                </a:lnTo>
                <a:lnTo>
                  <a:pt x="1979" y="572"/>
                </a:lnTo>
                <a:lnTo>
                  <a:pt x="1994" y="522"/>
                </a:lnTo>
                <a:lnTo>
                  <a:pt x="2003" y="473"/>
                </a:lnTo>
                <a:lnTo>
                  <a:pt x="2004" y="422"/>
                </a:lnTo>
                <a:lnTo>
                  <a:pt x="1999" y="371"/>
                </a:lnTo>
                <a:lnTo>
                  <a:pt x="1985" y="320"/>
                </a:lnTo>
                <a:lnTo>
                  <a:pt x="1963" y="268"/>
                </a:lnTo>
                <a:lnTo>
                  <a:pt x="1932" y="215"/>
                </a:lnTo>
                <a:lnTo>
                  <a:pt x="1890" y="162"/>
                </a:lnTo>
                <a:lnTo>
                  <a:pt x="1839" y="108"/>
                </a:lnTo>
                <a:lnTo>
                  <a:pt x="1775" y="54"/>
                </a:lnTo>
                <a:lnTo>
                  <a:pt x="1701" y="0"/>
                </a:lnTo>
                <a:lnTo>
                  <a:pt x="1738" y="71"/>
                </a:lnTo>
                <a:lnTo>
                  <a:pt x="1767" y="138"/>
                </a:lnTo>
                <a:lnTo>
                  <a:pt x="1788" y="201"/>
                </a:lnTo>
                <a:lnTo>
                  <a:pt x="1801" y="258"/>
                </a:lnTo>
                <a:lnTo>
                  <a:pt x="1807" y="311"/>
                </a:lnTo>
                <a:lnTo>
                  <a:pt x="1806" y="360"/>
                </a:lnTo>
                <a:lnTo>
                  <a:pt x="1799" y="405"/>
                </a:lnTo>
                <a:lnTo>
                  <a:pt x="1787" y="447"/>
                </a:lnTo>
                <a:lnTo>
                  <a:pt x="1769" y="485"/>
                </a:lnTo>
                <a:lnTo>
                  <a:pt x="1747" y="521"/>
                </a:lnTo>
                <a:lnTo>
                  <a:pt x="1720" y="553"/>
                </a:lnTo>
                <a:lnTo>
                  <a:pt x="1690" y="582"/>
                </a:lnTo>
                <a:lnTo>
                  <a:pt x="1657" y="610"/>
                </a:lnTo>
                <a:lnTo>
                  <a:pt x="1621" y="634"/>
                </a:lnTo>
                <a:lnTo>
                  <a:pt x="1583" y="657"/>
                </a:lnTo>
                <a:lnTo>
                  <a:pt x="1542" y="678"/>
                </a:lnTo>
                <a:lnTo>
                  <a:pt x="1506" y="698"/>
                </a:lnTo>
                <a:lnTo>
                  <a:pt x="1469" y="714"/>
                </a:lnTo>
                <a:lnTo>
                  <a:pt x="1432" y="730"/>
                </a:lnTo>
                <a:lnTo>
                  <a:pt x="1395" y="742"/>
                </a:lnTo>
                <a:lnTo>
                  <a:pt x="1358" y="754"/>
                </a:lnTo>
                <a:lnTo>
                  <a:pt x="1322" y="761"/>
                </a:lnTo>
                <a:lnTo>
                  <a:pt x="1286" y="769"/>
                </a:lnTo>
                <a:lnTo>
                  <a:pt x="1251" y="774"/>
                </a:lnTo>
                <a:lnTo>
                  <a:pt x="1216" y="778"/>
                </a:lnTo>
                <a:lnTo>
                  <a:pt x="1183" y="782"/>
                </a:lnTo>
                <a:lnTo>
                  <a:pt x="1150" y="783"/>
                </a:lnTo>
                <a:lnTo>
                  <a:pt x="1118" y="784"/>
                </a:lnTo>
                <a:lnTo>
                  <a:pt x="1087" y="786"/>
                </a:lnTo>
                <a:lnTo>
                  <a:pt x="1057" y="786"/>
                </a:lnTo>
                <a:lnTo>
                  <a:pt x="1029" y="786"/>
                </a:lnTo>
                <a:lnTo>
                  <a:pt x="1002" y="78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821120" y="2987640"/>
            <a:ext cx="117720" cy="385920"/>
          </a:xfrm>
          <a:custGeom>
            <a:avLst/>
            <a:gdLst/>
            <a:ahLst/>
            <a:rect l="l" t="t" r="r" b="b"/>
            <a:pathLst>
              <a:path w="223" h="752">
                <a:moveTo>
                  <a:pt x="213" y="0"/>
                </a:moveTo>
                <a:lnTo>
                  <a:pt x="213" y="1"/>
                </a:lnTo>
                <a:lnTo>
                  <a:pt x="213" y="3"/>
                </a:lnTo>
                <a:lnTo>
                  <a:pt x="213" y="4"/>
                </a:lnTo>
                <a:lnTo>
                  <a:pt x="212" y="7"/>
                </a:lnTo>
                <a:lnTo>
                  <a:pt x="211" y="9"/>
                </a:lnTo>
                <a:lnTo>
                  <a:pt x="210" y="13"/>
                </a:lnTo>
                <a:lnTo>
                  <a:pt x="208" y="17"/>
                </a:lnTo>
                <a:lnTo>
                  <a:pt x="207" y="22"/>
                </a:lnTo>
                <a:lnTo>
                  <a:pt x="206" y="28"/>
                </a:lnTo>
                <a:lnTo>
                  <a:pt x="203" y="33"/>
                </a:lnTo>
                <a:lnTo>
                  <a:pt x="202" y="40"/>
                </a:lnTo>
                <a:lnTo>
                  <a:pt x="199" y="47"/>
                </a:lnTo>
                <a:lnTo>
                  <a:pt x="197" y="55"/>
                </a:lnTo>
                <a:lnTo>
                  <a:pt x="194" y="63"/>
                </a:lnTo>
                <a:lnTo>
                  <a:pt x="193" y="71"/>
                </a:lnTo>
                <a:lnTo>
                  <a:pt x="190" y="80"/>
                </a:lnTo>
                <a:lnTo>
                  <a:pt x="188" y="89"/>
                </a:lnTo>
                <a:lnTo>
                  <a:pt x="185" y="99"/>
                </a:lnTo>
                <a:lnTo>
                  <a:pt x="183" y="110"/>
                </a:lnTo>
                <a:lnTo>
                  <a:pt x="180" y="120"/>
                </a:lnTo>
                <a:lnTo>
                  <a:pt x="178" y="131"/>
                </a:lnTo>
                <a:lnTo>
                  <a:pt x="175" y="143"/>
                </a:lnTo>
                <a:lnTo>
                  <a:pt x="173" y="154"/>
                </a:lnTo>
                <a:lnTo>
                  <a:pt x="170" y="166"/>
                </a:lnTo>
                <a:lnTo>
                  <a:pt x="168" y="177"/>
                </a:lnTo>
                <a:lnTo>
                  <a:pt x="165" y="190"/>
                </a:lnTo>
                <a:lnTo>
                  <a:pt x="162" y="202"/>
                </a:lnTo>
                <a:lnTo>
                  <a:pt x="160" y="215"/>
                </a:lnTo>
                <a:lnTo>
                  <a:pt x="159" y="228"/>
                </a:lnTo>
                <a:lnTo>
                  <a:pt x="156" y="242"/>
                </a:lnTo>
                <a:lnTo>
                  <a:pt x="155" y="255"/>
                </a:lnTo>
                <a:lnTo>
                  <a:pt x="152" y="269"/>
                </a:lnTo>
                <a:lnTo>
                  <a:pt x="151" y="283"/>
                </a:lnTo>
                <a:lnTo>
                  <a:pt x="150" y="295"/>
                </a:lnTo>
                <a:lnTo>
                  <a:pt x="148" y="309"/>
                </a:lnTo>
                <a:lnTo>
                  <a:pt x="147" y="323"/>
                </a:lnTo>
                <a:lnTo>
                  <a:pt x="146" y="337"/>
                </a:lnTo>
                <a:lnTo>
                  <a:pt x="146" y="351"/>
                </a:lnTo>
                <a:lnTo>
                  <a:pt x="146" y="365"/>
                </a:lnTo>
                <a:lnTo>
                  <a:pt x="145" y="379"/>
                </a:lnTo>
                <a:lnTo>
                  <a:pt x="145" y="393"/>
                </a:lnTo>
                <a:lnTo>
                  <a:pt x="146" y="406"/>
                </a:lnTo>
                <a:lnTo>
                  <a:pt x="146" y="420"/>
                </a:lnTo>
                <a:lnTo>
                  <a:pt x="147" y="434"/>
                </a:lnTo>
                <a:lnTo>
                  <a:pt x="148" y="447"/>
                </a:lnTo>
                <a:lnTo>
                  <a:pt x="150" y="461"/>
                </a:lnTo>
                <a:lnTo>
                  <a:pt x="151" y="473"/>
                </a:lnTo>
                <a:lnTo>
                  <a:pt x="154" y="486"/>
                </a:lnTo>
                <a:lnTo>
                  <a:pt x="155" y="499"/>
                </a:lnTo>
                <a:lnTo>
                  <a:pt x="157" y="510"/>
                </a:lnTo>
                <a:lnTo>
                  <a:pt x="161" y="522"/>
                </a:lnTo>
                <a:lnTo>
                  <a:pt x="164" y="533"/>
                </a:lnTo>
                <a:lnTo>
                  <a:pt x="168" y="545"/>
                </a:lnTo>
                <a:lnTo>
                  <a:pt x="171" y="556"/>
                </a:lnTo>
                <a:lnTo>
                  <a:pt x="175" y="566"/>
                </a:lnTo>
                <a:lnTo>
                  <a:pt x="180" y="576"/>
                </a:lnTo>
                <a:lnTo>
                  <a:pt x="184" y="585"/>
                </a:lnTo>
                <a:lnTo>
                  <a:pt x="189" y="594"/>
                </a:lnTo>
                <a:lnTo>
                  <a:pt x="194" y="602"/>
                </a:lnTo>
                <a:lnTo>
                  <a:pt x="199" y="609"/>
                </a:lnTo>
                <a:lnTo>
                  <a:pt x="206" y="617"/>
                </a:lnTo>
                <a:lnTo>
                  <a:pt x="212" y="625"/>
                </a:lnTo>
                <a:lnTo>
                  <a:pt x="217" y="631"/>
                </a:lnTo>
                <a:lnTo>
                  <a:pt x="223" y="636"/>
                </a:lnTo>
                <a:lnTo>
                  <a:pt x="133" y="695"/>
                </a:lnTo>
                <a:lnTo>
                  <a:pt x="44" y="752"/>
                </a:lnTo>
                <a:lnTo>
                  <a:pt x="44" y="751"/>
                </a:lnTo>
                <a:lnTo>
                  <a:pt x="38" y="738"/>
                </a:lnTo>
                <a:lnTo>
                  <a:pt x="30" y="721"/>
                </a:lnTo>
                <a:lnTo>
                  <a:pt x="24" y="704"/>
                </a:lnTo>
                <a:lnTo>
                  <a:pt x="19" y="687"/>
                </a:lnTo>
                <a:lnTo>
                  <a:pt x="14" y="669"/>
                </a:lnTo>
                <a:lnTo>
                  <a:pt x="10" y="653"/>
                </a:lnTo>
                <a:lnTo>
                  <a:pt x="6" y="635"/>
                </a:lnTo>
                <a:lnTo>
                  <a:pt x="4" y="618"/>
                </a:lnTo>
                <a:lnTo>
                  <a:pt x="2" y="601"/>
                </a:lnTo>
                <a:lnTo>
                  <a:pt x="1" y="585"/>
                </a:lnTo>
                <a:lnTo>
                  <a:pt x="0" y="569"/>
                </a:lnTo>
                <a:lnTo>
                  <a:pt x="0" y="552"/>
                </a:lnTo>
                <a:lnTo>
                  <a:pt x="1" y="534"/>
                </a:lnTo>
                <a:lnTo>
                  <a:pt x="1" y="518"/>
                </a:lnTo>
                <a:lnTo>
                  <a:pt x="2" y="503"/>
                </a:lnTo>
                <a:lnTo>
                  <a:pt x="5" y="486"/>
                </a:lnTo>
                <a:lnTo>
                  <a:pt x="7" y="470"/>
                </a:lnTo>
                <a:lnTo>
                  <a:pt x="10" y="453"/>
                </a:lnTo>
                <a:lnTo>
                  <a:pt x="12" y="438"/>
                </a:lnTo>
                <a:lnTo>
                  <a:pt x="16" y="422"/>
                </a:lnTo>
                <a:lnTo>
                  <a:pt x="20" y="406"/>
                </a:lnTo>
                <a:lnTo>
                  <a:pt x="24" y="391"/>
                </a:lnTo>
                <a:lnTo>
                  <a:pt x="28" y="375"/>
                </a:lnTo>
                <a:lnTo>
                  <a:pt x="33" y="360"/>
                </a:lnTo>
                <a:lnTo>
                  <a:pt x="37" y="346"/>
                </a:lnTo>
                <a:lnTo>
                  <a:pt x="42" y="331"/>
                </a:lnTo>
                <a:lnTo>
                  <a:pt x="47" y="317"/>
                </a:lnTo>
                <a:lnTo>
                  <a:pt x="52" y="302"/>
                </a:lnTo>
                <a:lnTo>
                  <a:pt x="58" y="288"/>
                </a:lnTo>
                <a:lnTo>
                  <a:pt x="63" y="274"/>
                </a:lnTo>
                <a:lnTo>
                  <a:pt x="70" y="260"/>
                </a:lnTo>
                <a:lnTo>
                  <a:pt x="75" y="247"/>
                </a:lnTo>
                <a:lnTo>
                  <a:pt x="81" y="233"/>
                </a:lnTo>
                <a:lnTo>
                  <a:pt x="86" y="220"/>
                </a:lnTo>
                <a:lnTo>
                  <a:pt x="93" y="208"/>
                </a:lnTo>
                <a:lnTo>
                  <a:pt x="99" y="195"/>
                </a:lnTo>
                <a:lnTo>
                  <a:pt x="105" y="183"/>
                </a:lnTo>
                <a:lnTo>
                  <a:pt x="110" y="172"/>
                </a:lnTo>
                <a:lnTo>
                  <a:pt x="117" y="159"/>
                </a:lnTo>
                <a:lnTo>
                  <a:pt x="123" y="149"/>
                </a:lnTo>
                <a:lnTo>
                  <a:pt x="129" y="138"/>
                </a:lnTo>
                <a:lnTo>
                  <a:pt x="134" y="127"/>
                </a:lnTo>
                <a:lnTo>
                  <a:pt x="141" y="116"/>
                </a:lnTo>
                <a:lnTo>
                  <a:pt x="146" y="107"/>
                </a:lnTo>
                <a:lnTo>
                  <a:pt x="152" y="97"/>
                </a:lnTo>
                <a:lnTo>
                  <a:pt x="157" y="88"/>
                </a:lnTo>
                <a:lnTo>
                  <a:pt x="162" y="79"/>
                </a:lnTo>
                <a:lnTo>
                  <a:pt x="168" y="70"/>
                </a:lnTo>
                <a:lnTo>
                  <a:pt x="173" y="63"/>
                </a:lnTo>
                <a:lnTo>
                  <a:pt x="178" y="55"/>
                </a:lnTo>
                <a:lnTo>
                  <a:pt x="182" y="49"/>
                </a:lnTo>
                <a:lnTo>
                  <a:pt x="187" y="41"/>
                </a:lnTo>
                <a:lnTo>
                  <a:pt x="190" y="35"/>
                </a:lnTo>
                <a:lnTo>
                  <a:pt x="194" y="29"/>
                </a:lnTo>
                <a:lnTo>
                  <a:pt x="198" y="24"/>
                </a:lnTo>
                <a:lnTo>
                  <a:pt x="201" y="19"/>
                </a:lnTo>
                <a:lnTo>
                  <a:pt x="204" y="15"/>
                </a:lnTo>
                <a:lnTo>
                  <a:pt x="207" y="12"/>
                </a:lnTo>
                <a:lnTo>
                  <a:pt x="208" y="8"/>
                </a:lnTo>
                <a:lnTo>
                  <a:pt x="211" y="5"/>
                </a:lnTo>
                <a:lnTo>
                  <a:pt x="212" y="4"/>
                </a:lnTo>
                <a:lnTo>
                  <a:pt x="213" y="1"/>
                </a:lnTo>
                <a:lnTo>
                  <a:pt x="213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844880" y="3324240"/>
            <a:ext cx="149400" cy="422280"/>
          </a:xfrm>
          <a:custGeom>
            <a:avLst/>
            <a:gdLst/>
            <a:ahLst/>
            <a:rect l="l" t="t" r="r" b="b"/>
            <a:pathLst>
              <a:path w="282" h="821">
                <a:moveTo>
                  <a:pt x="89" y="59"/>
                </a:moveTo>
                <a:lnTo>
                  <a:pt x="179" y="0"/>
                </a:lnTo>
                <a:lnTo>
                  <a:pt x="188" y="10"/>
                </a:lnTo>
                <a:lnTo>
                  <a:pt x="199" y="23"/>
                </a:lnTo>
                <a:lnTo>
                  <a:pt x="209" y="36"/>
                </a:lnTo>
                <a:lnTo>
                  <a:pt x="214" y="50"/>
                </a:lnTo>
                <a:lnTo>
                  <a:pt x="220" y="65"/>
                </a:lnTo>
                <a:lnTo>
                  <a:pt x="225" y="80"/>
                </a:lnTo>
                <a:lnTo>
                  <a:pt x="232" y="96"/>
                </a:lnTo>
                <a:lnTo>
                  <a:pt x="235" y="111"/>
                </a:lnTo>
                <a:lnTo>
                  <a:pt x="241" y="126"/>
                </a:lnTo>
                <a:lnTo>
                  <a:pt x="246" y="141"/>
                </a:lnTo>
                <a:lnTo>
                  <a:pt x="249" y="157"/>
                </a:lnTo>
                <a:lnTo>
                  <a:pt x="253" y="172"/>
                </a:lnTo>
                <a:lnTo>
                  <a:pt x="257" y="187"/>
                </a:lnTo>
                <a:lnTo>
                  <a:pt x="261" y="202"/>
                </a:lnTo>
                <a:lnTo>
                  <a:pt x="263" y="218"/>
                </a:lnTo>
                <a:lnTo>
                  <a:pt x="266" y="233"/>
                </a:lnTo>
                <a:lnTo>
                  <a:pt x="269" y="248"/>
                </a:lnTo>
                <a:lnTo>
                  <a:pt x="271" y="265"/>
                </a:lnTo>
                <a:lnTo>
                  <a:pt x="274" y="280"/>
                </a:lnTo>
                <a:lnTo>
                  <a:pt x="275" y="295"/>
                </a:lnTo>
                <a:lnTo>
                  <a:pt x="277" y="311"/>
                </a:lnTo>
                <a:lnTo>
                  <a:pt x="279" y="326"/>
                </a:lnTo>
                <a:lnTo>
                  <a:pt x="280" y="341"/>
                </a:lnTo>
                <a:lnTo>
                  <a:pt x="281" y="356"/>
                </a:lnTo>
                <a:lnTo>
                  <a:pt x="281" y="372"/>
                </a:lnTo>
                <a:lnTo>
                  <a:pt x="282" y="387"/>
                </a:lnTo>
                <a:lnTo>
                  <a:pt x="282" y="401"/>
                </a:lnTo>
                <a:lnTo>
                  <a:pt x="282" y="416"/>
                </a:lnTo>
                <a:lnTo>
                  <a:pt x="282" y="431"/>
                </a:lnTo>
                <a:lnTo>
                  <a:pt x="281" y="445"/>
                </a:lnTo>
                <a:lnTo>
                  <a:pt x="281" y="461"/>
                </a:lnTo>
                <a:lnTo>
                  <a:pt x="280" y="475"/>
                </a:lnTo>
                <a:lnTo>
                  <a:pt x="279" y="490"/>
                </a:lnTo>
                <a:lnTo>
                  <a:pt x="277" y="504"/>
                </a:lnTo>
                <a:lnTo>
                  <a:pt x="276" y="518"/>
                </a:lnTo>
                <a:lnTo>
                  <a:pt x="275" y="532"/>
                </a:lnTo>
                <a:lnTo>
                  <a:pt x="272" y="546"/>
                </a:lnTo>
                <a:lnTo>
                  <a:pt x="270" y="559"/>
                </a:lnTo>
                <a:lnTo>
                  <a:pt x="267" y="573"/>
                </a:lnTo>
                <a:lnTo>
                  <a:pt x="265" y="585"/>
                </a:lnTo>
                <a:lnTo>
                  <a:pt x="262" y="598"/>
                </a:lnTo>
                <a:lnTo>
                  <a:pt x="260" y="612"/>
                </a:lnTo>
                <a:lnTo>
                  <a:pt x="256" y="623"/>
                </a:lnTo>
                <a:lnTo>
                  <a:pt x="252" y="636"/>
                </a:lnTo>
                <a:lnTo>
                  <a:pt x="248" y="649"/>
                </a:lnTo>
                <a:lnTo>
                  <a:pt x="244" y="660"/>
                </a:lnTo>
                <a:lnTo>
                  <a:pt x="241" y="672"/>
                </a:lnTo>
                <a:lnTo>
                  <a:pt x="237" y="683"/>
                </a:lnTo>
                <a:lnTo>
                  <a:pt x="232" y="695"/>
                </a:lnTo>
                <a:lnTo>
                  <a:pt x="227" y="705"/>
                </a:lnTo>
                <a:lnTo>
                  <a:pt x="221" y="716"/>
                </a:lnTo>
                <a:lnTo>
                  <a:pt x="216" y="726"/>
                </a:lnTo>
                <a:lnTo>
                  <a:pt x="211" y="735"/>
                </a:lnTo>
                <a:lnTo>
                  <a:pt x="206" y="746"/>
                </a:lnTo>
                <a:lnTo>
                  <a:pt x="200" y="754"/>
                </a:lnTo>
                <a:lnTo>
                  <a:pt x="193" y="763"/>
                </a:lnTo>
                <a:lnTo>
                  <a:pt x="188" y="772"/>
                </a:lnTo>
                <a:lnTo>
                  <a:pt x="182" y="780"/>
                </a:lnTo>
                <a:lnTo>
                  <a:pt x="174" y="788"/>
                </a:lnTo>
                <a:lnTo>
                  <a:pt x="168" y="795"/>
                </a:lnTo>
                <a:lnTo>
                  <a:pt x="162" y="802"/>
                </a:lnTo>
                <a:lnTo>
                  <a:pt x="154" y="808"/>
                </a:lnTo>
                <a:lnTo>
                  <a:pt x="146" y="814"/>
                </a:lnTo>
                <a:lnTo>
                  <a:pt x="140" y="819"/>
                </a:lnTo>
                <a:lnTo>
                  <a:pt x="139" y="821"/>
                </a:lnTo>
                <a:lnTo>
                  <a:pt x="145" y="813"/>
                </a:lnTo>
                <a:lnTo>
                  <a:pt x="150" y="805"/>
                </a:lnTo>
                <a:lnTo>
                  <a:pt x="155" y="796"/>
                </a:lnTo>
                <a:lnTo>
                  <a:pt x="159" y="789"/>
                </a:lnTo>
                <a:lnTo>
                  <a:pt x="163" y="780"/>
                </a:lnTo>
                <a:lnTo>
                  <a:pt x="167" y="771"/>
                </a:lnTo>
                <a:lnTo>
                  <a:pt x="171" y="762"/>
                </a:lnTo>
                <a:lnTo>
                  <a:pt x="174" y="753"/>
                </a:lnTo>
                <a:lnTo>
                  <a:pt x="177" y="744"/>
                </a:lnTo>
                <a:lnTo>
                  <a:pt x="179" y="734"/>
                </a:lnTo>
                <a:lnTo>
                  <a:pt x="182" y="724"/>
                </a:lnTo>
                <a:lnTo>
                  <a:pt x="185" y="714"/>
                </a:lnTo>
                <a:lnTo>
                  <a:pt x="186" y="704"/>
                </a:lnTo>
                <a:lnTo>
                  <a:pt x="188" y="693"/>
                </a:lnTo>
                <a:lnTo>
                  <a:pt x="190" y="683"/>
                </a:lnTo>
                <a:lnTo>
                  <a:pt x="190" y="672"/>
                </a:lnTo>
                <a:lnTo>
                  <a:pt x="191" y="662"/>
                </a:lnTo>
                <a:lnTo>
                  <a:pt x="192" y="650"/>
                </a:lnTo>
                <a:lnTo>
                  <a:pt x="192" y="639"/>
                </a:lnTo>
                <a:lnTo>
                  <a:pt x="192" y="627"/>
                </a:lnTo>
                <a:lnTo>
                  <a:pt x="192" y="616"/>
                </a:lnTo>
                <a:lnTo>
                  <a:pt x="191" y="604"/>
                </a:lnTo>
                <a:lnTo>
                  <a:pt x="191" y="593"/>
                </a:lnTo>
                <a:lnTo>
                  <a:pt x="190" y="580"/>
                </a:lnTo>
                <a:lnTo>
                  <a:pt x="188" y="569"/>
                </a:lnTo>
                <a:lnTo>
                  <a:pt x="187" y="556"/>
                </a:lnTo>
                <a:lnTo>
                  <a:pt x="186" y="545"/>
                </a:lnTo>
                <a:lnTo>
                  <a:pt x="183" y="532"/>
                </a:lnTo>
                <a:lnTo>
                  <a:pt x="182" y="519"/>
                </a:lnTo>
                <a:lnTo>
                  <a:pt x="179" y="508"/>
                </a:lnTo>
                <a:lnTo>
                  <a:pt x="177" y="495"/>
                </a:lnTo>
                <a:lnTo>
                  <a:pt x="174" y="482"/>
                </a:lnTo>
                <a:lnTo>
                  <a:pt x="172" y="470"/>
                </a:lnTo>
                <a:lnTo>
                  <a:pt x="168" y="457"/>
                </a:lnTo>
                <a:lnTo>
                  <a:pt x="164" y="445"/>
                </a:lnTo>
                <a:lnTo>
                  <a:pt x="162" y="433"/>
                </a:lnTo>
                <a:lnTo>
                  <a:pt x="158" y="420"/>
                </a:lnTo>
                <a:lnTo>
                  <a:pt x="153" y="407"/>
                </a:lnTo>
                <a:lnTo>
                  <a:pt x="149" y="394"/>
                </a:lnTo>
                <a:lnTo>
                  <a:pt x="145" y="382"/>
                </a:lnTo>
                <a:lnTo>
                  <a:pt x="140" y="370"/>
                </a:lnTo>
                <a:lnTo>
                  <a:pt x="135" y="358"/>
                </a:lnTo>
                <a:lnTo>
                  <a:pt x="130" y="345"/>
                </a:lnTo>
                <a:lnTo>
                  <a:pt x="125" y="333"/>
                </a:lnTo>
                <a:lnTo>
                  <a:pt x="120" y="321"/>
                </a:lnTo>
                <a:lnTo>
                  <a:pt x="115" y="309"/>
                </a:lnTo>
                <a:lnTo>
                  <a:pt x="108" y="298"/>
                </a:lnTo>
                <a:lnTo>
                  <a:pt x="103" y="285"/>
                </a:lnTo>
                <a:lnTo>
                  <a:pt x="97" y="274"/>
                </a:lnTo>
                <a:lnTo>
                  <a:pt x="90" y="262"/>
                </a:lnTo>
                <a:lnTo>
                  <a:pt x="84" y="251"/>
                </a:lnTo>
                <a:lnTo>
                  <a:pt x="78" y="241"/>
                </a:lnTo>
                <a:lnTo>
                  <a:pt x="71" y="229"/>
                </a:lnTo>
                <a:lnTo>
                  <a:pt x="65" y="218"/>
                </a:lnTo>
                <a:lnTo>
                  <a:pt x="57" y="208"/>
                </a:lnTo>
                <a:lnTo>
                  <a:pt x="51" y="197"/>
                </a:lnTo>
                <a:lnTo>
                  <a:pt x="43" y="187"/>
                </a:lnTo>
                <a:lnTo>
                  <a:pt x="36" y="177"/>
                </a:lnTo>
                <a:lnTo>
                  <a:pt x="28" y="167"/>
                </a:lnTo>
                <a:lnTo>
                  <a:pt x="22" y="158"/>
                </a:lnTo>
                <a:lnTo>
                  <a:pt x="14" y="149"/>
                </a:lnTo>
                <a:lnTo>
                  <a:pt x="9" y="138"/>
                </a:lnTo>
                <a:lnTo>
                  <a:pt x="5" y="126"/>
                </a:lnTo>
                <a:lnTo>
                  <a:pt x="0" y="116"/>
                </a:lnTo>
                <a:lnTo>
                  <a:pt x="89" y="59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130720" y="2832120"/>
            <a:ext cx="52560" cy="111240"/>
          </a:xfrm>
          <a:custGeom>
            <a:avLst/>
            <a:gdLst/>
            <a:ahLst/>
            <a:rect l="l" t="t" r="r" b="b"/>
            <a:pathLst>
              <a:path w="97" h="211">
                <a:moveTo>
                  <a:pt x="97" y="0"/>
                </a:moveTo>
                <a:lnTo>
                  <a:pt x="97" y="1"/>
                </a:lnTo>
                <a:lnTo>
                  <a:pt x="97" y="3"/>
                </a:lnTo>
                <a:lnTo>
                  <a:pt x="97" y="4"/>
                </a:lnTo>
                <a:lnTo>
                  <a:pt x="95" y="8"/>
                </a:lnTo>
                <a:lnTo>
                  <a:pt x="94" y="10"/>
                </a:lnTo>
                <a:lnTo>
                  <a:pt x="93" y="15"/>
                </a:lnTo>
                <a:lnTo>
                  <a:pt x="91" y="20"/>
                </a:lnTo>
                <a:lnTo>
                  <a:pt x="90" y="25"/>
                </a:lnTo>
                <a:lnTo>
                  <a:pt x="89" y="32"/>
                </a:lnTo>
                <a:lnTo>
                  <a:pt x="86" y="39"/>
                </a:lnTo>
                <a:lnTo>
                  <a:pt x="85" y="47"/>
                </a:lnTo>
                <a:lnTo>
                  <a:pt x="83" y="56"/>
                </a:lnTo>
                <a:lnTo>
                  <a:pt x="80" y="65"/>
                </a:lnTo>
                <a:lnTo>
                  <a:pt x="77" y="74"/>
                </a:lnTo>
                <a:lnTo>
                  <a:pt x="76" y="84"/>
                </a:lnTo>
                <a:lnTo>
                  <a:pt x="74" y="95"/>
                </a:lnTo>
                <a:lnTo>
                  <a:pt x="71" y="106"/>
                </a:lnTo>
                <a:lnTo>
                  <a:pt x="69" y="118"/>
                </a:lnTo>
                <a:lnTo>
                  <a:pt x="66" y="130"/>
                </a:lnTo>
                <a:lnTo>
                  <a:pt x="63" y="142"/>
                </a:lnTo>
                <a:lnTo>
                  <a:pt x="61" y="155"/>
                </a:lnTo>
                <a:lnTo>
                  <a:pt x="58" y="169"/>
                </a:lnTo>
                <a:lnTo>
                  <a:pt x="56" y="183"/>
                </a:lnTo>
                <a:lnTo>
                  <a:pt x="53" y="197"/>
                </a:lnTo>
                <a:lnTo>
                  <a:pt x="51" y="211"/>
                </a:lnTo>
                <a:lnTo>
                  <a:pt x="25" y="204"/>
                </a:lnTo>
                <a:lnTo>
                  <a:pt x="0" y="196"/>
                </a:lnTo>
                <a:lnTo>
                  <a:pt x="6" y="182"/>
                </a:lnTo>
                <a:lnTo>
                  <a:pt x="11" y="169"/>
                </a:lnTo>
                <a:lnTo>
                  <a:pt x="18" y="156"/>
                </a:lnTo>
                <a:lnTo>
                  <a:pt x="24" y="144"/>
                </a:lnTo>
                <a:lnTo>
                  <a:pt x="29" y="131"/>
                </a:lnTo>
                <a:lnTo>
                  <a:pt x="35" y="120"/>
                </a:lnTo>
                <a:lnTo>
                  <a:pt x="41" y="108"/>
                </a:lnTo>
                <a:lnTo>
                  <a:pt x="46" y="97"/>
                </a:lnTo>
                <a:lnTo>
                  <a:pt x="51" y="86"/>
                </a:lnTo>
                <a:lnTo>
                  <a:pt x="56" y="78"/>
                </a:lnTo>
                <a:lnTo>
                  <a:pt x="61" y="67"/>
                </a:lnTo>
                <a:lnTo>
                  <a:pt x="65" y="59"/>
                </a:lnTo>
                <a:lnTo>
                  <a:pt x="70" y="51"/>
                </a:lnTo>
                <a:lnTo>
                  <a:pt x="74" y="43"/>
                </a:lnTo>
                <a:lnTo>
                  <a:pt x="77" y="36"/>
                </a:lnTo>
                <a:lnTo>
                  <a:pt x="81" y="29"/>
                </a:lnTo>
                <a:lnTo>
                  <a:pt x="84" y="24"/>
                </a:lnTo>
                <a:lnTo>
                  <a:pt x="88" y="18"/>
                </a:lnTo>
                <a:lnTo>
                  <a:pt x="90" y="14"/>
                </a:lnTo>
                <a:lnTo>
                  <a:pt x="91" y="10"/>
                </a:lnTo>
                <a:lnTo>
                  <a:pt x="94" y="6"/>
                </a:lnTo>
                <a:lnTo>
                  <a:pt x="95" y="4"/>
                </a:lnTo>
                <a:lnTo>
                  <a:pt x="97" y="3"/>
                </a:lnTo>
                <a:lnTo>
                  <a:pt x="97" y="1"/>
                </a:lnTo>
                <a:lnTo>
                  <a:pt x="97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068800" y="2944800"/>
            <a:ext cx="120600" cy="357120"/>
          </a:xfrm>
          <a:custGeom>
            <a:avLst/>
            <a:gdLst/>
            <a:ahLst/>
            <a:rect l="l" t="t" r="r" b="b"/>
            <a:pathLst>
              <a:path w="228" h="693">
                <a:moveTo>
                  <a:pt x="142" y="8"/>
                </a:moveTo>
                <a:lnTo>
                  <a:pt x="168" y="15"/>
                </a:lnTo>
                <a:lnTo>
                  <a:pt x="165" y="30"/>
                </a:lnTo>
                <a:lnTo>
                  <a:pt x="163" y="46"/>
                </a:lnTo>
                <a:lnTo>
                  <a:pt x="161" y="61"/>
                </a:lnTo>
                <a:lnTo>
                  <a:pt x="159" y="76"/>
                </a:lnTo>
                <a:lnTo>
                  <a:pt x="156" y="91"/>
                </a:lnTo>
                <a:lnTo>
                  <a:pt x="155" y="108"/>
                </a:lnTo>
                <a:lnTo>
                  <a:pt x="154" y="125"/>
                </a:lnTo>
                <a:lnTo>
                  <a:pt x="151" y="141"/>
                </a:lnTo>
                <a:lnTo>
                  <a:pt x="150" y="158"/>
                </a:lnTo>
                <a:lnTo>
                  <a:pt x="149" y="174"/>
                </a:lnTo>
                <a:lnTo>
                  <a:pt x="147" y="191"/>
                </a:lnTo>
                <a:lnTo>
                  <a:pt x="147" y="207"/>
                </a:lnTo>
                <a:lnTo>
                  <a:pt x="146" y="225"/>
                </a:lnTo>
                <a:lnTo>
                  <a:pt x="146" y="242"/>
                </a:lnTo>
                <a:lnTo>
                  <a:pt x="146" y="258"/>
                </a:lnTo>
                <a:lnTo>
                  <a:pt x="146" y="276"/>
                </a:lnTo>
                <a:lnTo>
                  <a:pt x="146" y="292"/>
                </a:lnTo>
                <a:lnTo>
                  <a:pt x="146" y="309"/>
                </a:lnTo>
                <a:lnTo>
                  <a:pt x="147" y="326"/>
                </a:lnTo>
                <a:lnTo>
                  <a:pt x="149" y="342"/>
                </a:lnTo>
                <a:lnTo>
                  <a:pt x="150" y="359"/>
                </a:lnTo>
                <a:lnTo>
                  <a:pt x="151" y="375"/>
                </a:lnTo>
                <a:lnTo>
                  <a:pt x="154" y="390"/>
                </a:lnTo>
                <a:lnTo>
                  <a:pt x="156" y="407"/>
                </a:lnTo>
                <a:lnTo>
                  <a:pt x="159" y="422"/>
                </a:lnTo>
                <a:lnTo>
                  <a:pt x="161" y="437"/>
                </a:lnTo>
                <a:lnTo>
                  <a:pt x="164" y="451"/>
                </a:lnTo>
                <a:lnTo>
                  <a:pt x="168" y="467"/>
                </a:lnTo>
                <a:lnTo>
                  <a:pt x="172" y="481"/>
                </a:lnTo>
                <a:lnTo>
                  <a:pt x="177" y="495"/>
                </a:lnTo>
                <a:lnTo>
                  <a:pt x="180" y="507"/>
                </a:lnTo>
                <a:lnTo>
                  <a:pt x="186" y="520"/>
                </a:lnTo>
                <a:lnTo>
                  <a:pt x="191" y="533"/>
                </a:lnTo>
                <a:lnTo>
                  <a:pt x="197" y="544"/>
                </a:lnTo>
                <a:lnTo>
                  <a:pt x="202" y="556"/>
                </a:lnTo>
                <a:lnTo>
                  <a:pt x="208" y="566"/>
                </a:lnTo>
                <a:lnTo>
                  <a:pt x="215" y="576"/>
                </a:lnTo>
                <a:lnTo>
                  <a:pt x="221" y="586"/>
                </a:lnTo>
                <a:lnTo>
                  <a:pt x="228" y="594"/>
                </a:lnTo>
                <a:lnTo>
                  <a:pt x="133" y="643"/>
                </a:lnTo>
                <a:lnTo>
                  <a:pt x="41" y="693"/>
                </a:lnTo>
                <a:lnTo>
                  <a:pt x="39" y="693"/>
                </a:lnTo>
                <a:lnTo>
                  <a:pt x="39" y="692"/>
                </a:lnTo>
                <a:lnTo>
                  <a:pt x="34" y="678"/>
                </a:lnTo>
                <a:lnTo>
                  <a:pt x="27" y="660"/>
                </a:lnTo>
                <a:lnTo>
                  <a:pt x="22" y="641"/>
                </a:lnTo>
                <a:lnTo>
                  <a:pt x="16" y="622"/>
                </a:lnTo>
                <a:lnTo>
                  <a:pt x="11" y="602"/>
                </a:lnTo>
                <a:lnTo>
                  <a:pt x="8" y="582"/>
                </a:lnTo>
                <a:lnTo>
                  <a:pt x="5" y="563"/>
                </a:lnTo>
                <a:lnTo>
                  <a:pt x="2" y="544"/>
                </a:lnTo>
                <a:lnTo>
                  <a:pt x="1" y="525"/>
                </a:lnTo>
                <a:lnTo>
                  <a:pt x="0" y="505"/>
                </a:lnTo>
                <a:lnTo>
                  <a:pt x="0" y="486"/>
                </a:lnTo>
                <a:lnTo>
                  <a:pt x="0" y="467"/>
                </a:lnTo>
                <a:lnTo>
                  <a:pt x="0" y="448"/>
                </a:lnTo>
                <a:lnTo>
                  <a:pt x="1" y="429"/>
                </a:lnTo>
                <a:lnTo>
                  <a:pt x="2" y="409"/>
                </a:lnTo>
                <a:lnTo>
                  <a:pt x="5" y="390"/>
                </a:lnTo>
                <a:lnTo>
                  <a:pt x="8" y="373"/>
                </a:lnTo>
                <a:lnTo>
                  <a:pt x="10" y="353"/>
                </a:lnTo>
                <a:lnTo>
                  <a:pt x="13" y="334"/>
                </a:lnTo>
                <a:lnTo>
                  <a:pt x="16" y="317"/>
                </a:lnTo>
                <a:lnTo>
                  <a:pt x="20" y="298"/>
                </a:lnTo>
                <a:lnTo>
                  <a:pt x="24" y="280"/>
                </a:lnTo>
                <a:lnTo>
                  <a:pt x="28" y="261"/>
                </a:lnTo>
                <a:lnTo>
                  <a:pt x="32" y="243"/>
                </a:lnTo>
                <a:lnTo>
                  <a:pt x="37" y="225"/>
                </a:lnTo>
                <a:lnTo>
                  <a:pt x="42" y="207"/>
                </a:lnTo>
                <a:lnTo>
                  <a:pt x="47" y="191"/>
                </a:lnTo>
                <a:lnTo>
                  <a:pt x="52" y="173"/>
                </a:lnTo>
                <a:lnTo>
                  <a:pt x="57" y="156"/>
                </a:lnTo>
                <a:lnTo>
                  <a:pt x="63" y="140"/>
                </a:lnTo>
                <a:lnTo>
                  <a:pt x="69" y="122"/>
                </a:lnTo>
                <a:lnTo>
                  <a:pt x="75" y="107"/>
                </a:lnTo>
                <a:lnTo>
                  <a:pt x="81" y="90"/>
                </a:lnTo>
                <a:lnTo>
                  <a:pt x="86" y="75"/>
                </a:lnTo>
                <a:lnTo>
                  <a:pt x="93" y="58"/>
                </a:lnTo>
                <a:lnTo>
                  <a:pt x="99" y="44"/>
                </a:lnTo>
                <a:lnTo>
                  <a:pt x="104" y="29"/>
                </a:lnTo>
                <a:lnTo>
                  <a:pt x="111" y="14"/>
                </a:lnTo>
                <a:lnTo>
                  <a:pt x="117" y="0"/>
                </a:lnTo>
                <a:lnTo>
                  <a:pt x="142" y="8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091120" y="3263760"/>
            <a:ext cx="150840" cy="500040"/>
          </a:xfrm>
          <a:custGeom>
            <a:avLst/>
            <a:gdLst/>
            <a:ahLst/>
            <a:rect l="l" t="t" r="r" b="b"/>
            <a:pathLst>
              <a:path w="286" h="970">
                <a:moveTo>
                  <a:pt x="92" y="49"/>
                </a:moveTo>
                <a:lnTo>
                  <a:pt x="187" y="0"/>
                </a:lnTo>
                <a:lnTo>
                  <a:pt x="197" y="13"/>
                </a:lnTo>
                <a:lnTo>
                  <a:pt x="206" y="28"/>
                </a:lnTo>
                <a:lnTo>
                  <a:pt x="216" y="42"/>
                </a:lnTo>
                <a:lnTo>
                  <a:pt x="216" y="43"/>
                </a:lnTo>
                <a:lnTo>
                  <a:pt x="222" y="60"/>
                </a:lnTo>
                <a:lnTo>
                  <a:pt x="227" y="77"/>
                </a:lnTo>
                <a:lnTo>
                  <a:pt x="232" y="93"/>
                </a:lnTo>
                <a:lnTo>
                  <a:pt x="237" y="111"/>
                </a:lnTo>
                <a:lnTo>
                  <a:pt x="242" y="128"/>
                </a:lnTo>
                <a:lnTo>
                  <a:pt x="246" y="146"/>
                </a:lnTo>
                <a:lnTo>
                  <a:pt x="251" y="164"/>
                </a:lnTo>
                <a:lnTo>
                  <a:pt x="255" y="182"/>
                </a:lnTo>
                <a:lnTo>
                  <a:pt x="259" y="200"/>
                </a:lnTo>
                <a:lnTo>
                  <a:pt x="262" y="217"/>
                </a:lnTo>
                <a:lnTo>
                  <a:pt x="265" y="235"/>
                </a:lnTo>
                <a:lnTo>
                  <a:pt x="268" y="253"/>
                </a:lnTo>
                <a:lnTo>
                  <a:pt x="270" y="271"/>
                </a:lnTo>
                <a:lnTo>
                  <a:pt x="273" y="289"/>
                </a:lnTo>
                <a:lnTo>
                  <a:pt x="276" y="306"/>
                </a:lnTo>
                <a:lnTo>
                  <a:pt x="278" y="324"/>
                </a:lnTo>
                <a:lnTo>
                  <a:pt x="279" y="343"/>
                </a:lnTo>
                <a:lnTo>
                  <a:pt x="281" y="361"/>
                </a:lnTo>
                <a:lnTo>
                  <a:pt x="282" y="379"/>
                </a:lnTo>
                <a:lnTo>
                  <a:pt x="283" y="397"/>
                </a:lnTo>
                <a:lnTo>
                  <a:pt x="284" y="415"/>
                </a:lnTo>
                <a:lnTo>
                  <a:pt x="284" y="432"/>
                </a:lnTo>
                <a:lnTo>
                  <a:pt x="286" y="450"/>
                </a:lnTo>
                <a:lnTo>
                  <a:pt x="286" y="468"/>
                </a:lnTo>
                <a:lnTo>
                  <a:pt x="286" y="486"/>
                </a:lnTo>
                <a:lnTo>
                  <a:pt x="286" y="502"/>
                </a:lnTo>
                <a:lnTo>
                  <a:pt x="284" y="520"/>
                </a:lnTo>
                <a:lnTo>
                  <a:pt x="284" y="538"/>
                </a:lnTo>
                <a:lnTo>
                  <a:pt x="283" y="554"/>
                </a:lnTo>
                <a:lnTo>
                  <a:pt x="282" y="571"/>
                </a:lnTo>
                <a:lnTo>
                  <a:pt x="281" y="589"/>
                </a:lnTo>
                <a:lnTo>
                  <a:pt x="279" y="605"/>
                </a:lnTo>
                <a:lnTo>
                  <a:pt x="277" y="622"/>
                </a:lnTo>
                <a:lnTo>
                  <a:pt x="276" y="638"/>
                </a:lnTo>
                <a:lnTo>
                  <a:pt x="273" y="654"/>
                </a:lnTo>
                <a:lnTo>
                  <a:pt x="270" y="670"/>
                </a:lnTo>
                <a:lnTo>
                  <a:pt x="268" y="685"/>
                </a:lnTo>
                <a:lnTo>
                  <a:pt x="265" y="701"/>
                </a:lnTo>
                <a:lnTo>
                  <a:pt x="262" y="716"/>
                </a:lnTo>
                <a:lnTo>
                  <a:pt x="259" y="731"/>
                </a:lnTo>
                <a:lnTo>
                  <a:pt x="255" y="747"/>
                </a:lnTo>
                <a:lnTo>
                  <a:pt x="251" y="761"/>
                </a:lnTo>
                <a:lnTo>
                  <a:pt x="248" y="775"/>
                </a:lnTo>
                <a:lnTo>
                  <a:pt x="244" y="789"/>
                </a:lnTo>
                <a:lnTo>
                  <a:pt x="239" y="802"/>
                </a:lnTo>
                <a:lnTo>
                  <a:pt x="235" y="816"/>
                </a:lnTo>
                <a:lnTo>
                  <a:pt x="230" y="829"/>
                </a:lnTo>
                <a:lnTo>
                  <a:pt x="225" y="842"/>
                </a:lnTo>
                <a:lnTo>
                  <a:pt x="220" y="853"/>
                </a:lnTo>
                <a:lnTo>
                  <a:pt x="214" y="866"/>
                </a:lnTo>
                <a:lnTo>
                  <a:pt x="209" y="878"/>
                </a:lnTo>
                <a:lnTo>
                  <a:pt x="203" y="889"/>
                </a:lnTo>
                <a:lnTo>
                  <a:pt x="197" y="899"/>
                </a:lnTo>
                <a:lnTo>
                  <a:pt x="192" y="909"/>
                </a:lnTo>
                <a:lnTo>
                  <a:pt x="185" y="920"/>
                </a:lnTo>
                <a:lnTo>
                  <a:pt x="178" y="930"/>
                </a:lnTo>
                <a:lnTo>
                  <a:pt x="171" y="939"/>
                </a:lnTo>
                <a:lnTo>
                  <a:pt x="165" y="947"/>
                </a:lnTo>
                <a:lnTo>
                  <a:pt x="157" y="955"/>
                </a:lnTo>
                <a:lnTo>
                  <a:pt x="150" y="963"/>
                </a:lnTo>
                <a:lnTo>
                  <a:pt x="143" y="969"/>
                </a:lnTo>
                <a:lnTo>
                  <a:pt x="142" y="970"/>
                </a:lnTo>
                <a:lnTo>
                  <a:pt x="148" y="961"/>
                </a:lnTo>
                <a:lnTo>
                  <a:pt x="153" y="953"/>
                </a:lnTo>
                <a:lnTo>
                  <a:pt x="159" y="942"/>
                </a:lnTo>
                <a:lnTo>
                  <a:pt x="162" y="934"/>
                </a:lnTo>
                <a:lnTo>
                  <a:pt x="166" y="923"/>
                </a:lnTo>
                <a:lnTo>
                  <a:pt x="170" y="913"/>
                </a:lnTo>
                <a:lnTo>
                  <a:pt x="174" y="902"/>
                </a:lnTo>
                <a:lnTo>
                  <a:pt x="178" y="892"/>
                </a:lnTo>
                <a:lnTo>
                  <a:pt x="180" y="880"/>
                </a:lnTo>
                <a:lnTo>
                  <a:pt x="183" y="869"/>
                </a:lnTo>
                <a:lnTo>
                  <a:pt x="185" y="856"/>
                </a:lnTo>
                <a:lnTo>
                  <a:pt x="188" y="844"/>
                </a:lnTo>
                <a:lnTo>
                  <a:pt x="189" y="832"/>
                </a:lnTo>
                <a:lnTo>
                  <a:pt x="192" y="819"/>
                </a:lnTo>
                <a:lnTo>
                  <a:pt x="193" y="806"/>
                </a:lnTo>
                <a:lnTo>
                  <a:pt x="194" y="794"/>
                </a:lnTo>
                <a:lnTo>
                  <a:pt x="194" y="780"/>
                </a:lnTo>
                <a:lnTo>
                  <a:pt x="195" y="767"/>
                </a:lnTo>
                <a:lnTo>
                  <a:pt x="195" y="753"/>
                </a:lnTo>
                <a:lnTo>
                  <a:pt x="195" y="739"/>
                </a:lnTo>
                <a:lnTo>
                  <a:pt x="195" y="725"/>
                </a:lnTo>
                <a:lnTo>
                  <a:pt x="195" y="711"/>
                </a:lnTo>
                <a:lnTo>
                  <a:pt x="194" y="696"/>
                </a:lnTo>
                <a:lnTo>
                  <a:pt x="193" y="682"/>
                </a:lnTo>
                <a:lnTo>
                  <a:pt x="192" y="666"/>
                </a:lnTo>
                <a:lnTo>
                  <a:pt x="190" y="652"/>
                </a:lnTo>
                <a:lnTo>
                  <a:pt x="189" y="637"/>
                </a:lnTo>
                <a:lnTo>
                  <a:pt x="188" y="622"/>
                </a:lnTo>
                <a:lnTo>
                  <a:pt x="185" y="607"/>
                </a:lnTo>
                <a:lnTo>
                  <a:pt x="183" y="591"/>
                </a:lnTo>
                <a:lnTo>
                  <a:pt x="180" y="576"/>
                </a:lnTo>
                <a:lnTo>
                  <a:pt x="178" y="561"/>
                </a:lnTo>
                <a:lnTo>
                  <a:pt x="175" y="546"/>
                </a:lnTo>
                <a:lnTo>
                  <a:pt x="171" y="529"/>
                </a:lnTo>
                <a:lnTo>
                  <a:pt x="167" y="514"/>
                </a:lnTo>
                <a:lnTo>
                  <a:pt x="164" y="498"/>
                </a:lnTo>
                <a:lnTo>
                  <a:pt x="160" y="483"/>
                </a:lnTo>
                <a:lnTo>
                  <a:pt x="156" y="468"/>
                </a:lnTo>
                <a:lnTo>
                  <a:pt x="152" y="451"/>
                </a:lnTo>
                <a:lnTo>
                  <a:pt x="147" y="436"/>
                </a:lnTo>
                <a:lnTo>
                  <a:pt x="143" y="421"/>
                </a:lnTo>
                <a:lnTo>
                  <a:pt x="138" y="406"/>
                </a:lnTo>
                <a:lnTo>
                  <a:pt x="133" y="390"/>
                </a:lnTo>
                <a:lnTo>
                  <a:pt x="128" y="375"/>
                </a:lnTo>
                <a:lnTo>
                  <a:pt x="122" y="360"/>
                </a:lnTo>
                <a:lnTo>
                  <a:pt x="117" y="345"/>
                </a:lnTo>
                <a:lnTo>
                  <a:pt x="110" y="329"/>
                </a:lnTo>
                <a:lnTo>
                  <a:pt x="105" y="315"/>
                </a:lnTo>
                <a:lnTo>
                  <a:pt x="99" y="300"/>
                </a:lnTo>
                <a:lnTo>
                  <a:pt x="92" y="286"/>
                </a:lnTo>
                <a:lnTo>
                  <a:pt x="86" y="271"/>
                </a:lnTo>
                <a:lnTo>
                  <a:pt x="80" y="257"/>
                </a:lnTo>
                <a:lnTo>
                  <a:pt x="72" y="243"/>
                </a:lnTo>
                <a:lnTo>
                  <a:pt x="66" y="229"/>
                </a:lnTo>
                <a:lnTo>
                  <a:pt x="58" y="215"/>
                </a:lnTo>
                <a:lnTo>
                  <a:pt x="50" y="202"/>
                </a:lnTo>
                <a:lnTo>
                  <a:pt x="44" y="189"/>
                </a:lnTo>
                <a:lnTo>
                  <a:pt x="36" y="175"/>
                </a:lnTo>
                <a:lnTo>
                  <a:pt x="29" y="164"/>
                </a:lnTo>
                <a:lnTo>
                  <a:pt x="21" y="151"/>
                </a:lnTo>
                <a:lnTo>
                  <a:pt x="12" y="139"/>
                </a:lnTo>
                <a:lnTo>
                  <a:pt x="8" y="126"/>
                </a:lnTo>
                <a:lnTo>
                  <a:pt x="3" y="112"/>
                </a:lnTo>
                <a:lnTo>
                  <a:pt x="0" y="99"/>
                </a:lnTo>
                <a:lnTo>
                  <a:pt x="92" y="49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307120" y="2987640"/>
            <a:ext cx="118800" cy="385920"/>
          </a:xfrm>
          <a:custGeom>
            <a:avLst/>
            <a:gdLst/>
            <a:ahLst/>
            <a:rect l="l" t="t" r="r" b="b"/>
            <a:pathLst>
              <a:path w="223" h="752">
                <a:moveTo>
                  <a:pt x="214" y="0"/>
                </a:moveTo>
                <a:lnTo>
                  <a:pt x="212" y="1"/>
                </a:lnTo>
                <a:lnTo>
                  <a:pt x="212" y="3"/>
                </a:lnTo>
                <a:lnTo>
                  <a:pt x="212" y="4"/>
                </a:lnTo>
                <a:lnTo>
                  <a:pt x="211" y="7"/>
                </a:lnTo>
                <a:lnTo>
                  <a:pt x="210" y="9"/>
                </a:lnTo>
                <a:lnTo>
                  <a:pt x="209" y="13"/>
                </a:lnTo>
                <a:lnTo>
                  <a:pt x="207" y="17"/>
                </a:lnTo>
                <a:lnTo>
                  <a:pt x="206" y="22"/>
                </a:lnTo>
                <a:lnTo>
                  <a:pt x="205" y="28"/>
                </a:lnTo>
                <a:lnTo>
                  <a:pt x="202" y="33"/>
                </a:lnTo>
                <a:lnTo>
                  <a:pt x="201" y="40"/>
                </a:lnTo>
                <a:lnTo>
                  <a:pt x="198" y="47"/>
                </a:lnTo>
                <a:lnTo>
                  <a:pt x="196" y="55"/>
                </a:lnTo>
                <a:lnTo>
                  <a:pt x="193" y="63"/>
                </a:lnTo>
                <a:lnTo>
                  <a:pt x="192" y="71"/>
                </a:lnTo>
                <a:lnTo>
                  <a:pt x="190" y="80"/>
                </a:lnTo>
                <a:lnTo>
                  <a:pt x="187" y="89"/>
                </a:lnTo>
                <a:lnTo>
                  <a:pt x="184" y="99"/>
                </a:lnTo>
                <a:lnTo>
                  <a:pt x="182" y="110"/>
                </a:lnTo>
                <a:lnTo>
                  <a:pt x="179" y="120"/>
                </a:lnTo>
                <a:lnTo>
                  <a:pt x="177" y="131"/>
                </a:lnTo>
                <a:lnTo>
                  <a:pt x="174" y="143"/>
                </a:lnTo>
                <a:lnTo>
                  <a:pt x="172" y="154"/>
                </a:lnTo>
                <a:lnTo>
                  <a:pt x="169" y="166"/>
                </a:lnTo>
                <a:lnTo>
                  <a:pt x="167" y="177"/>
                </a:lnTo>
                <a:lnTo>
                  <a:pt x="164" y="190"/>
                </a:lnTo>
                <a:lnTo>
                  <a:pt x="162" y="202"/>
                </a:lnTo>
                <a:lnTo>
                  <a:pt x="159" y="215"/>
                </a:lnTo>
                <a:lnTo>
                  <a:pt x="158" y="228"/>
                </a:lnTo>
                <a:lnTo>
                  <a:pt x="155" y="242"/>
                </a:lnTo>
                <a:lnTo>
                  <a:pt x="154" y="255"/>
                </a:lnTo>
                <a:lnTo>
                  <a:pt x="151" y="269"/>
                </a:lnTo>
                <a:lnTo>
                  <a:pt x="150" y="283"/>
                </a:lnTo>
                <a:lnTo>
                  <a:pt x="149" y="295"/>
                </a:lnTo>
                <a:lnTo>
                  <a:pt x="148" y="309"/>
                </a:lnTo>
                <a:lnTo>
                  <a:pt x="146" y="323"/>
                </a:lnTo>
                <a:lnTo>
                  <a:pt x="145" y="337"/>
                </a:lnTo>
                <a:lnTo>
                  <a:pt x="145" y="351"/>
                </a:lnTo>
                <a:lnTo>
                  <a:pt x="145" y="365"/>
                </a:lnTo>
                <a:lnTo>
                  <a:pt x="144" y="379"/>
                </a:lnTo>
                <a:lnTo>
                  <a:pt x="144" y="393"/>
                </a:lnTo>
                <a:lnTo>
                  <a:pt x="145" y="406"/>
                </a:lnTo>
                <a:lnTo>
                  <a:pt x="145" y="420"/>
                </a:lnTo>
                <a:lnTo>
                  <a:pt x="146" y="434"/>
                </a:lnTo>
                <a:lnTo>
                  <a:pt x="148" y="447"/>
                </a:lnTo>
                <a:lnTo>
                  <a:pt x="149" y="461"/>
                </a:lnTo>
                <a:lnTo>
                  <a:pt x="150" y="473"/>
                </a:lnTo>
                <a:lnTo>
                  <a:pt x="153" y="486"/>
                </a:lnTo>
                <a:lnTo>
                  <a:pt x="154" y="499"/>
                </a:lnTo>
                <a:lnTo>
                  <a:pt x="156" y="510"/>
                </a:lnTo>
                <a:lnTo>
                  <a:pt x="160" y="522"/>
                </a:lnTo>
                <a:lnTo>
                  <a:pt x="163" y="533"/>
                </a:lnTo>
                <a:lnTo>
                  <a:pt x="167" y="545"/>
                </a:lnTo>
                <a:lnTo>
                  <a:pt x="170" y="556"/>
                </a:lnTo>
                <a:lnTo>
                  <a:pt x="174" y="566"/>
                </a:lnTo>
                <a:lnTo>
                  <a:pt x="179" y="576"/>
                </a:lnTo>
                <a:lnTo>
                  <a:pt x="183" y="585"/>
                </a:lnTo>
                <a:lnTo>
                  <a:pt x="188" y="594"/>
                </a:lnTo>
                <a:lnTo>
                  <a:pt x="193" y="602"/>
                </a:lnTo>
                <a:lnTo>
                  <a:pt x="198" y="609"/>
                </a:lnTo>
                <a:lnTo>
                  <a:pt x="205" y="617"/>
                </a:lnTo>
                <a:lnTo>
                  <a:pt x="211" y="625"/>
                </a:lnTo>
                <a:lnTo>
                  <a:pt x="216" y="631"/>
                </a:lnTo>
                <a:lnTo>
                  <a:pt x="223" y="636"/>
                </a:lnTo>
                <a:lnTo>
                  <a:pt x="134" y="695"/>
                </a:lnTo>
                <a:lnTo>
                  <a:pt x="45" y="752"/>
                </a:lnTo>
                <a:lnTo>
                  <a:pt x="45" y="751"/>
                </a:lnTo>
                <a:lnTo>
                  <a:pt x="38" y="738"/>
                </a:lnTo>
                <a:lnTo>
                  <a:pt x="31" y="721"/>
                </a:lnTo>
                <a:lnTo>
                  <a:pt x="24" y="704"/>
                </a:lnTo>
                <a:lnTo>
                  <a:pt x="19" y="687"/>
                </a:lnTo>
                <a:lnTo>
                  <a:pt x="14" y="669"/>
                </a:lnTo>
                <a:lnTo>
                  <a:pt x="10" y="653"/>
                </a:lnTo>
                <a:lnTo>
                  <a:pt x="6" y="635"/>
                </a:lnTo>
                <a:lnTo>
                  <a:pt x="4" y="618"/>
                </a:lnTo>
                <a:lnTo>
                  <a:pt x="3" y="601"/>
                </a:lnTo>
                <a:lnTo>
                  <a:pt x="1" y="585"/>
                </a:lnTo>
                <a:lnTo>
                  <a:pt x="0" y="569"/>
                </a:lnTo>
                <a:lnTo>
                  <a:pt x="0" y="552"/>
                </a:lnTo>
                <a:lnTo>
                  <a:pt x="0" y="534"/>
                </a:lnTo>
                <a:lnTo>
                  <a:pt x="1" y="518"/>
                </a:lnTo>
                <a:lnTo>
                  <a:pt x="3" y="503"/>
                </a:lnTo>
                <a:lnTo>
                  <a:pt x="5" y="486"/>
                </a:lnTo>
                <a:lnTo>
                  <a:pt x="8" y="470"/>
                </a:lnTo>
                <a:lnTo>
                  <a:pt x="10" y="453"/>
                </a:lnTo>
                <a:lnTo>
                  <a:pt x="13" y="438"/>
                </a:lnTo>
                <a:lnTo>
                  <a:pt x="17" y="422"/>
                </a:lnTo>
                <a:lnTo>
                  <a:pt x="20" y="406"/>
                </a:lnTo>
                <a:lnTo>
                  <a:pt x="24" y="391"/>
                </a:lnTo>
                <a:lnTo>
                  <a:pt x="28" y="375"/>
                </a:lnTo>
                <a:lnTo>
                  <a:pt x="33" y="360"/>
                </a:lnTo>
                <a:lnTo>
                  <a:pt x="37" y="346"/>
                </a:lnTo>
                <a:lnTo>
                  <a:pt x="42" y="331"/>
                </a:lnTo>
                <a:lnTo>
                  <a:pt x="47" y="317"/>
                </a:lnTo>
                <a:lnTo>
                  <a:pt x="52" y="302"/>
                </a:lnTo>
                <a:lnTo>
                  <a:pt x="59" y="288"/>
                </a:lnTo>
                <a:lnTo>
                  <a:pt x="64" y="274"/>
                </a:lnTo>
                <a:lnTo>
                  <a:pt x="70" y="260"/>
                </a:lnTo>
                <a:lnTo>
                  <a:pt x="75" y="247"/>
                </a:lnTo>
                <a:lnTo>
                  <a:pt x="81" y="233"/>
                </a:lnTo>
                <a:lnTo>
                  <a:pt x="87" y="220"/>
                </a:lnTo>
                <a:lnTo>
                  <a:pt x="93" y="208"/>
                </a:lnTo>
                <a:lnTo>
                  <a:pt x="99" y="195"/>
                </a:lnTo>
                <a:lnTo>
                  <a:pt x="106" y="183"/>
                </a:lnTo>
                <a:lnTo>
                  <a:pt x="109" y="171"/>
                </a:lnTo>
                <a:lnTo>
                  <a:pt x="116" y="159"/>
                </a:lnTo>
                <a:lnTo>
                  <a:pt x="122" y="149"/>
                </a:lnTo>
                <a:lnTo>
                  <a:pt x="128" y="138"/>
                </a:lnTo>
                <a:lnTo>
                  <a:pt x="134" y="127"/>
                </a:lnTo>
                <a:lnTo>
                  <a:pt x="140" y="116"/>
                </a:lnTo>
                <a:lnTo>
                  <a:pt x="145" y="107"/>
                </a:lnTo>
                <a:lnTo>
                  <a:pt x="151" y="97"/>
                </a:lnTo>
                <a:lnTo>
                  <a:pt x="156" y="88"/>
                </a:lnTo>
                <a:lnTo>
                  <a:pt x="162" y="79"/>
                </a:lnTo>
                <a:lnTo>
                  <a:pt x="167" y="70"/>
                </a:lnTo>
                <a:lnTo>
                  <a:pt x="172" y="63"/>
                </a:lnTo>
                <a:lnTo>
                  <a:pt x="177" y="55"/>
                </a:lnTo>
                <a:lnTo>
                  <a:pt x="181" y="49"/>
                </a:lnTo>
                <a:lnTo>
                  <a:pt x="186" y="41"/>
                </a:lnTo>
                <a:lnTo>
                  <a:pt x="190" y="35"/>
                </a:lnTo>
                <a:lnTo>
                  <a:pt x="193" y="29"/>
                </a:lnTo>
                <a:lnTo>
                  <a:pt x="197" y="24"/>
                </a:lnTo>
                <a:lnTo>
                  <a:pt x="200" y="19"/>
                </a:lnTo>
                <a:lnTo>
                  <a:pt x="203" y="15"/>
                </a:lnTo>
                <a:lnTo>
                  <a:pt x="206" y="12"/>
                </a:lnTo>
                <a:lnTo>
                  <a:pt x="207" y="8"/>
                </a:lnTo>
                <a:lnTo>
                  <a:pt x="210" y="5"/>
                </a:lnTo>
                <a:lnTo>
                  <a:pt x="211" y="4"/>
                </a:lnTo>
                <a:lnTo>
                  <a:pt x="212" y="1"/>
                </a:lnTo>
                <a:lnTo>
                  <a:pt x="214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330880" y="3324240"/>
            <a:ext cx="147600" cy="422280"/>
          </a:xfrm>
          <a:custGeom>
            <a:avLst/>
            <a:gdLst/>
            <a:ahLst/>
            <a:rect l="l" t="t" r="r" b="b"/>
            <a:pathLst>
              <a:path w="279" h="821">
                <a:moveTo>
                  <a:pt x="89" y="59"/>
                </a:moveTo>
                <a:lnTo>
                  <a:pt x="178" y="0"/>
                </a:lnTo>
                <a:lnTo>
                  <a:pt x="186" y="10"/>
                </a:lnTo>
                <a:lnTo>
                  <a:pt x="197" y="23"/>
                </a:lnTo>
                <a:lnTo>
                  <a:pt x="207" y="36"/>
                </a:lnTo>
                <a:lnTo>
                  <a:pt x="212" y="51"/>
                </a:lnTo>
                <a:lnTo>
                  <a:pt x="218" y="65"/>
                </a:lnTo>
                <a:lnTo>
                  <a:pt x="223" y="80"/>
                </a:lnTo>
                <a:lnTo>
                  <a:pt x="228" y="96"/>
                </a:lnTo>
                <a:lnTo>
                  <a:pt x="234" y="111"/>
                </a:lnTo>
                <a:lnTo>
                  <a:pt x="239" y="126"/>
                </a:lnTo>
                <a:lnTo>
                  <a:pt x="242" y="141"/>
                </a:lnTo>
                <a:lnTo>
                  <a:pt x="248" y="157"/>
                </a:lnTo>
                <a:lnTo>
                  <a:pt x="251" y="172"/>
                </a:lnTo>
                <a:lnTo>
                  <a:pt x="255" y="187"/>
                </a:lnTo>
                <a:lnTo>
                  <a:pt x="258" y="202"/>
                </a:lnTo>
                <a:lnTo>
                  <a:pt x="261" y="218"/>
                </a:lnTo>
                <a:lnTo>
                  <a:pt x="264" y="233"/>
                </a:lnTo>
                <a:lnTo>
                  <a:pt x="267" y="248"/>
                </a:lnTo>
                <a:lnTo>
                  <a:pt x="269" y="265"/>
                </a:lnTo>
                <a:lnTo>
                  <a:pt x="272" y="280"/>
                </a:lnTo>
                <a:lnTo>
                  <a:pt x="273" y="295"/>
                </a:lnTo>
                <a:lnTo>
                  <a:pt x="274" y="311"/>
                </a:lnTo>
                <a:lnTo>
                  <a:pt x="275" y="326"/>
                </a:lnTo>
                <a:lnTo>
                  <a:pt x="277" y="341"/>
                </a:lnTo>
                <a:lnTo>
                  <a:pt x="278" y="356"/>
                </a:lnTo>
                <a:lnTo>
                  <a:pt x="279" y="372"/>
                </a:lnTo>
                <a:lnTo>
                  <a:pt x="279" y="387"/>
                </a:lnTo>
                <a:lnTo>
                  <a:pt x="279" y="401"/>
                </a:lnTo>
                <a:lnTo>
                  <a:pt x="279" y="416"/>
                </a:lnTo>
                <a:lnTo>
                  <a:pt x="279" y="431"/>
                </a:lnTo>
                <a:lnTo>
                  <a:pt x="279" y="445"/>
                </a:lnTo>
                <a:lnTo>
                  <a:pt x="278" y="461"/>
                </a:lnTo>
                <a:lnTo>
                  <a:pt x="278" y="475"/>
                </a:lnTo>
                <a:lnTo>
                  <a:pt x="277" y="490"/>
                </a:lnTo>
                <a:lnTo>
                  <a:pt x="275" y="504"/>
                </a:lnTo>
                <a:lnTo>
                  <a:pt x="274" y="518"/>
                </a:lnTo>
                <a:lnTo>
                  <a:pt x="272" y="532"/>
                </a:lnTo>
                <a:lnTo>
                  <a:pt x="270" y="546"/>
                </a:lnTo>
                <a:lnTo>
                  <a:pt x="268" y="559"/>
                </a:lnTo>
                <a:lnTo>
                  <a:pt x="265" y="573"/>
                </a:lnTo>
                <a:lnTo>
                  <a:pt x="263" y="585"/>
                </a:lnTo>
                <a:lnTo>
                  <a:pt x="260" y="598"/>
                </a:lnTo>
                <a:lnTo>
                  <a:pt x="256" y="612"/>
                </a:lnTo>
                <a:lnTo>
                  <a:pt x="254" y="623"/>
                </a:lnTo>
                <a:lnTo>
                  <a:pt x="250" y="636"/>
                </a:lnTo>
                <a:lnTo>
                  <a:pt x="246" y="649"/>
                </a:lnTo>
                <a:lnTo>
                  <a:pt x="242" y="660"/>
                </a:lnTo>
                <a:lnTo>
                  <a:pt x="239" y="672"/>
                </a:lnTo>
                <a:lnTo>
                  <a:pt x="235" y="683"/>
                </a:lnTo>
                <a:lnTo>
                  <a:pt x="230" y="695"/>
                </a:lnTo>
                <a:lnTo>
                  <a:pt x="225" y="705"/>
                </a:lnTo>
                <a:lnTo>
                  <a:pt x="220" y="716"/>
                </a:lnTo>
                <a:lnTo>
                  <a:pt x="214" y="726"/>
                </a:lnTo>
                <a:lnTo>
                  <a:pt x="209" y="735"/>
                </a:lnTo>
                <a:lnTo>
                  <a:pt x="204" y="746"/>
                </a:lnTo>
                <a:lnTo>
                  <a:pt x="198" y="754"/>
                </a:lnTo>
                <a:lnTo>
                  <a:pt x="192" y="763"/>
                </a:lnTo>
                <a:lnTo>
                  <a:pt x="186" y="772"/>
                </a:lnTo>
                <a:lnTo>
                  <a:pt x="180" y="780"/>
                </a:lnTo>
                <a:lnTo>
                  <a:pt x="172" y="788"/>
                </a:lnTo>
                <a:lnTo>
                  <a:pt x="166" y="795"/>
                </a:lnTo>
                <a:lnTo>
                  <a:pt x="160" y="802"/>
                </a:lnTo>
                <a:lnTo>
                  <a:pt x="152" y="808"/>
                </a:lnTo>
                <a:lnTo>
                  <a:pt x="145" y="814"/>
                </a:lnTo>
                <a:lnTo>
                  <a:pt x="138" y="819"/>
                </a:lnTo>
                <a:lnTo>
                  <a:pt x="138" y="821"/>
                </a:lnTo>
                <a:lnTo>
                  <a:pt x="143" y="813"/>
                </a:lnTo>
                <a:lnTo>
                  <a:pt x="148" y="805"/>
                </a:lnTo>
                <a:lnTo>
                  <a:pt x="153" y="796"/>
                </a:lnTo>
                <a:lnTo>
                  <a:pt x="157" y="789"/>
                </a:lnTo>
                <a:lnTo>
                  <a:pt x="161" y="780"/>
                </a:lnTo>
                <a:lnTo>
                  <a:pt x="165" y="771"/>
                </a:lnTo>
                <a:lnTo>
                  <a:pt x="169" y="762"/>
                </a:lnTo>
                <a:lnTo>
                  <a:pt x="172" y="753"/>
                </a:lnTo>
                <a:lnTo>
                  <a:pt x="175" y="744"/>
                </a:lnTo>
                <a:lnTo>
                  <a:pt x="178" y="734"/>
                </a:lnTo>
                <a:lnTo>
                  <a:pt x="180" y="724"/>
                </a:lnTo>
                <a:lnTo>
                  <a:pt x="183" y="714"/>
                </a:lnTo>
                <a:lnTo>
                  <a:pt x="184" y="704"/>
                </a:lnTo>
                <a:lnTo>
                  <a:pt x="185" y="693"/>
                </a:lnTo>
                <a:lnTo>
                  <a:pt x="186" y="683"/>
                </a:lnTo>
                <a:lnTo>
                  <a:pt x="188" y="672"/>
                </a:lnTo>
                <a:lnTo>
                  <a:pt x="189" y="662"/>
                </a:lnTo>
                <a:lnTo>
                  <a:pt x="189" y="650"/>
                </a:lnTo>
                <a:lnTo>
                  <a:pt x="190" y="639"/>
                </a:lnTo>
                <a:lnTo>
                  <a:pt x="190" y="627"/>
                </a:lnTo>
                <a:lnTo>
                  <a:pt x="189" y="616"/>
                </a:lnTo>
                <a:lnTo>
                  <a:pt x="189" y="604"/>
                </a:lnTo>
                <a:lnTo>
                  <a:pt x="189" y="593"/>
                </a:lnTo>
                <a:lnTo>
                  <a:pt x="188" y="580"/>
                </a:lnTo>
                <a:lnTo>
                  <a:pt x="186" y="569"/>
                </a:lnTo>
                <a:lnTo>
                  <a:pt x="185" y="556"/>
                </a:lnTo>
                <a:lnTo>
                  <a:pt x="184" y="545"/>
                </a:lnTo>
                <a:lnTo>
                  <a:pt x="181" y="532"/>
                </a:lnTo>
                <a:lnTo>
                  <a:pt x="179" y="519"/>
                </a:lnTo>
                <a:lnTo>
                  <a:pt x="178" y="508"/>
                </a:lnTo>
                <a:lnTo>
                  <a:pt x="175" y="495"/>
                </a:lnTo>
                <a:lnTo>
                  <a:pt x="171" y="482"/>
                </a:lnTo>
                <a:lnTo>
                  <a:pt x="169" y="470"/>
                </a:lnTo>
                <a:lnTo>
                  <a:pt x="166" y="457"/>
                </a:lnTo>
                <a:lnTo>
                  <a:pt x="162" y="445"/>
                </a:lnTo>
                <a:lnTo>
                  <a:pt x="158" y="433"/>
                </a:lnTo>
                <a:lnTo>
                  <a:pt x="155" y="420"/>
                </a:lnTo>
                <a:lnTo>
                  <a:pt x="151" y="407"/>
                </a:lnTo>
                <a:lnTo>
                  <a:pt x="147" y="394"/>
                </a:lnTo>
                <a:lnTo>
                  <a:pt x="142" y="382"/>
                </a:lnTo>
                <a:lnTo>
                  <a:pt x="138" y="370"/>
                </a:lnTo>
                <a:lnTo>
                  <a:pt x="133" y="358"/>
                </a:lnTo>
                <a:lnTo>
                  <a:pt x="128" y="345"/>
                </a:lnTo>
                <a:lnTo>
                  <a:pt x="123" y="333"/>
                </a:lnTo>
                <a:lnTo>
                  <a:pt x="118" y="321"/>
                </a:lnTo>
                <a:lnTo>
                  <a:pt x="111" y="309"/>
                </a:lnTo>
                <a:lnTo>
                  <a:pt x="106" y="298"/>
                </a:lnTo>
                <a:lnTo>
                  <a:pt x="100" y="285"/>
                </a:lnTo>
                <a:lnTo>
                  <a:pt x="95" y="274"/>
                </a:lnTo>
                <a:lnTo>
                  <a:pt x="89" y="262"/>
                </a:lnTo>
                <a:lnTo>
                  <a:pt x="82" y="251"/>
                </a:lnTo>
                <a:lnTo>
                  <a:pt x="76" y="239"/>
                </a:lnTo>
                <a:lnTo>
                  <a:pt x="69" y="229"/>
                </a:lnTo>
                <a:lnTo>
                  <a:pt x="63" y="218"/>
                </a:lnTo>
                <a:lnTo>
                  <a:pt x="57" y="208"/>
                </a:lnTo>
                <a:lnTo>
                  <a:pt x="49" y="197"/>
                </a:lnTo>
                <a:lnTo>
                  <a:pt x="43" y="187"/>
                </a:lnTo>
                <a:lnTo>
                  <a:pt x="35" y="177"/>
                </a:lnTo>
                <a:lnTo>
                  <a:pt x="28" y="167"/>
                </a:lnTo>
                <a:lnTo>
                  <a:pt x="20" y="158"/>
                </a:lnTo>
                <a:lnTo>
                  <a:pt x="12" y="149"/>
                </a:lnTo>
                <a:lnTo>
                  <a:pt x="12" y="148"/>
                </a:lnTo>
                <a:lnTo>
                  <a:pt x="8" y="138"/>
                </a:lnTo>
                <a:lnTo>
                  <a:pt x="5" y="126"/>
                </a:lnTo>
                <a:lnTo>
                  <a:pt x="0" y="116"/>
                </a:lnTo>
                <a:lnTo>
                  <a:pt x="89" y="59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165640" y="258840"/>
            <a:ext cx="0" cy="2468520"/>
          </a:xfrm>
          <a:prstGeom prst="line">
            <a:avLst/>
          </a:prstGeom>
          <a:ln w="381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151600" y="4143240"/>
            <a:ext cx="15840" cy="1660680"/>
          </a:xfrm>
          <a:prstGeom prst="line">
            <a:avLst/>
          </a:prstGeom>
          <a:ln w="381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10080" y="5913360"/>
            <a:ext cx="18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Firewal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459480" y="1432080"/>
            <a:ext cx="1417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Executing appl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461280" y="1506600"/>
            <a:ext cx="1371600" cy="747720"/>
          </a:xfrm>
          <a:prstGeom prst="flowChartDocumen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5954760" y="1844640"/>
            <a:ext cx="549360" cy="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H="1">
            <a:off x="5943600" y="1844640"/>
            <a:ext cx="15840" cy="213372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959440" y="3978360"/>
            <a:ext cx="441360" cy="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809880" y="1584360"/>
            <a:ext cx="2637000" cy="0"/>
          </a:xfrm>
          <a:prstGeom prst="line">
            <a:avLst/>
          </a:prstGeom>
          <a:ln w="284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5638320" y="2514600"/>
            <a:ext cx="641520" cy="627120"/>
            <a:chOff x="5638320" y="2514600"/>
            <a:chExt cx="641520" cy="627120"/>
          </a:xfrm>
        </p:grpSpPr>
        <p:sp>
          <p:nvSpPr>
            <p:cNvPr id="259" name=""/>
            <p:cNvSpPr/>
            <p:nvPr/>
          </p:nvSpPr>
          <p:spPr>
            <a:xfrm>
              <a:off x="5654520" y="2514600"/>
              <a:ext cx="625320" cy="6253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flipH="1">
              <a:off x="5638320" y="2516040"/>
              <a:ext cx="625320" cy="625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1" name=""/>
          <p:cNvSpPr/>
          <p:nvPr/>
        </p:nvSpPr>
        <p:spPr>
          <a:xfrm>
            <a:off x="6507000" y="3336840"/>
            <a:ext cx="1401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orporate web 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ffff"/>
                </a:solidFill>
                <a:latin typeface="Times New Roman"/>
              </a:rPr>
              <a:t>Introduction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294920" y="1219320"/>
            <a:ext cx="7494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Java applets are programs written in Java which are run by a web browser such as 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Netscape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or 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Internet Explor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94360" indent="-228600">
              <a:lnSpc>
                <a:spcPct val="75000"/>
              </a:lnSpc>
              <a:spcBef>
                <a:spcPts val="700"/>
              </a:spcBef>
              <a:spcAft>
                <a:spcPts val="700"/>
              </a:spcAft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applet code is downloaded from its host computer each time it is ru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94360" indent="-228600">
              <a:lnSpc>
                <a:spcPct val="75000"/>
              </a:lnSpc>
              <a:spcBef>
                <a:spcPts val="700"/>
              </a:spcBef>
              <a:spcAft>
                <a:spcPts val="700"/>
              </a:spcAft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pplets are used for adding extra functionality to web pag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-274320">
              <a:lnSpc>
                <a:spcPct val="75000"/>
              </a:lnSpc>
              <a:spcBef>
                <a:spcPts val="700"/>
              </a:spcBef>
              <a:spcAft>
                <a:spcPts val="700"/>
              </a:spcAft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s we shall see, converting a normal Java application program to an applet is eas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94360" indent="-228600">
              <a:lnSpc>
                <a:spcPct val="75000"/>
              </a:lnSpc>
              <a:spcBef>
                <a:spcPts val="700"/>
              </a:spcBef>
              <a:spcAft>
                <a:spcPts val="700"/>
              </a:spcAft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main problems stem from the browser incompatibility  and security issu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Java applets are not the 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be all and end all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of Java programming but they can be usefu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ffff"/>
                </a:solidFill>
                <a:latin typeface="Times New Roman"/>
              </a:rPr>
              <a:t>JAR files</a:t>
            </a:r>
            <a:r>
              <a:rPr b="0" lang="en-GB" sz="3200" spc="-1" strike="noStrike">
                <a:solidFill>
                  <a:srgbClr val="00ffff"/>
                </a:solidFill>
                <a:latin typeface="Times New Roman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170000" y="1503360"/>
            <a:ext cx="7772400" cy="45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previous 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MessageApplet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example actually creates 2 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class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fi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MessageApplet.cla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MessagePanel.cla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browser needs to load both classes to run the apple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browser must make 2 connections to the serv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ypically an applet consists of many .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class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fi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/>
          </p:nvPr>
        </p:nvSpPr>
        <p:spPr>
          <a:xfrm>
            <a:off x="1154160" y="422280"/>
            <a:ext cx="77724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JAR files enable the .</a:t>
            </a:r>
            <a:r>
              <a:rPr b="0" i="1" lang="en-GB" sz="3200" spc="-1" strike="noStrike">
                <a:solidFill>
                  <a:srgbClr val="ffffff"/>
                </a:solidFill>
                <a:latin typeface="Times New Roman"/>
              </a:rPr>
              <a:t>class 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files</a:t>
            </a:r>
            <a:r>
              <a:rPr b="0" i="1" lang="en-GB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for an applet to be downloaded using a single connection to the serv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he class files are loaded into a JAR file using the following comma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138480" y="5772240"/>
            <a:ext cx="4619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74720" y="3324240"/>
            <a:ext cx="858060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jar cf MessageApplet.jar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MessageApplet.class MessagePanel.cla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173240" y="4648320"/>
            <a:ext cx="77724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57160" indent="-3808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he </a:t>
            </a:r>
            <a:r>
              <a:rPr b="0" i="1" lang="en-GB" sz="3200" spc="-1" strike="noStrike">
                <a:solidFill>
                  <a:srgbClr val="ffffff"/>
                </a:solidFill>
                <a:latin typeface="Times New Roman"/>
              </a:rPr>
              <a:t>MessageApplet.jar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JAR file then contains the two </a:t>
            </a:r>
            <a:r>
              <a:rPr b="0" i="1" lang="en-GB" sz="3200" spc="-1" strike="noStrike">
                <a:solidFill>
                  <a:srgbClr val="ffffff"/>
                </a:solidFill>
                <a:latin typeface="Times New Roman"/>
              </a:rPr>
              <a:t>class fi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/>
          </p:nvPr>
        </p:nvSpPr>
        <p:spPr>
          <a:xfrm>
            <a:off x="1170000" y="650880"/>
            <a:ext cx="7772400" cy="22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JAR file is then referenced in the APPLET tag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of the 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html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file using the ARCHIVE ta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584360" y="1996920"/>
            <a:ext cx="7559640" cy="164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APPLET  CODE = "MessageApplet.class"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ARCHIVE=“MessageApplet.jar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IDTH = 500 HEIGHT = 300 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PARAM NAME=message VALUE="Another Message"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/APPLE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309680" y="4313160"/>
            <a:ext cx="7437600" cy="18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JAR files are extensively used in large Java projects as repositories of classes which can be included in the CLASSSPAT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111320" y="258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ffff"/>
                </a:solidFill>
                <a:latin typeface="Times New Roman"/>
              </a:rPr>
              <a:t>And finally…..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371600" y="1581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pplets are very useful but are basically Java programs with a bit of extra ‘wrapping’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Great for me as I have used them extensively in this course to demonstrate Java programs as I can run them from Powerpoi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heir limited functionality makes them difficult to write if we want to do ‘real’ wor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/>
          </p:nvPr>
        </p:nvSpPr>
        <p:spPr>
          <a:xfrm>
            <a:off x="1170000" y="471600"/>
            <a:ext cx="7772400" cy="558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ffff"/>
                </a:solidFill>
                <a:latin typeface="Times New Roman"/>
              </a:rPr>
              <a:t>Web-servers and client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When we run a web browser to access the internet, the web browser program runs on a 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client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compu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Usually the PC from which we are work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.html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web page we are accessing is on the 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Web Server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mpu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is on this machine that the code (the Java 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.class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file) for the Java applet resides which the .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html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file impor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bs00094_" descr=""/>
          <p:cNvPicPr/>
          <p:nvPr/>
        </p:nvPicPr>
        <p:blipFill>
          <a:blip r:embed="rId1"/>
          <a:stretch/>
        </p:blipFill>
        <p:spPr>
          <a:xfrm>
            <a:off x="6248520" y="838080"/>
            <a:ext cx="2739960" cy="312444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5943600" y="388620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lient running </a:t>
            </a:r>
            <a:r>
              <a:rPr b="0" i="1" lang="en-GB" sz="2400" spc="-1" strike="noStrike">
                <a:solidFill>
                  <a:srgbClr val="ffffff"/>
                </a:solidFill>
                <a:latin typeface="Times New Roman"/>
              </a:rPr>
              <a:t>Netscap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286000" y="502920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Web 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7" name="bd06908_" descr=""/>
          <p:cNvPicPr/>
          <p:nvPr/>
        </p:nvPicPr>
        <p:blipFill>
          <a:blip r:embed="rId2"/>
          <a:stretch/>
        </p:blipFill>
        <p:spPr>
          <a:xfrm>
            <a:off x="1219320" y="685800"/>
            <a:ext cx="3809880" cy="426708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2057400" y="1143000"/>
            <a:ext cx="2057400" cy="685800"/>
          </a:xfrm>
          <a:prstGeom prst="flowChartDocumen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057400" y="12193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.html web p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057400" y="1981080"/>
            <a:ext cx="2057400" cy="762120"/>
          </a:xfrm>
          <a:prstGeom prst="flowChartDocumen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057400" y="20574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Times New Roman"/>
              </a:rPr>
              <a:t>MyApplet.clas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800600" y="1752480"/>
            <a:ext cx="2133720" cy="381240"/>
          </a:xfrm>
          <a:custGeom>
            <a:avLst/>
            <a:gdLst>
              <a:gd name="textAreaLeft" fmla="*/ 333360 w 2133720"/>
              <a:gd name="textAreaRight" fmla="*/ 1867320 w 213372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114800" y="1066680"/>
            <a:ext cx="609480" cy="1752840"/>
          </a:xfrm>
          <a:custGeom>
            <a:avLst/>
            <a:gdLst>
              <a:gd name="textAreaLeft" fmla="*/ 0 w 609480"/>
              <a:gd name="textAreaRight" fmla="*/ 219960 w 609480"/>
              <a:gd name="textAreaTop" fmla="*/ 45720 h 1752840"/>
              <a:gd name="textAreaBottom" fmla="*/ 1707120 h 1752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3048120" y="167652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808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ffff"/>
                </a:solidFill>
                <a:latin typeface="Times New Roman"/>
              </a:rPr>
              <a:t>Example – A “Hello World!” applet </a:t>
            </a:r>
            <a:br>
              <a:rPr sz="4000"/>
            </a:b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77724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1225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following example applet draws a “Hello World” str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1225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</a:t>
            </a:r>
            <a:r>
              <a:rPr b="0" lang="en-GB" sz="2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eee</a:t>
            </a:r>
            <a:r>
              <a:rPr b="0" lang="en-GB" sz="28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.</a:t>
            </a:r>
            <a:r>
              <a:rPr b="0" lang="en-GB" sz="28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bham</a:t>
            </a:r>
            <a:r>
              <a:rPr b="0" lang="en-GB" sz="28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.ac.</a:t>
            </a:r>
            <a:r>
              <a:rPr b="0" lang="en-GB" sz="28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uk</a:t>
            </a:r>
            <a:r>
              <a:rPr b="0" lang="en-GB" sz="2800" spc="-1" strike="noStrike" u="sng">
                <a:solidFill>
                  <a:srgbClr val="ccccff"/>
                </a:solidFill>
                <a:uFillTx/>
                <a:latin typeface="Times New Roman"/>
                <a:hlinkClick r:id="rId7"/>
              </a:rPr>
              <a:t>/</a:t>
            </a:r>
            <a:r>
              <a:rPr b="0" lang="en-GB" sz="2800" spc="-1" strike="noStrike" u="sng">
                <a:solidFill>
                  <a:srgbClr val="ccccff"/>
                </a:solidFill>
                <a:uFillTx/>
                <a:latin typeface="Times New Roman"/>
                <a:hlinkClick r:id="rId8"/>
              </a:rPr>
              <a:t>spannm</a:t>
            </a:r>
            <a:r>
              <a:rPr b="0" lang="en-GB" sz="2800" spc="-1" strike="noStrike" u="sng">
                <a:solidFill>
                  <a:srgbClr val="ccccff"/>
                </a:solidFill>
                <a:uFillTx/>
                <a:latin typeface="Times New Roman"/>
                <a:hlinkClick r:id="rId9"/>
              </a:rPr>
              <a:t>/Java%20Stuff/</a:t>
            </a:r>
            <a:r>
              <a:rPr b="0" lang="en-GB" sz="2800" spc="-1" strike="noStrike" u="sng">
                <a:solidFill>
                  <a:srgbClr val="ccccff"/>
                </a:solidFill>
                <a:uFillTx/>
                <a:latin typeface="Times New Roman"/>
                <a:hlinkClick r:id="rId10"/>
              </a:rPr>
              <a:t>HelloWorldApplet</a:t>
            </a:r>
            <a:r>
              <a:rPr b="0" lang="en-GB" sz="2800" spc="-1" strike="noStrike" u="sng">
                <a:solidFill>
                  <a:srgbClr val="ccccff"/>
                </a:solidFill>
                <a:uFillTx/>
                <a:latin typeface="Times New Roman"/>
                <a:hlinkClick r:id="rId11"/>
              </a:rPr>
              <a:t>/</a:t>
            </a:r>
            <a:r>
              <a:rPr b="0" lang="en-GB" sz="2800" spc="-1" strike="noStrike" u="sng">
                <a:solidFill>
                  <a:srgbClr val="ccccff"/>
                </a:solidFill>
                <a:uFillTx/>
                <a:latin typeface="Times New Roman"/>
                <a:hlinkClick r:id="rId12"/>
              </a:rPr>
              <a:t>HelloWorldApplet</a:t>
            </a:r>
            <a:r>
              <a:rPr b="0" lang="en-GB" sz="2800" spc="-1" strike="noStrike" u="sng">
                <a:solidFill>
                  <a:srgbClr val="ccccff"/>
                </a:solidFill>
                <a:uFillTx/>
                <a:latin typeface="Times New Roman"/>
                <a:hlinkClick r:id="rId13"/>
              </a:rPr>
              <a:t>.html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1225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is essentially a very simple 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Swing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progra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1225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However, there is no 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main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progra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1225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nstead there is an 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init(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method within a sub-class of 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JApple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1225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We also need a 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.html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file to tell the browser to download and run the apple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1295280" y="838080"/>
            <a:ext cx="7315200" cy="53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ass HelloWorldPanel extends JPan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{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blic void paintComponent(Graphics g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{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uper.paintComponent(g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nt f=new Font("SansSerif",Font.BOLD,36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.setFont(f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.drawString("Hello World!", 50, 120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blic class HelloWorldApplet extends JAppl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{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blic void ini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{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tainer contentPane = getContentPan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tentPane.add(new HelloWorldPanel()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1188720" y="498600"/>
            <a:ext cx="7954920" cy="54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only other thing required is a 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.html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which tells the browser to load a particular Java 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class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file containing the applet code (plus the size of the window in which to run the applet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725480" y="2643120"/>
            <a:ext cx="7101000" cy="12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PPLET  CODE = "HelloWorldApplet.class"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IDTH = 300 HEIGHT = 300 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/APPLE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295280" y="4373640"/>
            <a:ext cx="7239240" cy="29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90000"/>
              </a:lnSpc>
              <a:spcBef>
                <a:spcPts val="104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is simple .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html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file is fine if we don’t need a Java plug-in (see) later with our brows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68240" indent="-285480">
              <a:lnSpc>
                <a:spcPct val="90000"/>
              </a:lnSpc>
              <a:spcBef>
                <a:spcPts val="10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OK for Netscape 6.2 and later vers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68240" indent="-285480">
              <a:lnSpc>
                <a:spcPct val="90000"/>
              </a:lnSpc>
              <a:spcBef>
                <a:spcPts val="10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.html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file more cumbersome for use with earlier versions of Netscap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12400" y="394920"/>
            <a:ext cx="803124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ffff"/>
                </a:solidFill>
                <a:latin typeface="Times New Roman"/>
              </a:rPr>
              <a:t>Converting an application to an applet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57400" y="11462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spcAft>
                <a:spcPts val="799"/>
              </a:spcAft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n applet is essentially a graphics container (rather like the </a:t>
            </a:r>
            <a:r>
              <a:rPr b="0" i="1" lang="en-GB" sz="3200" spc="-1" strike="noStrike">
                <a:solidFill>
                  <a:srgbClr val="ffffff"/>
                </a:solidFill>
                <a:latin typeface="Times New Roman"/>
              </a:rPr>
              <a:t>JFrame)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clas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spcBef>
                <a:spcPts val="799"/>
              </a:spcBef>
              <a:spcAft>
                <a:spcPts val="799"/>
              </a:spcAft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he </a:t>
            </a:r>
            <a:r>
              <a:rPr b="0" i="1" lang="en-GB" sz="3200" spc="-1" strike="noStrike">
                <a:solidFill>
                  <a:srgbClr val="ffffff"/>
                </a:solidFill>
                <a:latin typeface="Times New Roman"/>
              </a:rPr>
              <a:t>JApplet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class replaces </a:t>
            </a:r>
            <a:r>
              <a:rPr b="0" i="1" lang="en-GB" sz="3200" spc="-1" strike="noStrike">
                <a:solidFill>
                  <a:srgbClr val="ffffff"/>
                </a:solidFill>
                <a:latin typeface="Times New Roman"/>
              </a:rPr>
              <a:t>JFrame 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s the outer contain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just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just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just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237040" y="3552840"/>
            <a:ext cx="601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blic class HelloWorldApplet extends JAppl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143000" y="4570560"/>
            <a:ext cx="6675480" cy="22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68240" indent="-311040" algn="just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ffffff"/>
                </a:solidFill>
                <a:latin typeface="Times New Roman"/>
              </a:rPr>
              <a:t>JApplet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is a sub-class of </a:t>
            </a:r>
            <a:r>
              <a:rPr b="0" i="1" lang="en-GB" sz="3200" spc="-1" strike="noStrike">
                <a:solidFill>
                  <a:srgbClr val="ffffff"/>
                </a:solidFill>
                <a:latin typeface="Times New Roman"/>
              </a:rPr>
              <a:t>Container 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s is </a:t>
            </a:r>
            <a:r>
              <a:rPr b="0" i="1" lang="en-GB" sz="3200" spc="-1" strike="noStrike">
                <a:solidFill>
                  <a:srgbClr val="ffffff"/>
                </a:solidFill>
                <a:latin typeface="Times New Roman"/>
              </a:rPr>
              <a:t>JFrame 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nd contains many of the same metho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6T13:16:20Z</dcterms:created>
  <dc:creator>spannm</dc:creator>
  <dc:description/>
  <dc:language>en-US</dc:language>
  <cp:lastModifiedBy>Spann</cp:lastModifiedBy>
  <dcterms:modified xsi:type="dcterms:W3CDTF">2006-08-04T11:13:16Z</dcterms:modified>
  <cp:revision>149</cp:revision>
  <dc:subject/>
  <dc:title>EE2E1. JAVA Programming  </dc:title>
</cp:coreProperties>
</file>