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3722-6F0B-474E-9DB7-677F94AC1C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E3D9-5C66-4916-9633-DFBC197ACBF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E152-10CB-44AB-AB55-989C3A9DEFC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7749-767E-453A-A728-FE4ED241E0E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ABAA-7B98-4C30-81EC-B41E16E32C5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8B93-B3FD-4E46-989C-E6DB2A1504B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B829-57B5-440A-B73A-42DFF9779B9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2AFB-7C27-4DE9-BE5E-E3560DBA60F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4962-ED1B-460B-A27F-FDDAB81ED41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BB14-E536-430F-8568-81420D2FBB7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9C4E-CCB1-4854-A256-749B5DC680D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C457-29D2-4FD5-97B2-4CE7C215E39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524D-95F2-48E1-8087-0AC4DA9C153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B914-77D1-469D-BEAA-9159A02476A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9EA5-223C-46B9-AB2B-C3F614607AB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A384-A75D-4F65-8238-1F33EB222FE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8F5A-C111-4CFF-9608-4F784E05710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4895-B866-42D3-88AD-AB915EDA059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99AD-28C5-4CBB-8CE1-964EA150BBC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194E-81C2-4FF9-A07B-B46EA78B25D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D0C0-A06C-4EBF-9A4E-EDB643F4433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F576-25D7-47B7-81D0-DCBAF43DD49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EC47-FAC5-4C0D-9ED7-6DB84292C50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9C44-D0C9-4A15-885B-584EB78C6DC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0EC6-31C9-4B77-A623-1E703D82C2A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A1A4-527A-4FDD-8A03-02AAEA9F9F7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6352-4CF6-4EA8-95F0-8287CE56D73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C079-0124-4A51-9338-2206461B6E7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F838-41A6-4DA3-BD95-51582573BD5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D059-7A23-44F5-99F8-EDABAD2DECF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038B-8044-4FF7-8DF4-527C53A10DE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5BAD-C41A-45E5-AC7F-B4E2EE09D19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8518-A458-416D-B706-60D76368048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BC65-663C-497F-9BE0-E5562436584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4704-2E9A-43C2-B6F3-9C35E80582F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23A3-5E33-424D-B9A3-A73FD0771A7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B985-D36D-4151-B26D-905AB5B5903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9331-62D1-4D4F-94A6-159C770CBFA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C4B0-61B6-455A-B551-F64CD2C715E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F7BE-8D5F-4DD3-97C0-76BECF77509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D778-BDEF-49DC-93C9-689C5056B34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A8DA-563E-4E4D-A30D-BF09DD04174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9E12-774A-4AB8-BCCE-90FAC7B1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D953-B4D4-474A-96B5-8A235E8A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ACBC-70E0-45E9-AA87-22BEC836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927F-0850-4142-A62C-7C203DA8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260E-86F5-4390-AED3-3D03435F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DCA6-F322-486D-A2FC-428BB1BB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BFA3-48F7-422A-93F4-5FC48E60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54DD-3F9D-47F6-97A9-D0E7C32C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1AF9-F797-4B8B-A9F2-5430C901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F139-780B-451A-93D5-A75C26E7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5723-0B78-4D96-BAA5-DCCAB0A8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CB9F-EFEA-4D5D-A8F8-2CD6591A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EE6D-F9BC-4535-A37D-B06DE3DF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48D5-1E5A-4317-ACFD-6B5C0D9E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146C-2DA3-4AD2-B248-794F7587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7880-6803-4AD1-9729-77053EE7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D59E-61A8-4DB1-9E6E-7BDE7F18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0329-B4C7-4138-B426-D1635988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927E-F512-45BD-B17B-59D19A89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9CE-AE8F-4AF7-82AA-DE9A64B2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8ECB-F761-4F6C-B84F-0E45A35B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FD02-24E4-4984-AA61-A0C659DE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0B5-637C-415B-BCD5-751184EF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160-F114-4779-96D6-5EA0DDAE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F418-9D35-4A8E-B588-2D2DE8371E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9F60-2790-4C9B-8F81-1C88497E06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E2E1. JAVA Programming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6002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cture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aphics programming and Sw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0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A closeable fram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27160" y="13554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bove program cannot be terminated by clicking ‘Quit’ (or the ‘x’ in the top right hand corner of the MS-window) – the window is hidden but the thread contin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ed to send a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vent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o the window to tell it to cl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ent handling is relatively complex in Java (see next lectu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add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WindowListen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o the frame which listens for events generated in wind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170000" y="609120"/>
            <a:ext cx="77724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create an object of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WindowListen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nterface by implementing all of it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spcAft>
                <a:spcPts val="119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7 methods to impl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spcAft>
                <a:spcPts val="119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nly one we need is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windowClosing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spcAft>
                <a:spcPts val="119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WT provides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WindowAdap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lass which implements all 7 methods – we simply need to extend it providing our own implementation of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windowClo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40888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54"/>
          <p:cNvSpPr/>
          <p:nvPr/>
        </p:nvSpPr>
        <p:spPr>
          <a:xfrm>
            <a:off x="1368360" y="863640"/>
            <a:ext cx="7358040" cy="23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ass MyWindowListener extends WindowAdap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void windowClosing(WindowEvent 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stem.exit(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371600" y="4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could then call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addWindowListener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n the constructor which creates the closeable fra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spcAft>
                <a:spcPts val="119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addWindowListener()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s passed an unreference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MyWindowListen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371600" y="3368520"/>
            <a:ext cx="70851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ass MyCloseableFrame extends J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MyCloseableFram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ddWindowListener(new MyWindowListener())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27080" y="279360"/>
            <a:ext cx="766296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11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can make this even more succint by creating an anonymous class which avoids having to give a name to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MyWindowListen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11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know the class is extended from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WindowAdap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11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kes the code totally incomprehensibl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11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n’t worry about it – just use it as a template for all your closeable fram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11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mplete closeable frame class is as foll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1249200" y="260280"/>
            <a:ext cx="72234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ort javax.swing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ort java.awt.event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ort java.awt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ass MyCloseableFrame extends J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MyCloseableFram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tTitle("My first closeable frame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tSize(400,30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ddWindowListener(new WindowAdapter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void windowClosing(WindowEvent 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stem.exit(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2860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Swing inheritance hierarch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9520" y="1581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JFrame class inherits attributes from higher level container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ypically for resizing and positioning fr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ass names beginning with ‘J’ are Swing classes – everything else is part of AW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666880" y="685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Group 8"/>
          <p:cNvGrpSpPr/>
          <p:nvPr/>
        </p:nvGrpSpPr>
        <p:grpSpPr>
          <a:xfrm>
            <a:off x="2027160" y="349200"/>
            <a:ext cx="1692000" cy="976320"/>
            <a:chOff x="2027160" y="349200"/>
            <a:chExt cx="1692000" cy="976320"/>
          </a:xfrm>
        </p:grpSpPr>
        <p:sp>
          <p:nvSpPr>
            <p:cNvPr id="179" name="Rectangle 5"/>
            <p:cNvSpPr/>
            <p:nvPr/>
          </p:nvSpPr>
          <p:spPr>
            <a:xfrm>
              <a:off x="2027160" y="349200"/>
              <a:ext cx="1692000" cy="97632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Text Box 6"/>
            <p:cNvSpPr/>
            <p:nvPr/>
          </p:nvSpPr>
          <p:spPr>
            <a:xfrm>
              <a:off x="2027160" y="563760"/>
              <a:ext cx="16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Group 20"/>
          <p:cNvGrpSpPr/>
          <p:nvPr/>
        </p:nvGrpSpPr>
        <p:grpSpPr>
          <a:xfrm>
            <a:off x="6173640" y="4371840"/>
            <a:ext cx="1692000" cy="976320"/>
            <a:chOff x="6173640" y="4371840"/>
            <a:chExt cx="1692000" cy="976320"/>
          </a:xfrm>
        </p:grpSpPr>
        <p:sp>
          <p:nvSpPr>
            <p:cNvPr id="182" name="Rectangle 10"/>
            <p:cNvSpPr/>
            <p:nvPr/>
          </p:nvSpPr>
          <p:spPr>
            <a:xfrm>
              <a:off x="6173640" y="4371840"/>
              <a:ext cx="1501920" cy="97632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>
              <a:off x="6363720" y="458640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Group 16"/>
          <p:cNvGrpSpPr/>
          <p:nvPr/>
        </p:nvGrpSpPr>
        <p:grpSpPr>
          <a:xfrm>
            <a:off x="5006880" y="2986200"/>
            <a:ext cx="1616040" cy="976320"/>
            <a:chOff x="5006880" y="2986200"/>
            <a:chExt cx="1616040" cy="976320"/>
          </a:xfrm>
        </p:grpSpPr>
        <p:sp>
          <p:nvSpPr>
            <p:cNvPr id="185" name="Rectangle 14"/>
            <p:cNvSpPr/>
            <p:nvPr/>
          </p:nvSpPr>
          <p:spPr>
            <a:xfrm>
              <a:off x="5006880" y="2986200"/>
              <a:ext cx="1458720" cy="97632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15"/>
            <p:cNvSpPr/>
            <p:nvPr/>
          </p:nvSpPr>
          <p:spPr>
            <a:xfrm>
              <a:off x="5164200" y="3200760"/>
              <a:ext cx="14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Windo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17"/>
          <p:cNvGrpSpPr/>
          <p:nvPr/>
        </p:nvGrpSpPr>
        <p:grpSpPr>
          <a:xfrm>
            <a:off x="3497400" y="1630440"/>
            <a:ext cx="1692000" cy="976320"/>
            <a:chOff x="3497400" y="1630440"/>
            <a:chExt cx="1692000" cy="976320"/>
          </a:xfrm>
        </p:grpSpPr>
        <p:sp>
          <p:nvSpPr>
            <p:cNvPr id="188" name="Rectangle 18"/>
            <p:cNvSpPr/>
            <p:nvPr/>
          </p:nvSpPr>
          <p:spPr>
            <a:xfrm>
              <a:off x="3497400" y="1630440"/>
              <a:ext cx="1692000" cy="97632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3497400" y="1845000"/>
              <a:ext cx="16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Contain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Rectangle 22"/>
          <p:cNvSpPr/>
          <p:nvPr/>
        </p:nvSpPr>
        <p:spPr>
          <a:xfrm>
            <a:off x="7278840" y="5622840"/>
            <a:ext cx="1692000" cy="9763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3"/>
          <p:cNvSpPr/>
          <p:nvPr/>
        </p:nvSpPr>
        <p:spPr>
          <a:xfrm>
            <a:off x="7451640" y="583740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1508040" y="2986200"/>
            <a:ext cx="1692360" cy="9763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1508040" y="3200400"/>
            <a:ext cx="19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Compon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28"/>
          <p:cNvSpPr/>
          <p:nvPr/>
        </p:nvSpPr>
        <p:spPr>
          <a:xfrm>
            <a:off x="1189080" y="4648320"/>
            <a:ext cx="1692360" cy="9763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9"/>
          <p:cNvSpPr/>
          <p:nvPr/>
        </p:nvSpPr>
        <p:spPr>
          <a:xfrm>
            <a:off x="1271520" y="493884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Pa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30"/>
          <p:cNvSpPr/>
          <p:nvPr/>
        </p:nvSpPr>
        <p:spPr>
          <a:xfrm flipH="1" flipV="1">
            <a:off x="7675560" y="5347800"/>
            <a:ext cx="798480" cy="274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31"/>
          <p:cNvSpPr/>
          <p:nvPr/>
        </p:nvSpPr>
        <p:spPr>
          <a:xfrm flipH="1" flipV="1">
            <a:off x="6465960" y="3962160"/>
            <a:ext cx="812880" cy="40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32"/>
          <p:cNvSpPr/>
          <p:nvPr/>
        </p:nvSpPr>
        <p:spPr>
          <a:xfrm flipH="1" flipV="1">
            <a:off x="5189400" y="2606760"/>
            <a:ext cx="984240" cy="37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33"/>
          <p:cNvSpPr/>
          <p:nvPr/>
        </p:nvSpPr>
        <p:spPr>
          <a:xfrm flipH="1" flipV="1">
            <a:off x="3719520" y="1325160"/>
            <a:ext cx="89856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34"/>
          <p:cNvSpPr/>
          <p:nvPr/>
        </p:nvSpPr>
        <p:spPr>
          <a:xfrm flipV="1">
            <a:off x="2666880" y="2606760"/>
            <a:ext cx="830520" cy="37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35"/>
          <p:cNvSpPr/>
          <p:nvPr/>
        </p:nvSpPr>
        <p:spPr>
          <a:xfrm flipV="1">
            <a:off x="1530360" y="4008240"/>
            <a:ext cx="846000" cy="6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37"/>
          <p:cNvSpPr/>
          <p:nvPr/>
        </p:nvSpPr>
        <p:spPr>
          <a:xfrm flipH="1" flipV="1">
            <a:off x="2666520" y="3962160"/>
            <a:ext cx="830520" cy="6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38"/>
          <p:cNvSpPr/>
          <p:nvPr/>
        </p:nvSpPr>
        <p:spPr>
          <a:xfrm>
            <a:off x="3056040" y="4281480"/>
            <a:ext cx="19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371600" y="534960"/>
            <a:ext cx="777240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swing components (for exampl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JPanel)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e derived from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JComponent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JFrame,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ing a top level window, is derived from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Window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ther top level windows includ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JApple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JDialo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0960" y="30456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Displaying graphics in frames – panel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82520" y="1569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rames are containers – they can contain other user interface/graphical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frame contains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ontent pan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nto which components can be ad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following code is typ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557360" y="4735440"/>
            <a:ext cx="70102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tainer contentPane=frame.getContentPan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onent c= ….;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UI or graphical compon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tentPane.add (c)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Add to the fr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49200" y="161604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verview of graphics in Java – AWT &amp;  S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wing inheritance hierarc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playing graphics in frames – pan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playing text in graphics wind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rawing simple graph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playing im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2849400" y="1020600"/>
            <a:ext cx="373392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849400" y="1020600"/>
            <a:ext cx="3733920" cy="366840"/>
          </a:xfrm>
          <a:prstGeom prst="rect">
            <a:avLst/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6323040" y="1096920"/>
            <a:ext cx="183960" cy="182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6004080" y="1095480"/>
            <a:ext cx="183960" cy="182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5699160" y="1095480"/>
            <a:ext cx="183960" cy="182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7437600" y="4389480"/>
            <a:ext cx="41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024"/>
              <p:cNvSpPr txBox="1"/>
              <p:nvPr/>
            </p:nvSpPr>
            <p:spPr>
              <a:xfrm>
                <a:off x="6327720" y="1060560"/>
                <a:ext cx="25740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5" name="Line 13"/>
          <p:cNvSpPr/>
          <p:nvPr/>
        </p:nvSpPr>
        <p:spPr>
          <a:xfrm>
            <a:off x="5745240" y="1235160"/>
            <a:ext cx="1220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3094200" y="1494000"/>
            <a:ext cx="3260520" cy="446544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7101000" y="3900600"/>
            <a:ext cx="20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t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7635960" y="1600200"/>
            <a:ext cx="12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6659640" y="1812960"/>
            <a:ext cx="1006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6339960" y="4297320"/>
            <a:ext cx="716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23920" y="2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Panel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35080" y="1366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nels (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Pane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lass) are added to the content p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nels are themselves contai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can contain other UI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y also have a surface onto which graphics can be dra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ic shapes (lines, boxes et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m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7400" y="426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Drawing on panel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5840" y="1685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7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paintComponent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ethod in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JComponent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(a superclass of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JPanel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 must be overrid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paintComponent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 called automatically when the window has to be drawn or redrawn – for example when it is moved by the user. It is also called when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repaint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ethod of a panel is cal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170000" y="619200"/>
            <a:ext cx="77724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following code creates a clas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MyPanel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o which graphics can be dra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709640" y="2041560"/>
            <a:ext cx="691848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ass MyPanel extends JPa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 void paintComponent(Graphics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per.paintComponent(g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Code placed here to draw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138320" y="604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Graphic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 defines the graphics context (fonts, line styles, colours et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all to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uper.paintComponent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alls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paintComponent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ethod in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JCompone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the base class of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JPanel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call sets up the graphics context and performs other complex ta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8600" y="6091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Displaying text in graphics window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23920" y="212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xt can be drawn onto panels using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Graphics.drawString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text font and size can be optionally set/re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following program draws a string onto a pa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anel is then added to a frame which is then displayed using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Frame.setVisible(tru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1711440" y="774720"/>
            <a:ext cx="6861240" cy="44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ort javax.swing.*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ort java.awt.*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c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MyPanel extends JPa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paintComponent(Graphics 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er.paintComponent(g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.drawString("Hello there!",150,125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1179360" y="384120"/>
            <a:ext cx="7755120" cy="65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ort java.awt.event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ort javax.swing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ort java.awt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class HelloFrame extends J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HelloFram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Title("Drawing a string example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Size(400,30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WindowListener(new WindowAdapter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windowClosing(WindowEvent 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exit(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iner contentPane=getContentPan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entPane.add(new MyPanel(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26"/>
          <p:cNvSpPr/>
          <p:nvPr/>
        </p:nvSpPr>
        <p:spPr>
          <a:xfrm>
            <a:off x="1616040" y="782640"/>
            <a:ext cx="53499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class Frame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Frame frame=new HelloFram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me.setVisible(tru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846440" y="90000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8960" y="442440"/>
            <a:ext cx="7437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Overview of graphics in Java – AWT &amp;  Sw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5400" y="1859040"/>
            <a:ext cx="785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st modern application programs use sophisticated graphics and have powerful graphical user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preadshe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ord 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b brow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mail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s important to extend our knowledge from writing crude console-based programs to portable graphical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371600" y="544320"/>
            <a:ext cx="777240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ext fonts can be set/re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existing font applies until it is re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following code sets a bold Helvetica font with a larger font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695600" y="3333600"/>
            <a:ext cx="767700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MyPanel extends JPa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paintComponent(Graphics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er.paintComponent(g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nt f=new Font(“Helvetica”,Font.BOLD,25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.setFont(f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drawString("Hello there!",150,125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2033640" y="87948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4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Drawing simple graphi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18960" y="1030320"/>
            <a:ext cx="79246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as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ava.awt.Graphic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ontains methods which allow simple graphics to be drawn in different col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Graphics.setcolor(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s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rawing col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our is represented by the clas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ava.awt.Color(int red, int blue, int green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ing the RGB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eset constants exist (defined as static constants i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75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or.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75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or.o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75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or.p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75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371600" y="326880"/>
            <a:ext cx="777240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amples of different sha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Graphics.drawLine(int x1, int y1, int x2, int y2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raws a straight line from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(x1,y1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(x2,y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Graphics.drawRect(int x, int y, int w, int h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raws a rectangle from upper left hand corne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(x,y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ith width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d heigh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Graphics.drawOval(int x, int y, int w, int h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raws an outline of an ellipse with a ‘bounding rectangle’ as 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Graphics.drawPolygon(int[] xc, int[] yc, int n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raws a polygon with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vertices with the co-ordinates being stored in array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xc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Graphics.fillOval (int x, int y, int w, int h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ills the oval with the current draw col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1671480" y="314280"/>
            <a:ext cx="5818320" cy="63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DrawPanel extends JPa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void paintComponent(Graphics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er.paintComponent(g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setColor(Color.re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drawRect(20,30,50,5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setColor(Color.green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drawOval(100,30,90,6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fillOval(100,30,90,6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setColor(Color.yellow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[] xcoords={180,200,250,275,225}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[] ycoords={170,130,130,150,200}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drawPolygon(xcoords,ycoords,5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.fillPolygon(xcoords,ycoords,5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697040" y="974880"/>
            <a:ext cx="662148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1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Displaying imag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1655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225"/>
              </a:spcBef>
              <a:spcAft>
                <a:spcPts val="3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can read images stored in GIF and JPEG formats and draw the image onto a graphics panel using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Graphics.drawImage(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225"/>
              </a:spcBef>
              <a:spcAft>
                <a:spcPts val="3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an image is read from file, a new thread of execution is started in parall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225"/>
              </a:spcBef>
              <a:spcAft>
                <a:spcPts val="34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ually, the program needs to wait until the image is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225"/>
              </a:spcBef>
              <a:spcAft>
                <a:spcPts val="34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aded images need to be ‘tracked’ and the program informed when the loading is comple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359000" y="425520"/>
            <a:ext cx="31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rmal program th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3"/>
          <p:cNvSpPr/>
          <p:nvPr/>
        </p:nvSpPr>
        <p:spPr>
          <a:xfrm>
            <a:off x="2819520" y="960480"/>
            <a:ext cx="0" cy="108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401840" y="2147760"/>
            <a:ext cx="31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ad image from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4373640" y="2454120"/>
            <a:ext cx="2941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4662360" y="1814400"/>
            <a:ext cx="25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ate new th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2835360" y="2666880"/>
            <a:ext cx="0" cy="960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7284960" y="2606760"/>
            <a:ext cx="0" cy="655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5881680" y="3460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age loading th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1614600" y="3780000"/>
            <a:ext cx="23940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1327320" y="3916440"/>
            <a:ext cx="292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gram waits to be informed when image loa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1584360" y="5211720"/>
            <a:ext cx="23940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7269120" y="3886200"/>
            <a:ext cx="0" cy="3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5943600" y="4267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age loading complete – send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7" name="AutoShape 16"/>
          <p:cNvCxnSpPr>
            <a:endCxn id="253" idx="3"/>
          </p:cNvCxnSpPr>
          <p:nvPr/>
        </p:nvCxnSpPr>
        <p:spPr>
          <a:xfrm rot="10800000">
            <a:off x="4252320" y="4509360"/>
            <a:ext cx="1629360" cy="154800"/>
          </a:xfrm>
          <a:prstGeom prst="bentConnector3">
            <a:avLst>
              <a:gd name="adj1" fmla="val 49988"/>
            </a:avLst>
          </a:prstGeom>
          <a:ln w="381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sp>
        <p:nvSpPr>
          <p:cNvPr id="258" name="Line 17"/>
          <p:cNvSpPr/>
          <p:nvPr/>
        </p:nvSpPr>
        <p:spPr>
          <a:xfrm>
            <a:off x="2743200" y="5273640"/>
            <a:ext cx="0" cy="3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18"/>
          <p:cNvSpPr/>
          <p:nvPr/>
        </p:nvSpPr>
        <p:spPr>
          <a:xfrm>
            <a:off x="1327320" y="5713560"/>
            <a:ext cx="31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rmal program thread resu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096560" y="338040"/>
            <a:ext cx="804708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mage read from file by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oolki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getDefaultToolkit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returns the default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getDefaultToolkit().getImage(filename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reads the jpg or gif file containing the i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image is added to a tracker object which sends a signal back to the panel when the loading is comple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ry/catch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tatements are for exception handling – causes the program to wait for the image to be loaded (see la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llowing program draws an image into a pa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3"/>
          <p:cNvSpPr/>
          <p:nvPr/>
        </p:nvSpPr>
        <p:spPr>
          <a:xfrm>
            <a:off x="1298520" y="222120"/>
            <a:ext cx="8185320" cy="65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8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import java.awt.*;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import java.awt.event.*;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import javax.swing.*;</a:t>
            </a:r>
            <a:br>
              <a:rPr sz="2300"/>
            </a:b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class ImagePanel extends JPanel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{</a:t>
            </a:r>
            <a:br>
              <a:rPr sz="2300"/>
            </a:b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public ImagePanel()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{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image = Toolkit.getDefaultToolkit().getImage(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“Pisa.jpg”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);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MediaTracker tracker=new MediaTracker(this);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tracker.addImage(image,0);</a:t>
            </a:r>
            <a:br>
              <a:rPr sz="2300"/>
            </a:b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try {tracker.waitForID(0);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8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catch (InterruptedException e){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8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public void paintComponent(Graphics g)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{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super.paintComponent(g);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g.drawImage(image,0,0,this);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}</a:t>
            </a:r>
            <a:br>
              <a:rPr sz="2300"/>
            </a:br>
            <a:br>
              <a:rPr sz="2300"/>
            </a:b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private Image image;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MS Mincho"/>
              </a:rPr>
              <a:t>}</a:t>
            </a:r>
            <a:br>
              <a:rPr sz="2300"/>
            </a:b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666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, unlike C &amp; C++, has standard packages for graph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 related packages and sub-packages support graphics in 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.awt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stract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dow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olki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x.s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WT is ‘peer-based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pends on graphical elements native local platform’s  graphics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nix/Windows graphical programs written using AWT will have a different ‘look and feel’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"/>
          <p:cNvPicPr/>
          <p:nvPr/>
        </p:nvPicPr>
        <p:blipFill>
          <a:blip r:embed="rId1"/>
          <a:stretch/>
        </p:blipFill>
        <p:spPr>
          <a:xfrm>
            <a:off x="2355840" y="468360"/>
            <a:ext cx="482904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And finally …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71600" y="161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wing/AWT are massive and 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have only scratched the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ically Java API’s have been built on top of S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2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3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ractice, you would use these to do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ea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ork for example involving image processing or 3D rend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30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wing is much more platform independ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aphical components ar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re-buil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are simply painted onto wind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lies less on the underlying runtim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ually slower than AWT-based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ractice graphical programs are a mixture of Swing and AWT class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WT takes care of all of the event handling for GUI’s (see la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Fram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frame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 a top level window which is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ontain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graphical components (canvas, buttons, menus et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AWT has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Fram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lass and Swing has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JFrame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ass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following program displays an empty fr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1843200" y="274680"/>
            <a:ext cx="6140160" cy="63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  javax.swing.*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MyFrame extends J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MyFram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Title("My first graphics program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Size(400,30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class Frame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Frame frame=new MyFram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me.setVisible(tru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771560" y="1065240"/>
            <a:ext cx="647244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82160" y="639360"/>
            <a:ext cx="77994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clas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yFram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s defined which is a sub-class of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title is a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frame is sized to 400x300 (by default, a frame is 0x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frame is created by a call to the constru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frame is displayed by a call to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JFrame.setVisible(tru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creates a separate thread which runs until the program is terminated –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ai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hread termin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3:16:20Z</dcterms:created>
  <dc:creator>spannm</dc:creator>
  <dc:description/>
  <dc:language>en-US</dc:language>
  <cp:lastModifiedBy>spannm</cp:lastModifiedBy>
  <dcterms:modified xsi:type="dcterms:W3CDTF">2009-11-04T14:04:11Z</dcterms:modified>
  <cp:revision>126</cp:revision>
  <dc:subject/>
  <dc:title>EE2E1. JAVA Programming  </dc:title>
</cp:coreProperties>
</file>