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63E9-527B-41BB-9B4D-120E7CC9E5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8F0-0508-4D49-84C2-DD3121426AE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2433-CAEF-4DD7-B9ED-553EB6C6FD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2DE-4618-4D34-A6CF-3F6AC386AA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CB7-1879-4FC6-9D5B-9B725A469D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871-E425-46B8-BA0D-A2A67C64AC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CBAF-21E4-466C-84C2-A47665D573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A2D-3D08-44E8-970D-94DD3E842E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934-991C-40A9-8759-B1F336A6A15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C642-3979-40CB-9992-AFC219FBA5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C67-1AD7-414B-8B30-A0A7F3595E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F91-405C-4065-966D-3DEC8414CC7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5F0-749E-44A4-9FC0-23ABD201EE8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836-41B2-40E3-889A-056F4CC3B68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DDC-1280-401F-9308-6CD29D12BC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13E6-A173-40E5-AD8A-27255A6C0E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F813-2078-49D0-8AC3-0C23153EDC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4E70-C009-496F-A1FF-098135A953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A2B-74EA-47FB-B016-8E7854649AD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5218-E809-45BC-9C1E-D1AFC13199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F6D-B9A0-468C-ACB2-AC73AA812BF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5EB-7EF5-4B65-9591-1A0546286DA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FC6-EC6D-4DC9-9B6B-6E683C81972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2BFE-9353-4710-A044-03B68CE318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2FE9-6567-480B-BA10-BF08AC4B52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D96-1FFD-4F31-95F0-2D26399A442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C28D-472F-4621-9C45-D84BBF64C9A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4278-1D90-4AFA-A95C-77ED29F74F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57A-8120-4445-A0F0-16CBC0FFDD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468-4847-4068-9DA0-F421348FDB0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880-F820-4176-BADE-6A4A742267B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AD4-9A7F-4C74-A634-15C66A84D71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FF1-A700-4C6E-8630-5DD80CF436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ADD-0F31-469E-8903-140FAFD19CA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DF98-0F4F-4786-91D2-6A12D0A980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475-C71C-400F-BE30-C5F6C9789FD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528C-977D-459C-8891-4273C31284B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68D-87A1-4184-AA23-1F26DB505C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3A3-9BA1-496F-B285-97358389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15B-8A75-4FC1-AC4F-0C0181B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49-F528-42C0-BF02-9DC40432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E5A-A7C8-4832-93A4-2580F590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4C5F-8E89-4356-813A-725E973C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DE80-E142-4133-AB98-813FB7DE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DC2-8E0B-48F7-95EC-29E4142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9F46-5745-44F3-9DA2-56CBB6E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2047-9E01-4C53-8C43-586CDBC5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78D9-9791-486C-82EF-878CE6B7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FCF7-1260-406F-8D13-295E5813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BAE-4C32-4FCB-96A3-28E5CAF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780-B9A8-4B6C-A9D7-663018B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228B-121F-455E-8864-AA44658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78A7-1213-4359-8AF3-C4EA9D9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BF27-B223-4C6B-81A6-39CE3A7C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A44B-70B6-46C2-95EF-AD528CE6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1DE-768D-44B6-8CA6-783F1E6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284-5163-42A5-971B-D3B6567D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D5F-DC29-4B44-B82C-3A792F3C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F35-041D-4638-982B-7159F08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26E-E4E7-4260-80E1-E240739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A15-BAED-44BD-B480-4B85B1C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3E1-4FC4-46C1-83B8-77D17BA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9B1-518E-4A8A-998C-9175AC80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CBF8-61DD-48C3-B112-4F2B348A3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vent handling and building user interfaces with S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828800" y="533520"/>
            <a:ext cx="66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ButtonPanel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llowButton = new JButton("Yell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Button = new JButton("Bl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Button = new JButton("Red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(yellowButt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(blueButt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(redButt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llowButton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ueButton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Button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600200" y="685800"/>
            <a:ext cx="678168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source = evt.getSourc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or color = getBackground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source == yellowButton) color = Color.yell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if (source == blueButton) color = Color.bl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if (source == redButton) color = Color.r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Background(colo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ain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70000" y="69696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ss ButtonPanel extends JPanel   implements ActionLis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anel object implement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Listen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face and an implementation of the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Performed(),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ch is the event handling method which must be provi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ellowButton.addActionListener(this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Butt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ellowButt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ster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uttonPane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as a listener for button p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11480" y="1508040"/>
            <a:ext cx="5121360" cy="4815000"/>
          </a:xfrm>
          <a:prstGeom prst="rect">
            <a:avLst/>
          </a:prstGeom>
          <a:solidFill>
            <a:srgbClr val="6d5f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086360" y="1954080"/>
            <a:ext cx="1401480" cy="700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421160" y="207504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683320" y="1949400"/>
            <a:ext cx="1401840" cy="700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33960" y="207180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2470320" y="1920960"/>
            <a:ext cx="1538280" cy="713880"/>
            <a:chOff x="2470320" y="1920960"/>
            <a:chExt cx="1538280" cy="713880"/>
          </a:xfrm>
        </p:grpSpPr>
        <p:sp>
          <p:nvSpPr>
            <p:cNvPr id="194" name="Rectangle 10"/>
            <p:cNvSpPr/>
            <p:nvPr/>
          </p:nvSpPr>
          <p:spPr>
            <a:xfrm>
              <a:off x="2470320" y="1920960"/>
              <a:ext cx="1401840" cy="713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2606760" y="2059920"/>
              <a:ext cx="14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Yel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96" name="AutoShape 12"/>
          <p:cNvCxnSpPr>
            <a:stCxn id="194" idx="1"/>
            <a:endCxn id="188" idx="0"/>
          </p:cNvCxnSpPr>
          <p:nvPr/>
        </p:nvCxnSpPr>
        <p:spPr>
          <a:xfrm flipH="1" rot="10800000">
            <a:off x="2469960" y="1507320"/>
            <a:ext cx="2302560" cy="770760"/>
          </a:xfrm>
          <a:prstGeom prst="bentConnector4">
            <a:avLst>
              <a:gd name="adj1" fmla="val -21157"/>
              <a:gd name="adj2" fmla="val 129672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7" name="Text Box 14"/>
          <p:cNvSpPr/>
          <p:nvPr/>
        </p:nvSpPr>
        <p:spPr>
          <a:xfrm>
            <a:off x="1523880" y="762120"/>
            <a:ext cx="54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ellowButton.addActionListener(t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809880" y="32767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tton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70000" y="42192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uttonPane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tionPerformed(ActionEvent evt)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called automatically when one of the buttons is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Ev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which can be used to determine which of the buttons was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bject source = evt.getSource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returns the object which was the source of the 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the super class so an object of any class can be assigned t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vent class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345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nt classes are arranged in an inheritance tree with the base class being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vent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nt classes are in the packag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va.awt.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vent objects encapsulate information about the event such as the event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event class has a corresponding event listene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41120" y="609480"/>
            <a:ext cx="81025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already seen two examples of events and corresponding liste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Ev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listen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Listen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generated by (amongst other things) a button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indowEv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listen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indowListen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generated when a user tries to close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s are also generated by keyboard presses and mouse drags and clicks which are handled by appropriate liste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events (such a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aintEv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are generated automatically when a window is moved/resized so that it is repai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 – a mouse track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mouse tracker program keeps track of the motion of the mouse and mouse cli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vent liste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Lis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ens for mouse button cli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MotionLis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ens for mouse moves and dr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need to implement the following methods in the listen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65278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Listen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En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Ex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Cli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MotionLis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Drag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us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170000" y="57456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eee.bham.ac.uk/spannm/Java%20Stuff/MouseTrackerApplet/MouseTrackerApplet.ht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’s event delegation model – event sources and event liste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 – a mouse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ilding GUI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yout within a GUI – layout mana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finally……..how do we build our own GUI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70000" y="437760"/>
            <a:ext cx="77724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rogram has been implemented as an app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implementation of the event handlers is straigh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vent.getX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vent.getY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determine the mouse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useEntered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()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s up a diaglo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x (see later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at the user can select when ready to 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074"/>
          <p:cNvSpPr/>
          <p:nvPr/>
        </p:nvSpPr>
        <p:spPr>
          <a:xfrm>
            <a:off x="1219320" y="380880"/>
            <a:ext cx="8381880" cy="9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class MouseTrackerApplet extends JApplet implements MouseListener, MouseMotionListen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MouseTrackerApplet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etContentPane().add(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new Jlabel(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BorderLayout.SOUTH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ddMouseListener(this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ddMouseMotionListener(this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Click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Press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Releas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Enter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Exit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Dragg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ublic void mouseMoved(MouseEvent event)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{..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9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9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1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219320" y="654120"/>
            <a:ext cx="7740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mouseClicked(MouseEvent ev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usBar.setText("Clicked at [" + event.getX() + ", "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.getY() + "]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mouseEntered(MouseEvent ev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!ente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ptionPane.showMessageDialog(null,"Mouse i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ed=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Building GUI’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281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ng has a large number of classes for GUI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xt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Text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b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Lab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But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 boxes (for choosing op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Check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dio buttons (for choosing 1 from several op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RadioBut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rop down boxes (combo box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Combo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roll b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Scroll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nus ( a bit more involv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MenuBa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Men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Menu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aog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xes (quite a bit more involved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OptionP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 chooser dialog box (very useful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ileChoo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70000" y="681120"/>
            <a:ext cx="77724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see all of these components in action (plus a few more)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SwingSetApplet/SwingSet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fore we start building simple GUI’s, it is important to know abou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layout managem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how GUI components are spatially arrang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Layout within a GUI – layout manager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Layout manag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ntrol how GUI components are spatially arranged within a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important to understand the basics of layout even though many development environments come with ‘pick and place’ type layou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Flow layou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seen how we created a simple GUI by adding buttons to a p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fault layout manager for panels i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low layout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nents (such as buttons) are arranged left to right – top to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the panel is re-sized, the buttons are ‘re-flowed’ to fill th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buttons are added to the right of the existing row and a new row of buttons is started if there is no more space for the current 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181240" y="1157400"/>
            <a:ext cx="5121360" cy="4814640"/>
          </a:xfrm>
          <a:prstGeom prst="rect">
            <a:avLst/>
          </a:prstGeom>
          <a:solidFill>
            <a:srgbClr val="6d5f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086360" y="1954080"/>
            <a:ext cx="1401480" cy="700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421160" y="207504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683320" y="1949400"/>
            <a:ext cx="1401840" cy="700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033960" y="207180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2470320" y="1920960"/>
            <a:ext cx="1538280" cy="713880"/>
            <a:chOff x="2470320" y="1920960"/>
            <a:chExt cx="1538280" cy="713880"/>
          </a:xfrm>
        </p:grpSpPr>
        <p:sp>
          <p:nvSpPr>
            <p:cNvPr id="225" name="Rectangle 8"/>
            <p:cNvSpPr/>
            <p:nvPr/>
          </p:nvSpPr>
          <p:spPr>
            <a:xfrm>
              <a:off x="2470320" y="1920960"/>
              <a:ext cx="1401840" cy="713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>
              <a:off x="2606760" y="2059920"/>
              <a:ext cx="14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Yel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12"/>
          <p:cNvGrpSpPr/>
          <p:nvPr/>
        </p:nvGrpSpPr>
        <p:grpSpPr>
          <a:xfrm>
            <a:off x="3079800" y="2941560"/>
            <a:ext cx="1538280" cy="714240"/>
            <a:chOff x="3079800" y="2941560"/>
            <a:chExt cx="1538280" cy="714240"/>
          </a:xfrm>
        </p:grpSpPr>
        <p:sp>
          <p:nvSpPr>
            <p:cNvPr id="228" name="Rectangle 13"/>
            <p:cNvSpPr/>
            <p:nvPr/>
          </p:nvSpPr>
          <p:spPr>
            <a:xfrm>
              <a:off x="3079800" y="2941560"/>
              <a:ext cx="1401840" cy="7142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3216240" y="3080520"/>
              <a:ext cx="14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Oran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Group 15"/>
          <p:cNvGrpSpPr/>
          <p:nvPr/>
        </p:nvGrpSpPr>
        <p:grpSpPr>
          <a:xfrm>
            <a:off x="4743360" y="2943360"/>
            <a:ext cx="1538280" cy="713880"/>
            <a:chOff x="4743360" y="2943360"/>
            <a:chExt cx="1538280" cy="713880"/>
          </a:xfrm>
        </p:grpSpPr>
        <p:sp>
          <p:nvSpPr>
            <p:cNvPr id="231" name="Rectangle 16"/>
            <p:cNvSpPr/>
            <p:nvPr/>
          </p:nvSpPr>
          <p:spPr>
            <a:xfrm>
              <a:off x="4743360" y="2943360"/>
              <a:ext cx="1401840" cy="713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4879800" y="3082320"/>
              <a:ext cx="14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ur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Text Box 19"/>
          <p:cNvSpPr/>
          <p:nvPr/>
        </p:nvSpPr>
        <p:spPr>
          <a:xfrm>
            <a:off x="6278400" y="2911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92320" y="1066680"/>
            <a:ext cx="795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modern applications come with a sophisticated user interface com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sh but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lection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alog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l down m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acting with a user interface component generate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must be handled by the applicat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fore, in order to be able to create our own user interfaces, we must understand the Jav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28600" y="21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Border layou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4160" y="127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the default layout manager fo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tions the availabl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ess we specify, components are added to the centre par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 to add buttons etc. to panels in flow layout and then add the panels to the outer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20"/>
          <p:cNvGrpSpPr/>
          <p:nvPr/>
        </p:nvGrpSpPr>
        <p:grpSpPr>
          <a:xfrm>
            <a:off x="3214800" y="2774880"/>
            <a:ext cx="3535200" cy="2028240"/>
            <a:chOff x="3214800" y="2774880"/>
            <a:chExt cx="3535200" cy="2028240"/>
          </a:xfrm>
        </p:grpSpPr>
        <p:sp>
          <p:nvSpPr>
            <p:cNvPr id="237" name="Rectangle 7"/>
            <p:cNvSpPr/>
            <p:nvPr/>
          </p:nvSpPr>
          <p:spPr>
            <a:xfrm>
              <a:off x="3230640" y="2774880"/>
              <a:ext cx="2741400" cy="198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10"/>
            <p:cNvSpPr/>
            <p:nvPr/>
          </p:nvSpPr>
          <p:spPr>
            <a:xfrm>
              <a:off x="4067280" y="32320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1"/>
            <p:cNvSpPr/>
            <p:nvPr/>
          </p:nvSpPr>
          <p:spPr>
            <a:xfrm>
              <a:off x="4981680" y="323208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4067280" y="2774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or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403704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ou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 flipH="1">
              <a:off x="4034520" y="3537000"/>
              <a:ext cx="12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ent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16"/>
            <p:cNvSpPr/>
            <p:nvPr/>
          </p:nvSpPr>
          <p:spPr>
            <a:xfrm>
              <a:off x="3228840" y="32320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3228840" y="43750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3214800" y="3551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5089320" y="353700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Ea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8240" y="259920"/>
            <a:ext cx="783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More sophisticated layout manag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23920" y="147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specify more precise positioning of GUI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id l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nents arranged in rows and columns (for example, calculator butt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id Bag layo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lexible grid layout where rows columns can have variable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x l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yout comprises a single row (column) for a horizontal (vertical)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UI to select the font size and style of a label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a check box to select bold/ita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s a combo box to select fo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ttp://www.eee.bham.ac.uk/spannm/Java%20Stuff/FontChangeApplet/FontChangeApplet.ht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371600" y="39168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code adds the check box and combo box to a pa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23880" y="1646280"/>
            <a:ext cx="873288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anel p = new JPanel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CheckBo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ld =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Box("Bold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ld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.add(bol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CheckBox ita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Box(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a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alic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.add(itali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ComboBo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 = new JComboBox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.setEditable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.addItem("10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.addItem("16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.addItem("20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tsize.addActionListener(thi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4000"/>
              </a:lnSpc>
              <a:spcBef>
                <a:spcPts val="150"/>
              </a:spcBef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.add(fontsiz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4000"/>
              </a:lnSpc>
              <a:spcBef>
                <a:spcPts val="150"/>
              </a:spcBef>
              <a:tabLst>
                <a:tab algn="l" pos="0"/>
                <a:tab algn="l" pos="104940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70000" y="664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eco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ontChangePane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the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 time the font is changed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paint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called to repaint the string in the p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wo panels are added to the centre and south portion of th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1371600" y="3124080"/>
            <a:ext cx="7192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ContentPane().add(p, "South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el = new FontChangePanel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ContentPane().add(panel, "Center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6186600" y="5897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185920" y="4511520"/>
            <a:ext cx="4564080" cy="20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040200" y="5006880"/>
            <a:ext cx="0" cy="12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5824440" y="5006880"/>
            <a:ext cx="0" cy="12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529080" y="616284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182680" y="4992840"/>
            <a:ext cx="456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2182680" y="6195960"/>
            <a:ext cx="456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3213000" y="533556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 want to be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2790720" y="6370560"/>
            <a:ext cx="109800" cy="106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4178160" y="6369120"/>
            <a:ext cx="108000" cy="1080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2936880" y="621828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4272120" y="6219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ta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5162400" y="6278400"/>
            <a:ext cx="138924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5165640" y="621828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6248520" y="6264360"/>
            <a:ext cx="144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27"/>
          <p:cNvSpPr/>
          <p:nvPr/>
        </p:nvSpPr>
        <p:spPr>
          <a:xfrm flipV="1">
            <a:off x="6342120" y="6340320"/>
            <a:ext cx="152280" cy="168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18960" y="533160"/>
            <a:ext cx="7924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is the code fo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tionPerformed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of the out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ComboBox.getSelectedItem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eturns the item selected (it is of typ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 has to be cast to a str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CheckBox.isSelected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eturns the state of the checkbox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or selected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therwi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o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iz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fields of the out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ich hold the current font and fontsize of the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And finally……..how do we build our own GUI’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has been a lot of detail in this l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dozens of GUI component classes and hundreds of methods which we can’t possibly hope to memo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do we build our own GUI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rag and drop’ GUI builders are becoming common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sual’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grammer simply adds the event han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680" y="68544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wing component set web page is a useful ‘online’ help for finding out about GUI classes an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ing tu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Java’s event delegation model – event sources and event listen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languages handle event programming in different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Visual Basic, each user interface component generates a specific event which a particular piece of code hand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e but rather inflex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C, all events are treated equally and added to an event queue for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lex to code and requires access to the event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0000" y="609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allows objects to be designate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 listene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ich can listen for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pecific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es of events (for example a mouse button clic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ike VB, the listener is not predeterm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ike C, objects have to only handle specific types of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iagram below shows how objects are designated listeners for specific event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 listeners ar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gister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the particula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 sourc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ose events they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object can be a listener for several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28800" y="1371600"/>
            <a:ext cx="1905120" cy="914400"/>
          </a:xfrm>
          <a:prstGeom prst="rect">
            <a:avLst/>
          </a:prstGeom>
          <a:solidFill>
            <a:srgbClr val="54c2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us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828800" y="4054320"/>
            <a:ext cx="1905120" cy="914400"/>
          </a:xfrm>
          <a:prstGeom prst="rect">
            <a:avLst/>
          </a:prstGeom>
          <a:solidFill>
            <a:srgbClr val="c606b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828800" y="4282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sh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AutoShape 10"/>
          <p:cNvCxnSpPr/>
          <p:nvPr/>
        </p:nvCxnSpPr>
        <p:spPr>
          <a:xfrm>
            <a:off x="3733560" y="159984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Text Box 11"/>
          <p:cNvSpPr/>
          <p:nvPr/>
        </p:nvSpPr>
        <p:spPr>
          <a:xfrm>
            <a:off x="4038480" y="118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5334120" y="914400"/>
            <a:ext cx="1447560" cy="1295280"/>
          </a:xfrm>
          <a:prstGeom prst="rect">
            <a:avLst/>
          </a:prstGeom>
          <a:solidFill>
            <a:srgbClr val="be2b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334120" y="1189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ener objec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334120" y="2438280"/>
            <a:ext cx="1447560" cy="1295640"/>
          </a:xfrm>
          <a:prstGeom prst="rect">
            <a:avLst/>
          </a:prstGeom>
          <a:solidFill>
            <a:srgbClr val="bbc4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334120" y="26370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ener objec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2" name="AutoShape 16"/>
          <p:cNvCxnSpPr>
            <a:stCxn id="162" idx="3"/>
            <a:endCxn id="170" idx="1"/>
          </p:cNvCxnSpPr>
          <p:nvPr/>
        </p:nvCxnSpPr>
        <p:spPr>
          <a:xfrm>
            <a:off x="3733560" y="1828440"/>
            <a:ext cx="160092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3" name="Text Box 17"/>
          <p:cNvSpPr/>
          <p:nvPr/>
        </p:nvSpPr>
        <p:spPr>
          <a:xfrm>
            <a:off x="4373640" y="323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AutoShape 18"/>
          <p:cNvCxnSpPr>
            <a:stCxn id="165" idx="3"/>
            <a:endCxn id="170" idx="2"/>
          </p:cNvCxnSpPr>
          <p:nvPr/>
        </p:nvCxnSpPr>
        <p:spPr>
          <a:xfrm flipV="1">
            <a:off x="3733920" y="3733560"/>
            <a:ext cx="2324880" cy="7783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5" name="Text Box 19"/>
          <p:cNvSpPr/>
          <p:nvPr/>
        </p:nvSpPr>
        <p:spPr>
          <a:xfrm>
            <a:off x="4435560" y="408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516640" y="4968720"/>
            <a:ext cx="144756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500800" y="51516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stener objec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22"/>
          <p:cNvCxnSpPr/>
          <p:nvPr/>
        </p:nvCxnSpPr>
        <p:spPr>
          <a:xfrm>
            <a:off x="3727080" y="4770360"/>
            <a:ext cx="2559960" cy="1494720"/>
          </a:xfrm>
          <a:prstGeom prst="bentConnector4">
            <a:avLst>
              <a:gd name="adj1" fmla="val 35850"/>
              <a:gd name="adj2" fmla="val 1152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9" name="Text Box 23"/>
          <p:cNvSpPr/>
          <p:nvPr/>
        </p:nvSpPr>
        <p:spPr>
          <a:xfrm>
            <a:off x="3778200" y="539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844640" y="88416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1844640" y="359568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erms of Java objects and methods, event handling works as follow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event source registers all listener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vent source sends out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vent object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all registered listener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listener object uses information encapsulated in the event object to call the appropriate listener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52640" y="27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example shows a simple user interface to select the background 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has been implemented as an applet so that it can be run with a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ormal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has been replaced with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pple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small change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eee.bham.ac.uk/spannm/Java%20Stuff/ButtonTestApplet/ButtonTestApplet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uttonPane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the panel containing the push buttons and the event handling (key parts embolde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295280" y="380880"/>
            <a:ext cx="7542360" cy="68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ButtonPanel extends JPanel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s ActionLis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ButtonPanel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Create buttons and add listen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actionPerformed(ActionEvent ev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Handle button press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JButton yellowButt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JButton blueButt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JButton redButt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09-11-19T12:36:16Z</dcterms:modified>
  <cp:revision>112</cp:revision>
  <dc:subject/>
  <dc:title>EE2E1. JAVA Programming  </dc:title>
</cp:coreProperties>
</file>